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F14AE-1B1D-4BDE-86C6-FD9C50579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682F5-ADD1-49DF-94DA-C7FB3DB32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C459C-1C97-4A3C-8FBB-47A910CA5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461BA-A977-486A-9FA1-C88916048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C306A-BDA8-4D65-B6ED-C57C70019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597D5-5843-42E1-9EE5-9FFFEF15F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0F964-1576-42B6-8D14-C9111A1B4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BEB01-3300-407F-8B47-5E70F640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909C2-F5C1-44DB-B160-9AAB5E33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D9500-A0B9-4C41-B9B9-2FFC9056C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3F1F0-3380-4C6A-A482-3B3ED924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C3198-0DB1-4695-9F6F-361C00888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C43C1-BC90-435D-807D-1FD3C069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6B3CA-915C-4BC7-A054-B15E86F6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13F4E-0892-4D00-AA4F-9D57A399E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A9D65-D0CE-4A72-A176-813D2801C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381D3-00B6-4C29-B6F0-9D32DBD1C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B7569-8E78-4C27-91E7-9D6EDC697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D935D-D47A-4F37-A2DB-D893BD53F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D9540-FF2E-4577-9DF4-6464BC0F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F10C7-8969-4EEA-BA4D-5C5E47A90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9892F-8F87-41B2-A342-5E094AD5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94D67-4675-490F-AD86-1B7F9956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8CA5E-EB32-40B4-8058-C8521081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4FD3F-4C78-48B1-BCF7-0CB813D254D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2158F-0A42-4F08-9FF5-AB3D5D20A3F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3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560" y="1700280"/>
            <a:ext cx="8512200" cy="34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Игровые технологии в обучении фонетическому анализу слова».</a:t>
            </a:r>
            <a:br>
              <a:rPr sz="4500"/>
            </a:br>
            <a:r>
              <a:rPr b="1" lang="ru-RU" sz="45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4500"/>
            </a:br>
            <a:r>
              <a:rPr b="1" lang="ru-RU" sz="45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8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ила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учитель русского язы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БОУ школы-интерна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. Малый Толка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слгареева Татьяна Викторолвн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21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оугольник 1"/>
          <p:cNvSpPr/>
          <p:nvPr/>
        </p:nvSpPr>
        <p:spPr>
          <a:xfrm>
            <a:off x="611280" y="979560"/>
            <a:ext cx="8151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Государственное бюджетное общеобразовательное учреждение  Самарской обла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«Школа — интернат для обучающихся с ограниченными возможностями здоровь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. Малый Толкай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Рисунок 2" descr=""/>
          <p:cNvPicPr/>
          <p:nvPr/>
        </p:nvPicPr>
        <p:blipFill>
          <a:blip r:embed="rId1"/>
          <a:stretch/>
        </p:blipFill>
        <p:spPr>
          <a:xfrm>
            <a:off x="0" y="3914640"/>
            <a:ext cx="370836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гра «Приготовление варенья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саду созрели груши, яблоки, вишни, смородина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приготовления варенья хозяйка взяла следующие фрукты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названии плодов звуков больше, чем бук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ие фрукты взяла хозяйк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7020000" y="6165720"/>
            <a:ext cx="718920" cy="540000"/>
          </a:xfrm>
          <a:custGeom>
            <a:avLst/>
            <a:gdLst>
              <a:gd name="textAreaLeft" fmla="*/ 34920 w 718920"/>
              <a:gd name="textAreaRight" fmla="*/ 684000 w 71892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8752" h="21600">
                <a:moveTo>
                  <a:pt x="0" y="0"/>
                </a:moveTo>
                <a:lnTo>
                  <a:pt x="28752" y="0"/>
                </a:lnTo>
                <a:lnTo>
                  <a:pt x="28752" y="21600"/>
                </a:lnTo>
                <a:lnTo>
                  <a:pt x="0" y="21600"/>
                </a:lnTo>
                <a:close/>
              </a:path>
              <a:path fill="lightenLess" w="28752" h="21600">
                <a:moveTo>
                  <a:pt x="0" y="0"/>
                </a:moveTo>
                <a:lnTo>
                  <a:pt x="28752" y="0"/>
                </a:lnTo>
                <a:lnTo>
                  <a:pt x="27352" y="1400"/>
                </a:lnTo>
                <a:lnTo>
                  <a:pt x="1400" y="1400"/>
                </a:lnTo>
                <a:close/>
              </a:path>
              <a:path fill="darken" w="28752" h="21600">
                <a:moveTo>
                  <a:pt x="28752" y="0"/>
                </a:moveTo>
                <a:lnTo>
                  <a:pt x="28752" y="21600"/>
                </a:lnTo>
                <a:lnTo>
                  <a:pt x="27352" y="20200"/>
                </a:lnTo>
                <a:lnTo>
                  <a:pt x="27352" y="1400"/>
                </a:lnTo>
                <a:close/>
              </a:path>
              <a:path fill="darkenLess" w="28752" h="21600">
                <a:moveTo>
                  <a:pt x="28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52" y="20200"/>
                </a:lnTo>
                <a:close/>
              </a:path>
              <a:path fill="lighten" w="28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52" h="21600">
                <a:moveTo>
                  <a:pt x="7370" y="10800"/>
                </a:moveTo>
                <a:lnTo>
                  <a:pt x="21382" y="3794"/>
                </a:lnTo>
                <a:lnTo>
                  <a:pt x="21382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5"/>
          <p:cNvSpPr/>
          <p:nvPr/>
        </p:nvSpPr>
        <p:spPr>
          <a:xfrm>
            <a:off x="7956720" y="5950080"/>
            <a:ext cx="900000" cy="755640"/>
          </a:xfrm>
          <a:custGeom>
            <a:avLst/>
            <a:gdLst>
              <a:gd name="textAreaLeft" fmla="*/ 48960 w 900000"/>
              <a:gd name="textAreaRight" fmla="*/ 851040 w 90000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5725" h="21600">
                <a:moveTo>
                  <a:pt x="0" y="0"/>
                </a:moveTo>
                <a:lnTo>
                  <a:pt x="25725" y="0"/>
                </a:lnTo>
                <a:lnTo>
                  <a:pt x="25725" y="21600"/>
                </a:lnTo>
                <a:lnTo>
                  <a:pt x="0" y="21600"/>
                </a:lnTo>
                <a:close/>
              </a:path>
              <a:path fill="lightenLess" w="25725" h="21600">
                <a:moveTo>
                  <a:pt x="0" y="0"/>
                </a:moveTo>
                <a:lnTo>
                  <a:pt x="25725" y="0"/>
                </a:lnTo>
                <a:lnTo>
                  <a:pt x="24325" y="1400"/>
                </a:lnTo>
                <a:lnTo>
                  <a:pt x="1400" y="1400"/>
                </a:lnTo>
                <a:close/>
              </a:path>
              <a:path fill="darken" w="25725" h="21600">
                <a:moveTo>
                  <a:pt x="25725" y="0"/>
                </a:moveTo>
                <a:lnTo>
                  <a:pt x="25725" y="21600"/>
                </a:lnTo>
                <a:lnTo>
                  <a:pt x="24325" y="20200"/>
                </a:lnTo>
                <a:lnTo>
                  <a:pt x="24325" y="1400"/>
                </a:lnTo>
                <a:close/>
              </a:path>
              <a:path fill="darkenLess" w="25725" h="21600">
                <a:moveTo>
                  <a:pt x="257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25" y="20200"/>
                </a:lnTo>
                <a:close/>
              </a:path>
              <a:path fill="lighten" w="257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25" h="21600">
                <a:moveTo>
                  <a:pt x="1286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725" h="21600">
                <a:moveTo>
                  <a:pt x="13968" y="14281"/>
                </a:moveTo>
                <a:lnTo>
                  <a:pt x="13968" y="12323"/>
                </a:lnTo>
                <a:cubicBezTo>
                  <a:pt x="13968" y="11496"/>
                  <a:pt x="14298" y="10800"/>
                  <a:pt x="14899" y="10800"/>
                </a:cubicBezTo>
                <a:cubicBezTo>
                  <a:pt x="16030" y="10800"/>
                  <a:pt x="16927" y="9434"/>
                  <a:pt x="16927" y="7849"/>
                </a:cubicBezTo>
                <a:cubicBezTo>
                  <a:pt x="16927" y="5534"/>
                  <a:pt x="15073" y="3794"/>
                  <a:pt x="12862" y="3794"/>
                </a:cubicBezTo>
                <a:cubicBezTo>
                  <a:pt x="10652" y="3794"/>
                  <a:pt x="8980" y="5534"/>
                  <a:pt x="8980" y="7849"/>
                </a:cubicBezTo>
                <a:lnTo>
                  <a:pt x="10834" y="7849"/>
                </a:lnTo>
                <a:cubicBezTo>
                  <a:pt x="10834" y="6709"/>
                  <a:pt x="11757" y="5821"/>
                  <a:pt x="12862" y="5821"/>
                </a:cubicBezTo>
                <a:cubicBezTo>
                  <a:pt x="13968" y="5821"/>
                  <a:pt x="14899" y="6709"/>
                  <a:pt x="14899" y="7849"/>
                </a:cubicBezTo>
                <a:cubicBezTo>
                  <a:pt x="14899" y="8589"/>
                  <a:pt x="14429" y="9320"/>
                  <a:pt x="13968" y="9320"/>
                </a:cubicBezTo>
                <a:cubicBezTo>
                  <a:pt x="12862" y="9320"/>
                  <a:pt x="11757" y="10800"/>
                  <a:pt x="11757" y="12323"/>
                </a:cubicBezTo>
                <a:lnTo>
                  <a:pt x="11757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Игра «В магазине»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магазине “Одежда” висят пальто, юбки, блузки, кофты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 купила мама дочке, если в названии одежды букв больше, чем звуков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7093080" y="6246720"/>
            <a:ext cx="720720" cy="611280"/>
          </a:xfrm>
          <a:custGeom>
            <a:avLst/>
            <a:gdLst>
              <a:gd name="textAreaLeft" fmla="*/ 39600 w 720720"/>
              <a:gd name="textAreaRight" fmla="*/ 681120 w 72072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5465" h="21600">
                <a:moveTo>
                  <a:pt x="0" y="0"/>
                </a:moveTo>
                <a:lnTo>
                  <a:pt x="25465" y="0"/>
                </a:lnTo>
                <a:lnTo>
                  <a:pt x="25465" y="21600"/>
                </a:lnTo>
                <a:lnTo>
                  <a:pt x="0" y="21600"/>
                </a:lnTo>
                <a:close/>
              </a:path>
              <a:path fill="lightenLess" w="25465" h="21600">
                <a:moveTo>
                  <a:pt x="0" y="0"/>
                </a:moveTo>
                <a:lnTo>
                  <a:pt x="25465" y="0"/>
                </a:lnTo>
                <a:lnTo>
                  <a:pt x="24065" y="1400"/>
                </a:lnTo>
                <a:lnTo>
                  <a:pt x="1400" y="1400"/>
                </a:lnTo>
                <a:close/>
              </a:path>
              <a:path fill="darken" w="25465" h="21600">
                <a:moveTo>
                  <a:pt x="25465" y="0"/>
                </a:moveTo>
                <a:lnTo>
                  <a:pt x="25465" y="21600"/>
                </a:lnTo>
                <a:lnTo>
                  <a:pt x="24065" y="20200"/>
                </a:lnTo>
                <a:lnTo>
                  <a:pt x="24065" y="1400"/>
                </a:lnTo>
                <a:close/>
              </a:path>
              <a:path fill="darkenLess" w="25465" h="21600">
                <a:moveTo>
                  <a:pt x="254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5" y="20200"/>
                </a:lnTo>
                <a:close/>
              </a:path>
              <a:path fill="lighten" w="254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5" h="21600">
                <a:moveTo>
                  <a:pt x="5726" y="10800"/>
                </a:moveTo>
                <a:lnTo>
                  <a:pt x="19739" y="3794"/>
                </a:lnTo>
                <a:lnTo>
                  <a:pt x="19739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5"/>
          <p:cNvSpPr/>
          <p:nvPr/>
        </p:nvSpPr>
        <p:spPr>
          <a:xfrm>
            <a:off x="7885080" y="5886360"/>
            <a:ext cx="1008000" cy="971640"/>
          </a:xfrm>
          <a:custGeom>
            <a:avLst/>
            <a:gdLst>
              <a:gd name="textAreaLeft" fmla="*/ 63000 w 1008000"/>
              <a:gd name="textAreaRight" fmla="*/ 945360 w 1008000"/>
              <a:gd name="textAreaTop" fmla="*/ 63000 h 971640"/>
              <a:gd name="textAreaBottom" fmla="*/ 909000 h 971640"/>
            </a:gdLst>
            <a:ahLst/>
            <a:rect l="textAreaLeft" t="textAreaTop" r="textAreaRight" b="textAreaBottom"/>
            <a:pathLst>
              <a:path w="22408" h="21600">
                <a:moveTo>
                  <a:pt x="0" y="0"/>
                </a:moveTo>
                <a:lnTo>
                  <a:pt x="22408" y="0"/>
                </a:lnTo>
                <a:lnTo>
                  <a:pt x="22408" y="21600"/>
                </a:lnTo>
                <a:lnTo>
                  <a:pt x="0" y="21600"/>
                </a:lnTo>
                <a:close/>
              </a:path>
              <a:path fill="lightenLess" w="22408" h="21600">
                <a:moveTo>
                  <a:pt x="0" y="0"/>
                </a:moveTo>
                <a:lnTo>
                  <a:pt x="22408" y="0"/>
                </a:lnTo>
                <a:lnTo>
                  <a:pt x="21008" y="1400"/>
                </a:lnTo>
                <a:lnTo>
                  <a:pt x="1400" y="1400"/>
                </a:lnTo>
                <a:close/>
              </a:path>
              <a:path fill="darken" w="22408" h="21600">
                <a:moveTo>
                  <a:pt x="22408" y="0"/>
                </a:moveTo>
                <a:lnTo>
                  <a:pt x="22408" y="21600"/>
                </a:lnTo>
                <a:lnTo>
                  <a:pt x="21008" y="20200"/>
                </a:lnTo>
                <a:lnTo>
                  <a:pt x="21008" y="1400"/>
                </a:lnTo>
                <a:close/>
              </a:path>
              <a:path fill="darkenLess" w="22408" h="21600">
                <a:moveTo>
                  <a:pt x="22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08" y="20200"/>
                </a:lnTo>
                <a:close/>
              </a:path>
              <a:path fill="lighten" w="22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08" h="21600">
                <a:moveTo>
                  <a:pt x="1120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408" h="21600">
                <a:moveTo>
                  <a:pt x="12309" y="14281"/>
                </a:moveTo>
                <a:lnTo>
                  <a:pt x="12309" y="12323"/>
                </a:lnTo>
                <a:cubicBezTo>
                  <a:pt x="12309" y="11496"/>
                  <a:pt x="12640" y="10800"/>
                  <a:pt x="13241" y="10800"/>
                </a:cubicBezTo>
                <a:cubicBezTo>
                  <a:pt x="14372" y="10800"/>
                  <a:pt x="15269" y="9434"/>
                  <a:pt x="15269" y="7849"/>
                </a:cubicBezTo>
                <a:cubicBezTo>
                  <a:pt x="15269" y="5534"/>
                  <a:pt x="13415" y="3794"/>
                  <a:pt x="11204" y="3794"/>
                </a:cubicBezTo>
                <a:cubicBezTo>
                  <a:pt x="8993" y="3794"/>
                  <a:pt x="7322" y="5534"/>
                  <a:pt x="7322" y="7849"/>
                </a:cubicBezTo>
                <a:lnTo>
                  <a:pt x="9176" y="7849"/>
                </a:lnTo>
                <a:cubicBezTo>
                  <a:pt x="9176" y="6709"/>
                  <a:pt x="10099" y="5821"/>
                  <a:pt x="11204" y="5821"/>
                </a:cubicBezTo>
                <a:cubicBezTo>
                  <a:pt x="12309" y="5821"/>
                  <a:pt x="13241" y="6709"/>
                  <a:pt x="13241" y="7849"/>
                </a:cubicBezTo>
                <a:cubicBezTo>
                  <a:pt x="13241" y="8589"/>
                  <a:pt x="12771" y="9320"/>
                  <a:pt x="12309" y="9320"/>
                </a:cubicBezTo>
                <a:cubicBezTo>
                  <a:pt x="11204" y="9320"/>
                  <a:pt x="10099" y="10800"/>
                  <a:pt x="10099" y="12323"/>
                </a:cubicBezTo>
                <a:lnTo>
                  <a:pt x="10099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торой эта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5056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учение навыку звукового анализа слов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репление понятия учащихся, что парные согласные в конце слова произносятся одинаково глухо, и их написание нужно обязательно проверять либо изменением числа, либо подбором родственного слова, у которого после проверяемого согласного звука звучит гласный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репление понятия «безударный-ударный», формирование умения ставить безударный слог в ударное положени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ма «Парные согласные в конце слова» (закрепление и обобщение знаний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362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гра-приветств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ределите, какой первый согласный звук в вашей фамилии и покажите сигнальной карточкой звонкий он или глух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партах лежат кубики и колокольчики. Догадайтесь сами,  на каком ряду вы будете сидеть и займите свои мес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гра «Живые буквы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гра «Рыболов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ждый из вас должен поймать свою рыбку из волшебного пруда. У каждой рыбки  есть не дописанное слово. Рыбку ловим, прикрепляем на доску и отмечаем синим или зеленым магнитом согласный, который нужно  вставит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766764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гра "Путешествие в зоопарк"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йчас мы отправимся в зоопарк, где увидим разных животных и закрепим ваши знания о парных согласных в корне слова. Вам нужно будет вставить пропущенные буквы и поднять соответствующую карточк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гемо…                           медве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4"/>
          <p:cNvSpPr/>
          <p:nvPr/>
        </p:nvSpPr>
        <p:spPr>
          <a:xfrm>
            <a:off x="77407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Рисунок 6" descr=""/>
          <p:cNvPicPr/>
          <p:nvPr/>
        </p:nvPicPr>
        <p:blipFill>
          <a:blip r:embed="rId1"/>
          <a:stretch/>
        </p:blipFill>
        <p:spPr>
          <a:xfrm>
            <a:off x="1547640" y="3846600"/>
            <a:ext cx="1872000" cy="152712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8" descr=""/>
          <p:cNvPicPr/>
          <p:nvPr/>
        </p:nvPicPr>
        <p:blipFill>
          <a:blip r:embed="rId2"/>
          <a:stretch/>
        </p:blipFill>
        <p:spPr>
          <a:xfrm>
            <a:off x="4211640" y="3846600"/>
            <a:ext cx="223200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Разгадывание ребусов, кроссвордов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учившиеся слова записываем, выясняем, какую букву нужно проверить и способ проверки (столб-столбы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7812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Рисунок 5" descr=""/>
          <p:cNvPicPr/>
          <p:nvPr/>
        </p:nvPicPr>
        <p:blipFill>
          <a:blip r:embed="rId1"/>
          <a:stretch/>
        </p:blipFill>
        <p:spPr>
          <a:xfrm>
            <a:off x="900000" y="3438360"/>
            <a:ext cx="1727280" cy="128592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8" descr=""/>
          <p:cNvPicPr/>
          <p:nvPr/>
        </p:nvPicPr>
        <p:blipFill>
          <a:blip r:embed="rId2"/>
          <a:stretch/>
        </p:blipFill>
        <p:spPr>
          <a:xfrm>
            <a:off x="5364000" y="3467160"/>
            <a:ext cx="1800360" cy="125712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9" descr=""/>
          <p:cNvPicPr/>
          <p:nvPr/>
        </p:nvPicPr>
        <p:blipFill>
          <a:blip r:embed="rId3"/>
          <a:stretch/>
        </p:blipFill>
        <p:spPr>
          <a:xfrm>
            <a:off x="3132000" y="3467160"/>
            <a:ext cx="180036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844280" y="54936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6560" y="836280"/>
            <a:ext cx="785988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овые технологии в обучении фонетическому анализу слова имеет первостепенное значение для коррекции и формирования фонетической стороны речи и её грамматического строя, а также для умения произносить слова сложной слоговой структуры. Усвоение материала обучающимися с ОВЗ будет более прочным, если осознание звуковой структуры слова и работа по звуковому анализу и синтезу проходит в игровой, занимательной форм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7812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686800" y="1981080"/>
            <a:ext cx="4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Рисунок 2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7326360" cy="499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" dur="indefinite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" dur="indefinite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mph" presetID="1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1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1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1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Игра «Ленивый богатырь»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Рисунок 1" descr=""/>
          <p:cNvPicPr/>
          <p:nvPr/>
        </p:nvPicPr>
        <p:blipFill>
          <a:blip r:embed="rId1"/>
          <a:stretch/>
        </p:blipFill>
        <p:spPr>
          <a:xfrm>
            <a:off x="1658880" y="1919160"/>
            <a:ext cx="6923160" cy="423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indefinite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" dur="indefinite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6" dur="indefinite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4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4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Игра «Сон Павлуши»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Рисунок 1" descr=""/>
          <p:cNvPicPr/>
          <p:nvPr/>
        </p:nvPicPr>
        <p:blipFill>
          <a:blip r:embed="rId1"/>
          <a:stretch/>
        </p:blipFill>
        <p:spPr>
          <a:xfrm>
            <a:off x="1679400" y="1981080"/>
            <a:ext cx="7196400" cy="40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580000" y="1981080"/>
            <a:ext cx="310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5">
            <a:hlinkClick r:id="rId1" action="ppaction://hlinksldjump"/>
          </p:cNvPr>
          <p:cNvSpPr/>
          <p:nvPr/>
        </p:nvSpPr>
        <p:spPr>
          <a:xfrm>
            <a:off x="7093080" y="6093000"/>
            <a:ext cx="720720" cy="50292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30948" h="21600">
                <a:moveTo>
                  <a:pt x="0" y="0"/>
                </a:moveTo>
                <a:lnTo>
                  <a:pt x="30948" y="0"/>
                </a:lnTo>
                <a:lnTo>
                  <a:pt x="30948" y="21600"/>
                </a:lnTo>
                <a:lnTo>
                  <a:pt x="0" y="21600"/>
                </a:lnTo>
                <a:close/>
              </a:path>
              <a:path fill="lightenLess" w="30948" h="21600">
                <a:moveTo>
                  <a:pt x="0" y="0"/>
                </a:moveTo>
                <a:lnTo>
                  <a:pt x="30948" y="0"/>
                </a:lnTo>
                <a:lnTo>
                  <a:pt x="29548" y="1400"/>
                </a:lnTo>
                <a:lnTo>
                  <a:pt x="1400" y="1400"/>
                </a:lnTo>
                <a:close/>
              </a:path>
              <a:path fill="darken" w="30948" h="21600">
                <a:moveTo>
                  <a:pt x="30948" y="0"/>
                </a:moveTo>
                <a:lnTo>
                  <a:pt x="30948" y="21600"/>
                </a:lnTo>
                <a:lnTo>
                  <a:pt x="29548" y="20200"/>
                </a:lnTo>
                <a:lnTo>
                  <a:pt x="29548" y="1400"/>
                </a:lnTo>
                <a:close/>
              </a:path>
              <a:path fill="darkenLess" w="30948" h="21600">
                <a:moveTo>
                  <a:pt x="30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48" y="20200"/>
                </a:lnTo>
                <a:close/>
              </a:path>
              <a:path fill="lighten" w="30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48" h="21600">
                <a:moveTo>
                  <a:pt x="8467" y="10800"/>
                </a:moveTo>
                <a:lnTo>
                  <a:pt x="22480" y="3794"/>
                </a:lnTo>
                <a:lnTo>
                  <a:pt x="22480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6">
            <a:hlinkClick r:id="rId2" action="ppaction://hlinksldjump"/>
          </p:cNvPr>
          <p:cNvSpPr/>
          <p:nvPr/>
        </p:nvSpPr>
        <p:spPr>
          <a:xfrm>
            <a:off x="7956720" y="5661000"/>
            <a:ext cx="971280" cy="898560"/>
          </a:xfrm>
          <a:custGeom>
            <a:avLst/>
            <a:gdLst>
              <a:gd name="textAreaLeft" fmla="*/ 57960 w 971280"/>
              <a:gd name="textAreaRight" fmla="*/ 913320 w 971280"/>
              <a:gd name="textAreaTop" fmla="*/ 57960 h 898560"/>
              <a:gd name="textAreaBottom" fmla="*/ 840600 h 898560"/>
            </a:gdLst>
            <a:ahLst/>
            <a:rect l="textAreaLeft" t="textAreaTop" r="textAreaRight" b="textAreaBottom"/>
            <a:pathLst>
              <a:path w="23347" h="21600">
                <a:moveTo>
                  <a:pt x="0" y="0"/>
                </a:moveTo>
                <a:lnTo>
                  <a:pt x="23347" y="0"/>
                </a:lnTo>
                <a:lnTo>
                  <a:pt x="23347" y="21600"/>
                </a:lnTo>
                <a:lnTo>
                  <a:pt x="0" y="21600"/>
                </a:lnTo>
                <a:close/>
              </a:path>
              <a:path fill="lightenLess" w="23347" h="21600">
                <a:moveTo>
                  <a:pt x="0" y="0"/>
                </a:moveTo>
                <a:lnTo>
                  <a:pt x="23347" y="0"/>
                </a:lnTo>
                <a:lnTo>
                  <a:pt x="21947" y="1400"/>
                </a:lnTo>
                <a:lnTo>
                  <a:pt x="1400" y="1400"/>
                </a:lnTo>
                <a:close/>
              </a:path>
              <a:path fill="darken" w="23347" h="21600">
                <a:moveTo>
                  <a:pt x="23347" y="0"/>
                </a:moveTo>
                <a:lnTo>
                  <a:pt x="23347" y="21600"/>
                </a:lnTo>
                <a:lnTo>
                  <a:pt x="21947" y="20200"/>
                </a:lnTo>
                <a:lnTo>
                  <a:pt x="21947" y="1400"/>
                </a:lnTo>
                <a:close/>
              </a:path>
              <a:path fill="darkenLess" w="23347" h="21600">
                <a:moveTo>
                  <a:pt x="233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7" y="20200"/>
                </a:lnTo>
                <a:close/>
              </a:path>
              <a:path fill="lighten" w="233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7" h="21600">
                <a:moveTo>
                  <a:pt x="1167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347" h="21600">
                <a:moveTo>
                  <a:pt x="12779" y="14281"/>
                </a:moveTo>
                <a:lnTo>
                  <a:pt x="12779" y="12323"/>
                </a:lnTo>
                <a:cubicBezTo>
                  <a:pt x="12779" y="11496"/>
                  <a:pt x="13110" y="10800"/>
                  <a:pt x="13710" y="10800"/>
                </a:cubicBezTo>
                <a:cubicBezTo>
                  <a:pt x="14842" y="10800"/>
                  <a:pt x="15738" y="9434"/>
                  <a:pt x="15738" y="7849"/>
                </a:cubicBezTo>
                <a:cubicBezTo>
                  <a:pt x="15738" y="5534"/>
                  <a:pt x="13884" y="3794"/>
                  <a:pt x="11674" y="3794"/>
                </a:cubicBezTo>
                <a:cubicBezTo>
                  <a:pt x="9463" y="3794"/>
                  <a:pt x="7792" y="5534"/>
                  <a:pt x="7792" y="7849"/>
                </a:cubicBezTo>
                <a:lnTo>
                  <a:pt x="9646" y="7849"/>
                </a:lnTo>
                <a:cubicBezTo>
                  <a:pt x="9646" y="6709"/>
                  <a:pt x="10568" y="5821"/>
                  <a:pt x="11674" y="5821"/>
                </a:cubicBezTo>
                <a:cubicBezTo>
                  <a:pt x="12779" y="5821"/>
                  <a:pt x="13710" y="6709"/>
                  <a:pt x="13710" y="7849"/>
                </a:cubicBezTo>
                <a:cubicBezTo>
                  <a:pt x="13710" y="8589"/>
                  <a:pt x="13240" y="9320"/>
                  <a:pt x="12779" y="9320"/>
                </a:cubicBezTo>
                <a:cubicBezTo>
                  <a:pt x="11674" y="9320"/>
                  <a:pt x="10568" y="10800"/>
                  <a:pt x="10568" y="12323"/>
                </a:cubicBezTo>
                <a:lnTo>
                  <a:pt x="10568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оугольник 2"/>
          <p:cNvSpPr/>
          <p:nvPr/>
        </p:nvSpPr>
        <p:spPr>
          <a:xfrm>
            <a:off x="250920" y="2413080"/>
            <a:ext cx="5991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чевое недоразвитие детей, отсутствие у них внимания к единице языка, несформированность языковых обобщений, недостатки мыслительной деятельности, сенсомоторной сферы, нарушение звукового анализа и синтеза слова затрудняют усвоение русского языка обучающимис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Рисунок 3" descr=""/>
          <p:cNvPicPr/>
          <p:nvPr/>
        </p:nvPicPr>
        <p:blipFill>
          <a:blip r:embed="rId3"/>
          <a:stretch/>
        </p:blipFill>
        <p:spPr>
          <a:xfrm>
            <a:off x="6242040" y="304920"/>
            <a:ext cx="26859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9280" y="1940040"/>
            <a:ext cx="8507520" cy="41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пользование наряду с традиционными игровыми технологиями интерактивных игр и других цифровых технологий способствует формированию у детей привычки мыслить самостоятельно, умения сосредотачиваться, проявлять инициативу. Играя в игры, ребенок меняется на глазах, у него возникает желание выполнять задание педагога, развивается речь, психические процессы, обучающиеся развиваются в непринужденной игровой форм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indefinite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7" dur="indefinite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8" dur="indefinite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6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6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6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8800" spc="-1" strike="noStrike">
                <a:solidFill>
                  <a:srgbClr val="ffcc00"/>
                </a:solidFill>
                <a:latin typeface="Arial"/>
              </a:rPr>
              <a:t>Спасибо за внимание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indefinite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9" dur="indefinite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0" dur="indefinite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8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8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8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8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2"/>
          <p:cNvSpPr/>
          <p:nvPr/>
        </p:nvSpPr>
        <p:spPr>
          <a:xfrm>
            <a:off x="611280" y="1484280"/>
            <a:ext cx="792144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ользовани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 игровых технологий в обучении фонетическому анализу слов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а уроках русского языка в коррекционной школе помогает вести изучение и закрепление материала на уровне эмоционального осознания, отсюда развивается познавательный интерес к русскому язык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2" descr="Коррекция речи"/>
          <p:cNvPicPr/>
          <p:nvPr/>
        </p:nvPicPr>
        <p:blipFill>
          <a:blip r:embed="rId1"/>
          <a:stretch/>
        </p:blipFill>
        <p:spPr>
          <a:xfrm>
            <a:off x="3924360" y="4098960"/>
            <a:ext cx="45021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92000" y="457200"/>
            <a:ext cx="6994440" cy="13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ребования к организации игровых технологий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Игра – форма деятельности учащихся, в которой осознается окружающий мир, открывается простор для личной активности и творче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Игра должна быть построена на интересе, участники должны получать удовольствие от иг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Обязателен элемент соревнования между участниками иг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7020000" y="6021360"/>
            <a:ext cx="718920" cy="6494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3910" h="21600">
                <a:moveTo>
                  <a:pt x="0" y="0"/>
                </a:moveTo>
                <a:lnTo>
                  <a:pt x="23910" y="0"/>
                </a:lnTo>
                <a:lnTo>
                  <a:pt x="23910" y="21600"/>
                </a:lnTo>
                <a:lnTo>
                  <a:pt x="0" y="21600"/>
                </a:lnTo>
                <a:close/>
              </a:path>
              <a:path fill="lightenLess" w="23910" h="21600">
                <a:moveTo>
                  <a:pt x="0" y="0"/>
                </a:moveTo>
                <a:lnTo>
                  <a:pt x="23910" y="0"/>
                </a:lnTo>
                <a:lnTo>
                  <a:pt x="22510" y="1400"/>
                </a:lnTo>
                <a:lnTo>
                  <a:pt x="1400" y="1400"/>
                </a:lnTo>
                <a:close/>
              </a:path>
              <a:path fill="darken" w="23910" h="21600">
                <a:moveTo>
                  <a:pt x="23910" y="0"/>
                </a:moveTo>
                <a:lnTo>
                  <a:pt x="23910" y="21600"/>
                </a:lnTo>
                <a:lnTo>
                  <a:pt x="22510" y="20200"/>
                </a:lnTo>
                <a:lnTo>
                  <a:pt x="22510" y="1400"/>
                </a:lnTo>
                <a:close/>
              </a:path>
              <a:path fill="darkenLess" w="23910" h="21600">
                <a:moveTo>
                  <a:pt x="239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10" y="20200"/>
                </a:lnTo>
                <a:close/>
              </a:path>
              <a:path fill="lighten" w="239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10" h="21600">
                <a:moveTo>
                  <a:pt x="4948" y="10800"/>
                </a:moveTo>
                <a:lnTo>
                  <a:pt x="18961" y="3794"/>
                </a:lnTo>
                <a:lnTo>
                  <a:pt x="18961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7885080" y="5734080"/>
            <a:ext cx="971640" cy="900000"/>
          </a:xfrm>
          <a:custGeom>
            <a:avLst/>
            <a:gdLst>
              <a:gd name="textAreaLeft" fmla="*/ 58320 w 971640"/>
              <a:gd name="textAreaRight" fmla="*/ 913320 w 971640"/>
              <a:gd name="textAreaTop" fmla="*/ 58320 h 900000"/>
              <a:gd name="textAreaBottom" fmla="*/ 841680 h 900000"/>
            </a:gdLst>
            <a:ahLst/>
            <a:rect l="textAreaLeft" t="textAreaTop" r="textAreaRight" b="textAreaBottom"/>
            <a:pathLst>
              <a:path w="23319" h="21600">
                <a:moveTo>
                  <a:pt x="0" y="0"/>
                </a:moveTo>
                <a:lnTo>
                  <a:pt x="23319" y="0"/>
                </a:lnTo>
                <a:lnTo>
                  <a:pt x="23319" y="21600"/>
                </a:lnTo>
                <a:lnTo>
                  <a:pt x="0" y="21600"/>
                </a:lnTo>
                <a:close/>
              </a:path>
              <a:path fill="lightenLess" w="23319" h="21600">
                <a:moveTo>
                  <a:pt x="0" y="0"/>
                </a:moveTo>
                <a:lnTo>
                  <a:pt x="23319" y="0"/>
                </a:lnTo>
                <a:lnTo>
                  <a:pt x="21919" y="1400"/>
                </a:lnTo>
                <a:lnTo>
                  <a:pt x="1400" y="1400"/>
                </a:lnTo>
                <a:close/>
              </a:path>
              <a:path fill="darken" w="23319" h="21600">
                <a:moveTo>
                  <a:pt x="23319" y="0"/>
                </a:moveTo>
                <a:lnTo>
                  <a:pt x="23319" y="21600"/>
                </a:lnTo>
                <a:lnTo>
                  <a:pt x="21919" y="20200"/>
                </a:lnTo>
                <a:lnTo>
                  <a:pt x="21919" y="1400"/>
                </a:lnTo>
                <a:close/>
              </a:path>
              <a:path fill="darkenLess" w="23319" h="21600">
                <a:moveTo>
                  <a:pt x="233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19" y="20200"/>
                </a:lnTo>
                <a:close/>
              </a:path>
              <a:path fill="lighten" w="233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19" h="21600">
                <a:moveTo>
                  <a:pt x="116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319" h="21600">
                <a:moveTo>
                  <a:pt x="12765" y="14281"/>
                </a:moveTo>
                <a:lnTo>
                  <a:pt x="12765" y="12323"/>
                </a:lnTo>
                <a:cubicBezTo>
                  <a:pt x="12765" y="11496"/>
                  <a:pt x="13095" y="10800"/>
                  <a:pt x="13696" y="10800"/>
                </a:cubicBezTo>
                <a:cubicBezTo>
                  <a:pt x="14827" y="10800"/>
                  <a:pt x="15724" y="9434"/>
                  <a:pt x="15724" y="7849"/>
                </a:cubicBezTo>
                <a:cubicBezTo>
                  <a:pt x="15724" y="5534"/>
                  <a:pt x="13870" y="3794"/>
                  <a:pt x="11659" y="3794"/>
                </a:cubicBezTo>
                <a:cubicBezTo>
                  <a:pt x="9449" y="3794"/>
                  <a:pt x="7777" y="5534"/>
                  <a:pt x="7777" y="7849"/>
                </a:cubicBezTo>
                <a:lnTo>
                  <a:pt x="9631" y="7849"/>
                </a:lnTo>
                <a:cubicBezTo>
                  <a:pt x="9631" y="6709"/>
                  <a:pt x="10554" y="5821"/>
                  <a:pt x="11659" y="5821"/>
                </a:cubicBezTo>
                <a:cubicBezTo>
                  <a:pt x="12765" y="5821"/>
                  <a:pt x="13696" y="6709"/>
                  <a:pt x="13696" y="7849"/>
                </a:cubicBezTo>
                <a:cubicBezTo>
                  <a:pt x="13696" y="8589"/>
                  <a:pt x="13226" y="9320"/>
                  <a:pt x="12765" y="9320"/>
                </a:cubicBezTo>
                <a:cubicBezTo>
                  <a:pt x="11659" y="9320"/>
                  <a:pt x="10554" y="10800"/>
                  <a:pt x="10554" y="12323"/>
                </a:cubicBezTo>
                <a:lnTo>
                  <a:pt x="10554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иды игровых технологий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ы-упражн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ы-путешеств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ы-соревнова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7020000" y="6021360"/>
            <a:ext cx="792000" cy="57636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9676" h="21600">
                <a:moveTo>
                  <a:pt x="0" y="0"/>
                </a:moveTo>
                <a:lnTo>
                  <a:pt x="29676" y="0"/>
                </a:lnTo>
                <a:lnTo>
                  <a:pt x="29676" y="21600"/>
                </a:lnTo>
                <a:lnTo>
                  <a:pt x="0" y="21600"/>
                </a:lnTo>
                <a:close/>
              </a:path>
              <a:path fill="lightenLess" w="29676" h="21600">
                <a:moveTo>
                  <a:pt x="0" y="0"/>
                </a:moveTo>
                <a:lnTo>
                  <a:pt x="29676" y="0"/>
                </a:lnTo>
                <a:lnTo>
                  <a:pt x="28276" y="1400"/>
                </a:lnTo>
                <a:lnTo>
                  <a:pt x="1400" y="1400"/>
                </a:lnTo>
                <a:close/>
              </a:path>
              <a:path fill="darken" w="29676" h="21600">
                <a:moveTo>
                  <a:pt x="29676" y="0"/>
                </a:moveTo>
                <a:lnTo>
                  <a:pt x="29676" y="21600"/>
                </a:lnTo>
                <a:lnTo>
                  <a:pt x="28276" y="20200"/>
                </a:lnTo>
                <a:lnTo>
                  <a:pt x="28276" y="1400"/>
                </a:lnTo>
                <a:close/>
              </a:path>
              <a:path fill="darkenLess" w="29676" h="21600">
                <a:moveTo>
                  <a:pt x="296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6" y="20200"/>
                </a:lnTo>
                <a:close/>
              </a:path>
              <a:path fill="lighten" w="296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76" h="21600">
                <a:moveTo>
                  <a:pt x="7832" y="10800"/>
                </a:moveTo>
                <a:lnTo>
                  <a:pt x="21845" y="3794"/>
                </a:lnTo>
                <a:lnTo>
                  <a:pt x="21845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7956720" y="5661000"/>
            <a:ext cx="898200" cy="898560"/>
          </a:xfrm>
          <a:custGeom>
            <a:avLst/>
            <a:gdLst>
              <a:gd name="textAreaLeft" fmla="*/ 57960 w 898200"/>
              <a:gd name="textAreaRight" fmla="*/ 840240 w 898200"/>
              <a:gd name="textAreaTop" fmla="*/ 57960 h 898560"/>
              <a:gd name="textAreaBottom" fmla="*/ 840600 h 898560"/>
            </a:gdLst>
            <a:ahLst/>
            <a:rect l="textAreaLeft" t="textAreaTop" r="textAreaRight" b="textAreaBottom"/>
            <a:pathLst>
              <a:path w="21600" h="21609">
                <a:moveTo>
                  <a:pt x="0" y="0"/>
                </a:moveTo>
                <a:lnTo>
                  <a:pt x="21600" y="0"/>
                </a:lnTo>
                <a:lnTo>
                  <a:pt x="21600" y="21609"/>
                </a:lnTo>
                <a:lnTo>
                  <a:pt x="0" y="21609"/>
                </a:lnTo>
                <a:close/>
              </a:path>
              <a:path fill="lightenLess" w="21600" h="216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9">
                <a:moveTo>
                  <a:pt x="21600" y="0"/>
                </a:moveTo>
                <a:lnTo>
                  <a:pt x="21600" y="21609"/>
                </a:lnTo>
                <a:lnTo>
                  <a:pt x="20200" y="20209"/>
                </a:lnTo>
                <a:lnTo>
                  <a:pt x="20200" y="1400"/>
                </a:lnTo>
                <a:close/>
              </a:path>
              <a:path fill="darkenLess" w="21600" h="21609">
                <a:moveTo>
                  <a:pt x="21600" y="21609"/>
                </a:moveTo>
                <a:lnTo>
                  <a:pt x="0" y="21609"/>
                </a:lnTo>
                <a:lnTo>
                  <a:pt x="1400" y="20209"/>
                </a:lnTo>
                <a:lnTo>
                  <a:pt x="20200" y="20209"/>
                </a:lnTo>
                <a:close/>
              </a:path>
              <a:path fill="lighten" w="21600" h="21609">
                <a:moveTo>
                  <a:pt x="0" y="216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9"/>
                </a:lnTo>
                <a:close/>
              </a:path>
              <a:path fill="darken" w="21600" h="21609">
                <a:moveTo>
                  <a:pt x="10800" y="14808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9">
                <a:moveTo>
                  <a:pt x="11905" y="14286"/>
                </a:moveTo>
                <a:lnTo>
                  <a:pt x="11905" y="12327"/>
                </a:lnTo>
                <a:cubicBezTo>
                  <a:pt x="11905" y="11501"/>
                  <a:pt x="12236" y="10804"/>
                  <a:pt x="12837" y="10804"/>
                </a:cubicBezTo>
                <a:cubicBezTo>
                  <a:pt x="13968" y="10804"/>
                  <a:pt x="14865" y="9438"/>
                  <a:pt x="14865" y="7854"/>
                </a:cubicBezTo>
                <a:cubicBezTo>
                  <a:pt x="14865" y="5539"/>
                  <a:pt x="13011" y="3798"/>
                  <a:pt x="10800" y="3798"/>
                </a:cubicBezTo>
                <a:cubicBezTo>
                  <a:pt x="8589" y="3798"/>
                  <a:pt x="6918" y="5539"/>
                  <a:pt x="6918" y="7854"/>
                </a:cubicBezTo>
                <a:lnTo>
                  <a:pt x="8772" y="7854"/>
                </a:lnTo>
                <a:cubicBezTo>
                  <a:pt x="8772" y="6714"/>
                  <a:pt x="9695" y="5826"/>
                  <a:pt x="10800" y="5826"/>
                </a:cubicBezTo>
                <a:cubicBezTo>
                  <a:pt x="11905" y="5826"/>
                  <a:pt x="12837" y="6714"/>
                  <a:pt x="12837" y="7854"/>
                </a:cubicBezTo>
                <a:cubicBezTo>
                  <a:pt x="12837" y="8594"/>
                  <a:pt x="12367" y="9325"/>
                  <a:pt x="11905" y="9325"/>
                </a:cubicBezTo>
                <a:cubicBezTo>
                  <a:pt x="10800" y="9325"/>
                  <a:pt x="9695" y="10804"/>
                  <a:pt x="9695" y="12327"/>
                </a:cubicBezTo>
                <a:lnTo>
                  <a:pt x="9695" y="1428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Рисунок 4" descr=""/>
          <p:cNvPicPr/>
          <p:nvPr/>
        </p:nvPicPr>
        <p:blipFill>
          <a:blip r:embed="rId1"/>
          <a:stretch/>
        </p:blipFill>
        <p:spPr>
          <a:xfrm>
            <a:off x="4356000" y="3781440"/>
            <a:ext cx="415764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"/>
          <p:cNvSpPr/>
          <p:nvPr/>
        </p:nvSpPr>
        <p:spPr>
          <a:xfrm>
            <a:off x="2916360" y="549360"/>
            <a:ext cx="55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Игровые технологии используются  для решения следующих обучающих задач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ик 2"/>
          <p:cNvSpPr/>
          <p:nvPr/>
        </p:nvSpPr>
        <p:spPr>
          <a:xfrm>
            <a:off x="826920" y="1628640"/>
            <a:ext cx="7777440" cy="45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формирование навыков восприятия и различения звуков речи: закрепление знаний об изученных звуках, их характеристиках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развитие слухового восприятия, речевого слух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обучение навыку звукового анализа сл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обучение детей умению подбирать слова с заданными звуками, делению слов на слог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закрепление понятия учащихся, что парные согласные в конце слова произносятся одинаково глухо, и их написание нужно обязательно проверять либо изменением числа, либо подбором родственного слова, у которого после проверяемого согласного звука звучит гласны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развитие орфографической зорк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апы овладения звуковым анализом.</a:t>
            </a:r>
            <a:br>
              <a:rPr sz="24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вый этап посвящается повторению гласных и согласных звуков, закреплению знаний об изученных звуках, их характеристиках (гласный-согласный, твёрдый - мягкий, звонкий - глухой),  о местоположении в словах (начало, середина, конец). </a:t>
            </a:r>
            <a:br>
              <a:rPr sz="20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40000" y="3213000"/>
            <a:ext cx="8147160" cy="28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«Разноцветные  буквы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гра «Угадай первый звук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гра «Поймай конец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гра «Поймай конец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" Сколько слов со звуком Ш? "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7020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7956720" y="5734080"/>
            <a:ext cx="971280" cy="898560"/>
          </a:xfrm>
          <a:custGeom>
            <a:avLst/>
            <a:gdLst>
              <a:gd name="textAreaLeft" fmla="*/ 57960 w 971280"/>
              <a:gd name="textAreaRight" fmla="*/ 913320 w 971280"/>
              <a:gd name="textAreaTop" fmla="*/ 57960 h 898560"/>
              <a:gd name="textAreaBottom" fmla="*/ 840600 h 898560"/>
            </a:gdLst>
            <a:ahLst/>
            <a:rect l="textAreaLeft" t="textAreaTop" r="textAreaRight" b="textAreaBottom"/>
            <a:pathLst>
              <a:path w="23347" h="21600">
                <a:moveTo>
                  <a:pt x="0" y="0"/>
                </a:moveTo>
                <a:lnTo>
                  <a:pt x="23347" y="0"/>
                </a:lnTo>
                <a:lnTo>
                  <a:pt x="23347" y="21600"/>
                </a:lnTo>
                <a:lnTo>
                  <a:pt x="0" y="21600"/>
                </a:lnTo>
                <a:close/>
              </a:path>
              <a:path fill="lightenLess" w="23347" h="21600">
                <a:moveTo>
                  <a:pt x="0" y="0"/>
                </a:moveTo>
                <a:lnTo>
                  <a:pt x="23347" y="0"/>
                </a:lnTo>
                <a:lnTo>
                  <a:pt x="21947" y="1400"/>
                </a:lnTo>
                <a:lnTo>
                  <a:pt x="1400" y="1400"/>
                </a:lnTo>
                <a:close/>
              </a:path>
              <a:path fill="darken" w="23347" h="21600">
                <a:moveTo>
                  <a:pt x="23347" y="0"/>
                </a:moveTo>
                <a:lnTo>
                  <a:pt x="23347" y="21600"/>
                </a:lnTo>
                <a:lnTo>
                  <a:pt x="21947" y="20200"/>
                </a:lnTo>
                <a:lnTo>
                  <a:pt x="21947" y="1400"/>
                </a:lnTo>
                <a:close/>
              </a:path>
              <a:path fill="darkenLess" w="23347" h="21600">
                <a:moveTo>
                  <a:pt x="233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7" y="20200"/>
                </a:lnTo>
                <a:close/>
              </a:path>
              <a:path fill="lighten" w="233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7" h="21600">
                <a:moveTo>
                  <a:pt x="1167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347" h="21600">
                <a:moveTo>
                  <a:pt x="12779" y="14281"/>
                </a:moveTo>
                <a:lnTo>
                  <a:pt x="12779" y="12323"/>
                </a:lnTo>
                <a:cubicBezTo>
                  <a:pt x="12779" y="11496"/>
                  <a:pt x="13110" y="10800"/>
                  <a:pt x="13710" y="10800"/>
                </a:cubicBezTo>
                <a:cubicBezTo>
                  <a:pt x="14842" y="10800"/>
                  <a:pt x="15738" y="9434"/>
                  <a:pt x="15738" y="7849"/>
                </a:cubicBezTo>
                <a:cubicBezTo>
                  <a:pt x="15738" y="5534"/>
                  <a:pt x="13884" y="3794"/>
                  <a:pt x="11674" y="3794"/>
                </a:cubicBezTo>
                <a:cubicBezTo>
                  <a:pt x="9463" y="3794"/>
                  <a:pt x="7792" y="5534"/>
                  <a:pt x="7792" y="7849"/>
                </a:cubicBezTo>
                <a:lnTo>
                  <a:pt x="9646" y="7849"/>
                </a:lnTo>
                <a:cubicBezTo>
                  <a:pt x="9646" y="6709"/>
                  <a:pt x="10568" y="5821"/>
                  <a:pt x="11674" y="5821"/>
                </a:cubicBezTo>
                <a:cubicBezTo>
                  <a:pt x="12779" y="5821"/>
                  <a:pt x="13710" y="6709"/>
                  <a:pt x="13710" y="7849"/>
                </a:cubicBezTo>
                <a:cubicBezTo>
                  <a:pt x="13710" y="8589"/>
                  <a:pt x="13240" y="9320"/>
                  <a:pt x="12779" y="9320"/>
                </a:cubicBezTo>
                <a:cubicBezTo>
                  <a:pt x="11674" y="9320"/>
                  <a:pt x="10568" y="10800"/>
                  <a:pt x="10568" y="12323"/>
                </a:cubicBezTo>
                <a:lnTo>
                  <a:pt x="10568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95280" y="1412640"/>
            <a:ext cx="6491160" cy="33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закрепления фонетических умений необходимо упражнять детей в подборе слова к звуковой схеме. Обучающимся очень нравятся игры, связанные с жизненным опытом ребен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5640" y="2701440"/>
            <a:ext cx="6769080" cy="33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«Новоселье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«В зоопарке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“Рыбалка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7020000" y="6165720"/>
            <a:ext cx="647640" cy="505080"/>
          </a:xfrm>
          <a:custGeom>
            <a:avLst/>
            <a:gdLst>
              <a:gd name="textAreaLeft" fmla="*/ 32400 w 647640"/>
              <a:gd name="textAreaRight" fmla="*/ 614880 w 64764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27692" h="21600">
                <a:moveTo>
                  <a:pt x="0" y="0"/>
                </a:moveTo>
                <a:lnTo>
                  <a:pt x="27692" y="0"/>
                </a:lnTo>
                <a:lnTo>
                  <a:pt x="27692" y="21600"/>
                </a:lnTo>
                <a:lnTo>
                  <a:pt x="0" y="21600"/>
                </a:lnTo>
                <a:close/>
              </a:path>
              <a:path fill="lightenLess" w="27692" h="21600">
                <a:moveTo>
                  <a:pt x="0" y="0"/>
                </a:moveTo>
                <a:lnTo>
                  <a:pt x="27692" y="0"/>
                </a:lnTo>
                <a:lnTo>
                  <a:pt x="26292" y="1400"/>
                </a:lnTo>
                <a:lnTo>
                  <a:pt x="1400" y="1400"/>
                </a:lnTo>
                <a:close/>
              </a:path>
              <a:path fill="darken" w="27692" h="21600">
                <a:moveTo>
                  <a:pt x="27692" y="0"/>
                </a:moveTo>
                <a:lnTo>
                  <a:pt x="27692" y="21600"/>
                </a:lnTo>
                <a:lnTo>
                  <a:pt x="26292" y="20200"/>
                </a:lnTo>
                <a:lnTo>
                  <a:pt x="26292" y="1400"/>
                </a:lnTo>
                <a:close/>
              </a:path>
              <a:path fill="darkenLess" w="27692" h="21600">
                <a:moveTo>
                  <a:pt x="27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92" y="20200"/>
                </a:lnTo>
                <a:close/>
              </a:path>
              <a:path fill="lighten" w="27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692" h="21600">
                <a:moveTo>
                  <a:pt x="6840" y="10800"/>
                </a:moveTo>
                <a:lnTo>
                  <a:pt x="20853" y="3794"/>
                </a:lnTo>
                <a:lnTo>
                  <a:pt x="20853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7885080" y="5877000"/>
            <a:ext cx="971640" cy="755640"/>
          </a:xfrm>
          <a:custGeom>
            <a:avLst/>
            <a:gdLst>
              <a:gd name="textAreaLeft" fmla="*/ 48960 w 971640"/>
              <a:gd name="textAreaRight" fmla="*/ 922680 w 97164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7771" h="21600">
                <a:moveTo>
                  <a:pt x="0" y="0"/>
                </a:moveTo>
                <a:lnTo>
                  <a:pt x="27771" y="0"/>
                </a:lnTo>
                <a:lnTo>
                  <a:pt x="27771" y="21600"/>
                </a:lnTo>
                <a:lnTo>
                  <a:pt x="0" y="21600"/>
                </a:lnTo>
                <a:close/>
              </a:path>
              <a:path fill="lightenLess" w="27771" h="21600">
                <a:moveTo>
                  <a:pt x="0" y="0"/>
                </a:moveTo>
                <a:lnTo>
                  <a:pt x="27771" y="0"/>
                </a:lnTo>
                <a:lnTo>
                  <a:pt x="26371" y="1400"/>
                </a:lnTo>
                <a:lnTo>
                  <a:pt x="1400" y="1400"/>
                </a:lnTo>
                <a:close/>
              </a:path>
              <a:path fill="darken" w="27771" h="21600">
                <a:moveTo>
                  <a:pt x="27771" y="0"/>
                </a:moveTo>
                <a:lnTo>
                  <a:pt x="27771" y="21600"/>
                </a:lnTo>
                <a:lnTo>
                  <a:pt x="26371" y="20200"/>
                </a:lnTo>
                <a:lnTo>
                  <a:pt x="26371" y="1400"/>
                </a:lnTo>
                <a:close/>
              </a:path>
              <a:path fill="darkenLess" w="27771" h="21600">
                <a:moveTo>
                  <a:pt x="277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1" y="20200"/>
                </a:lnTo>
                <a:close/>
              </a:path>
              <a:path fill="lighten" w="277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1" h="21600">
                <a:moveTo>
                  <a:pt x="1388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771" h="21600">
                <a:moveTo>
                  <a:pt x="14991" y="14281"/>
                </a:moveTo>
                <a:lnTo>
                  <a:pt x="14991" y="12323"/>
                </a:lnTo>
                <a:cubicBezTo>
                  <a:pt x="14991" y="11496"/>
                  <a:pt x="15322" y="10800"/>
                  <a:pt x="15922" y="10800"/>
                </a:cubicBezTo>
                <a:cubicBezTo>
                  <a:pt x="17054" y="10800"/>
                  <a:pt x="17950" y="9434"/>
                  <a:pt x="17950" y="7849"/>
                </a:cubicBezTo>
                <a:cubicBezTo>
                  <a:pt x="17950" y="5534"/>
                  <a:pt x="16096" y="3794"/>
                  <a:pt x="13886" y="3794"/>
                </a:cubicBezTo>
                <a:cubicBezTo>
                  <a:pt x="11675" y="3794"/>
                  <a:pt x="10004" y="5534"/>
                  <a:pt x="10004" y="7849"/>
                </a:cubicBezTo>
                <a:lnTo>
                  <a:pt x="11858" y="7849"/>
                </a:lnTo>
                <a:cubicBezTo>
                  <a:pt x="11858" y="6709"/>
                  <a:pt x="12780" y="5821"/>
                  <a:pt x="13886" y="5821"/>
                </a:cubicBezTo>
                <a:cubicBezTo>
                  <a:pt x="14991" y="5821"/>
                  <a:pt x="15922" y="6709"/>
                  <a:pt x="15922" y="7849"/>
                </a:cubicBezTo>
                <a:cubicBezTo>
                  <a:pt x="15922" y="8589"/>
                  <a:pt x="15452" y="9320"/>
                  <a:pt x="14991" y="9320"/>
                </a:cubicBezTo>
                <a:cubicBezTo>
                  <a:pt x="13886" y="9320"/>
                  <a:pt x="12780" y="10800"/>
                  <a:pt x="12780" y="12323"/>
                </a:cubicBezTo>
                <a:lnTo>
                  <a:pt x="12780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гра «Приготовление салат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7081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огороде выросли следующие овощи:  укроп, картофель, огурец, помидор, лук, перец, чеснок. Хозяйка для приготовления салата взяла следующие овощ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 - в слове 2 слога, 7 букв, 6 звуков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 - в слове 2 слога, ударение падает на первый слог, 2 согласных звука мягких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 - в слове 1 слог, все согласные звуки твердые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 - в слове 3 слога, 7 букв,7 зву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приготовления салата хозяйка взяла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морковь, перец, лук, помидо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6804000" y="6308640"/>
            <a:ext cx="720720" cy="395280"/>
          </a:xfrm>
          <a:custGeom>
            <a:avLst/>
            <a:gdLst>
              <a:gd name="textAreaLeft" fmla="*/ 25560 w 720720"/>
              <a:gd name="textAreaRight" fmla="*/ 695160 w 72072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39367" h="21600">
                <a:moveTo>
                  <a:pt x="0" y="0"/>
                </a:moveTo>
                <a:lnTo>
                  <a:pt x="39367" y="0"/>
                </a:lnTo>
                <a:lnTo>
                  <a:pt x="39367" y="21600"/>
                </a:lnTo>
                <a:lnTo>
                  <a:pt x="0" y="21600"/>
                </a:lnTo>
                <a:close/>
              </a:path>
              <a:path fill="lightenLess" w="39367" h="21600">
                <a:moveTo>
                  <a:pt x="0" y="0"/>
                </a:moveTo>
                <a:lnTo>
                  <a:pt x="39367" y="0"/>
                </a:lnTo>
                <a:lnTo>
                  <a:pt x="37967" y="1400"/>
                </a:lnTo>
                <a:lnTo>
                  <a:pt x="1400" y="1400"/>
                </a:lnTo>
                <a:close/>
              </a:path>
              <a:path fill="darken" w="39367" h="21600">
                <a:moveTo>
                  <a:pt x="39367" y="0"/>
                </a:moveTo>
                <a:lnTo>
                  <a:pt x="39367" y="21600"/>
                </a:lnTo>
                <a:lnTo>
                  <a:pt x="37967" y="20200"/>
                </a:lnTo>
                <a:lnTo>
                  <a:pt x="37967" y="1400"/>
                </a:lnTo>
                <a:close/>
              </a:path>
              <a:path fill="darkenLess" w="39367" h="21600">
                <a:moveTo>
                  <a:pt x="393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967" y="20200"/>
                </a:lnTo>
                <a:close/>
              </a:path>
              <a:path fill="lighten" w="393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367" h="21600">
                <a:moveTo>
                  <a:pt x="12677" y="10800"/>
                </a:moveTo>
                <a:lnTo>
                  <a:pt x="26690" y="3794"/>
                </a:lnTo>
                <a:lnTo>
                  <a:pt x="26690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7740720" y="5877000"/>
            <a:ext cx="936720" cy="826920"/>
          </a:xfrm>
          <a:custGeom>
            <a:avLst/>
            <a:gdLst>
              <a:gd name="textAreaLeft" fmla="*/ 53280 w 936720"/>
              <a:gd name="textAreaRight" fmla="*/ 883440 w 936720"/>
              <a:gd name="textAreaTop" fmla="*/ 53280 h 826920"/>
              <a:gd name="textAreaBottom" fmla="*/ 773640 h 826920"/>
            </a:gdLst>
            <a:ahLst/>
            <a:rect l="textAreaLeft" t="textAreaTop" r="textAreaRight" b="textAreaBottom"/>
            <a:pathLst>
              <a:path w="24467" h="21600">
                <a:moveTo>
                  <a:pt x="0" y="0"/>
                </a:moveTo>
                <a:lnTo>
                  <a:pt x="24467" y="0"/>
                </a:lnTo>
                <a:lnTo>
                  <a:pt x="24467" y="21600"/>
                </a:lnTo>
                <a:lnTo>
                  <a:pt x="0" y="21600"/>
                </a:lnTo>
                <a:close/>
              </a:path>
              <a:path fill="lightenLess" w="24467" h="21600">
                <a:moveTo>
                  <a:pt x="0" y="0"/>
                </a:moveTo>
                <a:lnTo>
                  <a:pt x="24467" y="0"/>
                </a:lnTo>
                <a:lnTo>
                  <a:pt x="23067" y="1400"/>
                </a:lnTo>
                <a:lnTo>
                  <a:pt x="1400" y="1400"/>
                </a:lnTo>
                <a:close/>
              </a:path>
              <a:path fill="darken" w="24467" h="21600">
                <a:moveTo>
                  <a:pt x="24467" y="0"/>
                </a:moveTo>
                <a:lnTo>
                  <a:pt x="24467" y="21600"/>
                </a:lnTo>
                <a:lnTo>
                  <a:pt x="23067" y="20200"/>
                </a:lnTo>
                <a:lnTo>
                  <a:pt x="23067" y="1400"/>
                </a:lnTo>
                <a:close/>
              </a:path>
              <a:path fill="darkenLess" w="24467" h="21600">
                <a:moveTo>
                  <a:pt x="244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67" y="20200"/>
                </a:lnTo>
                <a:close/>
              </a:path>
              <a:path fill="lighten" w="244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67" h="21600">
                <a:moveTo>
                  <a:pt x="1223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467" h="21600">
                <a:moveTo>
                  <a:pt x="13339" y="14281"/>
                </a:moveTo>
                <a:lnTo>
                  <a:pt x="13339" y="12323"/>
                </a:lnTo>
                <a:cubicBezTo>
                  <a:pt x="13339" y="11496"/>
                  <a:pt x="13670" y="10800"/>
                  <a:pt x="14270" y="10800"/>
                </a:cubicBezTo>
                <a:cubicBezTo>
                  <a:pt x="15402" y="10800"/>
                  <a:pt x="16298" y="9434"/>
                  <a:pt x="16298" y="7849"/>
                </a:cubicBezTo>
                <a:cubicBezTo>
                  <a:pt x="16298" y="5534"/>
                  <a:pt x="14444" y="3794"/>
                  <a:pt x="12233" y="3794"/>
                </a:cubicBezTo>
                <a:cubicBezTo>
                  <a:pt x="10023" y="3794"/>
                  <a:pt x="8352" y="5534"/>
                  <a:pt x="8352" y="7849"/>
                </a:cubicBezTo>
                <a:lnTo>
                  <a:pt x="10205" y="7849"/>
                </a:lnTo>
                <a:cubicBezTo>
                  <a:pt x="10205" y="6709"/>
                  <a:pt x="11128" y="5821"/>
                  <a:pt x="12233" y="5821"/>
                </a:cubicBezTo>
                <a:cubicBezTo>
                  <a:pt x="13339" y="5821"/>
                  <a:pt x="14270" y="6709"/>
                  <a:pt x="14270" y="7849"/>
                </a:cubicBezTo>
                <a:cubicBezTo>
                  <a:pt x="14270" y="8589"/>
                  <a:pt x="13800" y="9320"/>
                  <a:pt x="13339" y="9320"/>
                </a:cubicBezTo>
                <a:cubicBezTo>
                  <a:pt x="12233" y="9320"/>
                  <a:pt x="11128" y="10800"/>
                  <a:pt x="11128" y="12323"/>
                </a:cubicBezTo>
                <a:lnTo>
                  <a:pt x="11128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Рисунок 1" descr=""/>
          <p:cNvPicPr/>
          <p:nvPr/>
        </p:nvPicPr>
        <p:blipFill>
          <a:blip r:embed="rId1"/>
          <a:stretch/>
        </p:blipFill>
        <p:spPr>
          <a:xfrm>
            <a:off x="6383160" y="4981680"/>
            <a:ext cx="229428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9:14:22Z</dcterms:created>
  <dc:creator>1</dc:creator>
  <dc:description/>
  <dc:language>en-US</dc:language>
  <cp:lastModifiedBy>Татьяна</cp:lastModifiedBy>
  <dcterms:modified xsi:type="dcterms:W3CDTF">2021-12-04T05:57:31Z</dcterms:modified>
  <cp:revision>40</cp:revision>
  <dc:subject/>
  <dc:title>Слайд 1</dc:title>
</cp:coreProperties>
</file>