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F87AF-33F0-4ED9-BA17-A59843DD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C91ED-3E50-4C82-9CB9-30C642F2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EE08E-34E9-4116-819B-22CAA48E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44031-ADCC-4993-9202-9AE084102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08BA-0A8C-4F38-A854-E11A45A8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1DCB-798B-453C-8DE6-9104A307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EAFC-EB09-4A96-915A-69275C16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D945-365E-41B8-A0C0-9CB705B6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E331-C6A6-4068-9619-FE91447C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1ECB-9254-4090-A40C-7F1BEF80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6B7B-106A-486D-AE9D-37D3FB24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14D62-61EF-46B5-8ADB-5CE7BE1B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B3FE-168B-4225-929B-91E7EFEE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D170-8920-4559-8365-879D518E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5115-45D5-46B2-87C2-E8FAE8C5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5B49-DFE0-439B-BA11-6DD4AC23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F902-5F0B-4483-BCC8-047EBF49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A2208-CB5B-4588-8DFB-E8EF504A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0AC86-EF7E-4C2B-A0B3-FBC58DCE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208BD-6E12-40E9-A7C7-A20FE2F1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9DA97-D838-4F38-B662-49EC4769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33802-5FCA-459D-B3C3-991E72B9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45E2D-E169-4476-B74C-4356D271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2B42A-0E16-4F56-AC18-529271A0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15D3-E719-4927-A40E-F7936DCEE14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3A50-EEEC-4064-B774-77155C76D23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51220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Игровые технологии в обучении фонетическому анализу слова».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4500"/>
            </a:b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одготовила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итель русского язы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БОУ школы-интерн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. Малый Толка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слгареева Татьяна Викторолв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21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"/>
          <p:cNvSpPr/>
          <p:nvPr/>
        </p:nvSpPr>
        <p:spPr>
          <a:xfrm>
            <a:off x="611280" y="979560"/>
            <a:ext cx="815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сударственное бюджетное общеобразовательное учреждение  Самарской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«Школа — интернат для обучающихся с ограниченными возможностями здоровь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. Малый Толкай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0" y="3914640"/>
            <a:ext cx="370836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варень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аду созрели груши, яблоки, вишни, смородин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иготовления варенья хозяйка взяла следующие фрук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звании плодов звуков больше, чем бук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ие фрукты взяла хозяй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7020000" y="6165720"/>
            <a:ext cx="718920" cy="540000"/>
          </a:xfrm>
          <a:custGeom>
            <a:avLst/>
            <a:gdLst>
              <a:gd name="textAreaLeft" fmla="*/ 34920 w 718920"/>
              <a:gd name="textAreaRight" fmla="*/ 684000 w 71892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8752" h="21600">
                <a:moveTo>
                  <a:pt x="0" y="0"/>
                </a:moveTo>
                <a:lnTo>
                  <a:pt x="28752" y="0"/>
                </a:lnTo>
                <a:lnTo>
                  <a:pt x="28752" y="21600"/>
                </a:lnTo>
                <a:lnTo>
                  <a:pt x="0" y="21600"/>
                </a:lnTo>
                <a:close/>
              </a:path>
              <a:path fill="lightenLess" w="28752" h="21600">
                <a:moveTo>
                  <a:pt x="0" y="0"/>
                </a:moveTo>
                <a:lnTo>
                  <a:pt x="28752" y="0"/>
                </a:lnTo>
                <a:lnTo>
                  <a:pt x="27352" y="1400"/>
                </a:lnTo>
                <a:lnTo>
                  <a:pt x="1400" y="1400"/>
                </a:lnTo>
                <a:close/>
              </a:path>
              <a:path fill="darken" w="28752" h="21600">
                <a:moveTo>
                  <a:pt x="28752" y="0"/>
                </a:moveTo>
                <a:lnTo>
                  <a:pt x="28752" y="21600"/>
                </a:lnTo>
                <a:lnTo>
                  <a:pt x="27352" y="20200"/>
                </a:lnTo>
                <a:lnTo>
                  <a:pt x="27352" y="1400"/>
                </a:lnTo>
                <a:close/>
              </a:path>
              <a:path fill="darkenLess" w="28752" h="21600">
                <a:moveTo>
                  <a:pt x="28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2" y="20200"/>
                </a:lnTo>
                <a:close/>
              </a:path>
              <a:path fill="lighten" w="28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52" h="21600">
                <a:moveTo>
                  <a:pt x="7370" y="10800"/>
                </a:moveTo>
                <a:lnTo>
                  <a:pt x="21382" y="3794"/>
                </a:lnTo>
                <a:lnTo>
                  <a:pt x="21382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7956720" y="5950080"/>
            <a:ext cx="900000" cy="755640"/>
          </a:xfrm>
          <a:custGeom>
            <a:avLst/>
            <a:gdLst>
              <a:gd name="textAreaLeft" fmla="*/ 48960 w 900000"/>
              <a:gd name="textAreaRight" fmla="*/ 851040 w 90000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5725" h="21600">
                <a:moveTo>
                  <a:pt x="0" y="0"/>
                </a:moveTo>
                <a:lnTo>
                  <a:pt x="25725" y="0"/>
                </a:lnTo>
                <a:lnTo>
                  <a:pt x="25725" y="21600"/>
                </a:lnTo>
                <a:lnTo>
                  <a:pt x="0" y="21600"/>
                </a:lnTo>
                <a:close/>
              </a:path>
              <a:path fill="lightenLess" w="25725" h="21600">
                <a:moveTo>
                  <a:pt x="0" y="0"/>
                </a:moveTo>
                <a:lnTo>
                  <a:pt x="25725" y="0"/>
                </a:lnTo>
                <a:lnTo>
                  <a:pt x="24325" y="1400"/>
                </a:lnTo>
                <a:lnTo>
                  <a:pt x="1400" y="1400"/>
                </a:lnTo>
                <a:close/>
              </a:path>
              <a:path fill="darken" w="25725" h="21600">
                <a:moveTo>
                  <a:pt x="25725" y="0"/>
                </a:moveTo>
                <a:lnTo>
                  <a:pt x="25725" y="21600"/>
                </a:lnTo>
                <a:lnTo>
                  <a:pt x="24325" y="20200"/>
                </a:lnTo>
                <a:lnTo>
                  <a:pt x="24325" y="1400"/>
                </a:lnTo>
                <a:close/>
              </a:path>
              <a:path fill="darkenLess" w="25725" h="21600">
                <a:moveTo>
                  <a:pt x="25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25" y="20200"/>
                </a:lnTo>
                <a:close/>
              </a:path>
              <a:path fill="lighten" w="25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25" h="21600">
                <a:moveTo>
                  <a:pt x="12862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725" h="21600">
                <a:moveTo>
                  <a:pt x="13968" y="14281"/>
                </a:moveTo>
                <a:lnTo>
                  <a:pt x="13968" y="12323"/>
                </a:lnTo>
                <a:cubicBezTo>
                  <a:pt x="13968" y="11496"/>
                  <a:pt x="14298" y="10800"/>
                  <a:pt x="14899" y="10800"/>
                </a:cubicBezTo>
                <a:cubicBezTo>
                  <a:pt x="16030" y="10800"/>
                  <a:pt x="16927" y="9434"/>
                  <a:pt x="16927" y="7849"/>
                </a:cubicBezTo>
                <a:cubicBezTo>
                  <a:pt x="16927" y="5534"/>
                  <a:pt x="15073" y="3794"/>
                  <a:pt x="12862" y="3794"/>
                </a:cubicBezTo>
                <a:cubicBezTo>
                  <a:pt x="10652" y="3794"/>
                  <a:pt x="8980" y="5534"/>
                  <a:pt x="8980" y="7849"/>
                </a:cubicBezTo>
                <a:lnTo>
                  <a:pt x="10834" y="7849"/>
                </a:lnTo>
                <a:cubicBezTo>
                  <a:pt x="10834" y="6709"/>
                  <a:pt x="11757" y="5821"/>
                  <a:pt x="12862" y="5821"/>
                </a:cubicBezTo>
                <a:cubicBezTo>
                  <a:pt x="13968" y="5821"/>
                  <a:pt x="14899" y="6709"/>
                  <a:pt x="14899" y="7849"/>
                </a:cubicBezTo>
                <a:cubicBezTo>
                  <a:pt x="14899" y="8589"/>
                  <a:pt x="14429" y="9320"/>
                  <a:pt x="13968" y="9320"/>
                </a:cubicBezTo>
                <a:cubicBezTo>
                  <a:pt x="12862" y="9320"/>
                  <a:pt x="11757" y="10800"/>
                  <a:pt x="11757" y="12323"/>
                </a:cubicBezTo>
                <a:lnTo>
                  <a:pt x="11757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В магазине»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агазине “Одежда” висят пальто, юбки, блузки, кофты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купила мама дочке, если в названии одежды букв больше, чем звуков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093080" y="6246720"/>
            <a:ext cx="720720" cy="611280"/>
          </a:xfrm>
          <a:custGeom>
            <a:avLst/>
            <a:gdLst>
              <a:gd name="textAreaLeft" fmla="*/ 39600 w 720720"/>
              <a:gd name="textAreaRight" fmla="*/ 681120 w 72072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5465" h="21600">
                <a:moveTo>
                  <a:pt x="0" y="0"/>
                </a:moveTo>
                <a:lnTo>
                  <a:pt x="25465" y="0"/>
                </a:lnTo>
                <a:lnTo>
                  <a:pt x="25465" y="21600"/>
                </a:lnTo>
                <a:lnTo>
                  <a:pt x="0" y="21600"/>
                </a:lnTo>
                <a:close/>
              </a:path>
              <a:path fill="lightenLess" w="25465" h="21600">
                <a:moveTo>
                  <a:pt x="0" y="0"/>
                </a:moveTo>
                <a:lnTo>
                  <a:pt x="25465" y="0"/>
                </a:lnTo>
                <a:lnTo>
                  <a:pt x="24065" y="1400"/>
                </a:lnTo>
                <a:lnTo>
                  <a:pt x="1400" y="1400"/>
                </a:lnTo>
                <a:close/>
              </a:path>
              <a:path fill="darken" w="25465" h="21600">
                <a:moveTo>
                  <a:pt x="25465" y="0"/>
                </a:moveTo>
                <a:lnTo>
                  <a:pt x="25465" y="21600"/>
                </a:lnTo>
                <a:lnTo>
                  <a:pt x="24065" y="20200"/>
                </a:lnTo>
                <a:lnTo>
                  <a:pt x="24065" y="1400"/>
                </a:lnTo>
                <a:close/>
              </a:path>
              <a:path fill="darkenLess" w="25465" h="21600">
                <a:moveTo>
                  <a:pt x="254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65" y="20200"/>
                </a:lnTo>
                <a:close/>
              </a:path>
              <a:path fill="lighten" w="254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65" h="21600">
                <a:moveTo>
                  <a:pt x="5726" y="10800"/>
                </a:moveTo>
                <a:lnTo>
                  <a:pt x="19739" y="3794"/>
                </a:lnTo>
                <a:lnTo>
                  <a:pt x="19739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7885080" y="5886360"/>
            <a:ext cx="1008000" cy="971640"/>
          </a:xfrm>
          <a:custGeom>
            <a:avLst/>
            <a:gdLst>
              <a:gd name="textAreaLeft" fmla="*/ 63000 w 1008000"/>
              <a:gd name="textAreaRight" fmla="*/ 945360 w 1008000"/>
              <a:gd name="textAreaTop" fmla="*/ 63000 h 971640"/>
              <a:gd name="textAreaBottom" fmla="*/ 909000 h 971640"/>
            </a:gdLst>
            <a:ahLst/>
            <a:rect l="textAreaLeft" t="textAreaTop" r="textAreaRight" b="textAreaBottom"/>
            <a:pathLst>
              <a:path w="22408" h="21600">
                <a:moveTo>
                  <a:pt x="0" y="0"/>
                </a:moveTo>
                <a:lnTo>
                  <a:pt x="22408" y="0"/>
                </a:lnTo>
                <a:lnTo>
                  <a:pt x="22408" y="21600"/>
                </a:lnTo>
                <a:lnTo>
                  <a:pt x="0" y="21600"/>
                </a:lnTo>
                <a:close/>
              </a:path>
              <a:path fill="lightenLess" w="22408" h="21600">
                <a:moveTo>
                  <a:pt x="0" y="0"/>
                </a:moveTo>
                <a:lnTo>
                  <a:pt x="22408" y="0"/>
                </a:lnTo>
                <a:lnTo>
                  <a:pt x="21008" y="1400"/>
                </a:lnTo>
                <a:lnTo>
                  <a:pt x="1400" y="1400"/>
                </a:lnTo>
                <a:close/>
              </a:path>
              <a:path fill="darken" w="22408" h="21600">
                <a:moveTo>
                  <a:pt x="22408" y="0"/>
                </a:moveTo>
                <a:lnTo>
                  <a:pt x="22408" y="21600"/>
                </a:lnTo>
                <a:lnTo>
                  <a:pt x="21008" y="20200"/>
                </a:lnTo>
                <a:lnTo>
                  <a:pt x="21008" y="1400"/>
                </a:lnTo>
                <a:close/>
              </a:path>
              <a:path fill="darkenLess" w="22408" h="21600">
                <a:moveTo>
                  <a:pt x="22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08" y="20200"/>
                </a:lnTo>
                <a:close/>
              </a:path>
              <a:path fill="lighten" w="22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08" h="21600">
                <a:moveTo>
                  <a:pt x="1120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2408" h="21600">
                <a:moveTo>
                  <a:pt x="12309" y="14281"/>
                </a:moveTo>
                <a:lnTo>
                  <a:pt x="12309" y="12323"/>
                </a:lnTo>
                <a:cubicBezTo>
                  <a:pt x="12309" y="11496"/>
                  <a:pt x="12640" y="10800"/>
                  <a:pt x="13241" y="10800"/>
                </a:cubicBezTo>
                <a:cubicBezTo>
                  <a:pt x="14372" y="10800"/>
                  <a:pt x="15269" y="9434"/>
                  <a:pt x="15269" y="7849"/>
                </a:cubicBezTo>
                <a:cubicBezTo>
                  <a:pt x="15269" y="5534"/>
                  <a:pt x="13415" y="3794"/>
                  <a:pt x="11204" y="3794"/>
                </a:cubicBezTo>
                <a:cubicBezTo>
                  <a:pt x="8993" y="3794"/>
                  <a:pt x="7322" y="5534"/>
                  <a:pt x="7322" y="7849"/>
                </a:cubicBezTo>
                <a:lnTo>
                  <a:pt x="9176" y="7849"/>
                </a:lnTo>
                <a:cubicBezTo>
                  <a:pt x="9176" y="6709"/>
                  <a:pt x="10099" y="5821"/>
                  <a:pt x="11204" y="5821"/>
                </a:cubicBezTo>
                <a:cubicBezTo>
                  <a:pt x="12309" y="5821"/>
                  <a:pt x="13241" y="6709"/>
                  <a:pt x="13241" y="7849"/>
                </a:cubicBezTo>
                <a:cubicBezTo>
                  <a:pt x="13241" y="8589"/>
                  <a:pt x="12771" y="9320"/>
                  <a:pt x="12309" y="9320"/>
                </a:cubicBezTo>
                <a:cubicBezTo>
                  <a:pt x="11204" y="9320"/>
                  <a:pt x="10099" y="10800"/>
                  <a:pt x="10099" y="12323"/>
                </a:cubicBezTo>
                <a:lnTo>
                  <a:pt x="10099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о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чение навыку звукового анализа сл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ение понятия «безударный-ударный», формирование умения ставить безударный слог в ударное полож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«Парные согласные в конце слова» (закрепление и обобщение знани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6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-приветств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е, какой первый согласный звук в вашей фамилии и покажите сигнальной карточкой звонкий он или глух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артах лежат кубики и колокольчики. Догадайтесь сами,  на каком ряду вы будете сидеть и займите свои мес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Живые буквы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гра «Рыбол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ый из вас должен поймать свою рыбку из волшебного пруда. У каждой рыбки  есть не дописанное слово. Рыбку ловим, прикрепляем на доску и отмечаем синим или зеленым магнитом согласный, который нужно  вставит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7667640" y="5661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"Путешествие в зоопарк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йчас мы отправимся в зоопарк, где увидим разных животных и закрепим ваши знания о парных согласных в корне слова. Вам нужно будет вставить пропущенные буквы и поднять соответствующую карт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гемо…                           медв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774072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Рисунок 6" descr=""/>
          <p:cNvPicPr/>
          <p:nvPr/>
        </p:nvPicPr>
        <p:blipFill>
          <a:blip r:embed="rId1"/>
          <a:stretch/>
        </p:blipFill>
        <p:spPr>
          <a:xfrm>
            <a:off x="1547640" y="3846600"/>
            <a:ext cx="1872000" cy="1527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"/>
          <p:cNvPicPr/>
          <p:nvPr/>
        </p:nvPicPr>
        <p:blipFill>
          <a:blip r:embed="rId2"/>
          <a:stretch/>
        </p:blipFill>
        <p:spPr>
          <a:xfrm>
            <a:off x="4211640" y="3846600"/>
            <a:ext cx="22320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Разгадывание ребусов, кроссвордов.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вшиеся слова записываем, выясняем, какую букву нужно проверить и способ проверки (столб-столб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Рисунок 5" descr=""/>
          <p:cNvPicPr/>
          <p:nvPr/>
        </p:nvPicPr>
        <p:blipFill>
          <a:blip r:embed="rId1"/>
          <a:stretch/>
        </p:blipFill>
        <p:spPr>
          <a:xfrm>
            <a:off x="900000" y="3438360"/>
            <a:ext cx="1727280" cy="12859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2"/>
          <a:stretch/>
        </p:blipFill>
        <p:spPr>
          <a:xfrm>
            <a:off x="5364000" y="3467160"/>
            <a:ext cx="1800360" cy="1257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3"/>
          <a:stretch/>
        </p:blipFill>
        <p:spPr>
          <a:xfrm>
            <a:off x="3132000" y="3467160"/>
            <a:ext cx="18003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4428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560" y="836280"/>
            <a:ext cx="78598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ые технологии в обучении фонетическому анализу слова имеет первостепенное значение для коррекции и формирования фонетической стороны речи и её грамматического строя, а также для умения произносить слова сложной слоговой структуры. Усвоение материала обучающимися с ОВЗ будет более прочным, если осознание звуковой структуры слова и работа по звуковому анализу и синтезу проходит в игровой, занимательной фо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686800" y="1981080"/>
            <a:ext cx="4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7326360" cy="499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1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Ленивый богатырь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Рисунок 1" descr=""/>
          <p:cNvPicPr/>
          <p:nvPr/>
        </p:nvPicPr>
        <p:blipFill>
          <a:blip r:embed="rId1"/>
          <a:stretch/>
        </p:blipFill>
        <p:spPr>
          <a:xfrm>
            <a:off x="1658880" y="1919160"/>
            <a:ext cx="6923160" cy="42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6" dur="indefinite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Игра «Сон Павлуши»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Рисунок 1" descr=""/>
          <p:cNvPicPr/>
          <p:nvPr/>
        </p:nvPicPr>
        <p:blipFill>
          <a:blip r:embed="rId1"/>
          <a:stretch/>
        </p:blipFill>
        <p:spPr>
          <a:xfrm>
            <a:off x="1679400" y="1981080"/>
            <a:ext cx="7196400" cy="40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580000" y="1981080"/>
            <a:ext cx="310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5">
            <a:hlinkClick r:id="rId1" action="ppaction://hlinksldjump"/>
          </p:cNvPr>
          <p:cNvSpPr/>
          <p:nvPr/>
        </p:nvSpPr>
        <p:spPr>
          <a:xfrm>
            <a:off x="7093080" y="6093000"/>
            <a:ext cx="720720" cy="5029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30948" h="21600">
                <a:moveTo>
                  <a:pt x="0" y="0"/>
                </a:moveTo>
                <a:lnTo>
                  <a:pt x="30948" y="0"/>
                </a:lnTo>
                <a:lnTo>
                  <a:pt x="30948" y="21600"/>
                </a:lnTo>
                <a:lnTo>
                  <a:pt x="0" y="21600"/>
                </a:lnTo>
                <a:close/>
              </a:path>
              <a:path fill="lightenLess" w="30948" h="21600">
                <a:moveTo>
                  <a:pt x="0" y="0"/>
                </a:moveTo>
                <a:lnTo>
                  <a:pt x="30948" y="0"/>
                </a:lnTo>
                <a:lnTo>
                  <a:pt x="29548" y="1400"/>
                </a:lnTo>
                <a:lnTo>
                  <a:pt x="1400" y="1400"/>
                </a:lnTo>
                <a:close/>
              </a:path>
              <a:path fill="darken" w="30948" h="21600">
                <a:moveTo>
                  <a:pt x="30948" y="0"/>
                </a:moveTo>
                <a:lnTo>
                  <a:pt x="30948" y="21600"/>
                </a:lnTo>
                <a:lnTo>
                  <a:pt x="29548" y="20200"/>
                </a:lnTo>
                <a:lnTo>
                  <a:pt x="29548" y="1400"/>
                </a:lnTo>
                <a:close/>
              </a:path>
              <a:path fill="darkenLess" w="30948" h="21600">
                <a:moveTo>
                  <a:pt x="30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48" y="20200"/>
                </a:lnTo>
                <a:close/>
              </a:path>
              <a:path fill="lighten" w="30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48" h="21600">
                <a:moveTo>
                  <a:pt x="8467" y="10800"/>
                </a:moveTo>
                <a:lnTo>
                  <a:pt x="22480" y="3794"/>
                </a:lnTo>
                <a:lnTo>
                  <a:pt x="2248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6">
            <a:hlinkClick r:id="rId2" action="ppaction://hlinksldjump"/>
          </p:cNvPr>
          <p:cNvSpPr/>
          <p:nvPr/>
        </p:nvSpPr>
        <p:spPr>
          <a:xfrm>
            <a:off x="7956720" y="566100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250920" y="2413080"/>
            <a:ext cx="5991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чевое недоразвитие детей, отсутствие у них внимания к единице языка, несформированность языковых обобщений, недостатки мыслительной деятельности, сенсомоторной сферы, нарушение звукового анализа и синтеза слова затрудняют усвоение русского языка обучающимис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Рисунок 3" descr=""/>
          <p:cNvPicPr/>
          <p:nvPr/>
        </p:nvPicPr>
        <p:blipFill>
          <a:blip r:embed="rId3"/>
          <a:stretch/>
        </p:blipFill>
        <p:spPr>
          <a:xfrm>
            <a:off x="6242040" y="304920"/>
            <a:ext cx="26859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80" y="1940040"/>
            <a:ext cx="850752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ование наряду с традиционными игровыми технологиями интерактивных игр и других цифровых технологий способствует формированию у детей привычки мыслить самостоятельно, умения сосредотачиваться, проявлять инициативу. Играя в игры, ребенок меняется на глазах, у него возникает желание выполнять задание педагога, развивается речь, психические процессы, обучающиеся развиваются в непринужденной игровой форм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7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8" dur="indefinite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8800" spc="-1" strike="noStrike">
                <a:solidFill>
                  <a:srgbClr val="ffcc00"/>
                </a:solidFill>
                <a:latin typeface="Arial"/>
              </a:rPr>
              <a:t>Спасибо за внимание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9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animClr clrSpc="rgb">
                                      <p:cBhvr>
                                        <p:cTn id="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ecff"/>
                                      </p:to>
                                    </p:animClr>
                                    <p:set>
                                      <p:cBhvr>
                                        <p:cTn id="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611280" y="1484280"/>
            <a:ext cx="79214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игровых технологий в обучении фонетическому анализу слов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 уроках русского языка в коррекционной школе помогает вести изучение и закрепление материала на уровне эмоционального осознания, отсюда развивается познавательный интерес к русскому язык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Коррекция речи"/>
          <p:cNvPicPr/>
          <p:nvPr/>
        </p:nvPicPr>
        <p:blipFill>
          <a:blip r:embed="rId1"/>
          <a:stretch/>
        </p:blipFill>
        <p:spPr>
          <a:xfrm>
            <a:off x="3924360" y="4098960"/>
            <a:ext cx="45021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457200"/>
            <a:ext cx="699444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ребования к организации игровых технолог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Игра – форма деятельности учащихся, в которой осознается окружающий мир, открывается простор для личной активности и творч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Игра должна быть построена на интересе, участники должны получать удовольствие от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Обязателен элемент соревнования между участниками иг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7020000" y="6021360"/>
            <a:ext cx="718920" cy="6494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23910" h="21600">
                <a:moveTo>
                  <a:pt x="0" y="0"/>
                </a:moveTo>
                <a:lnTo>
                  <a:pt x="23910" y="0"/>
                </a:lnTo>
                <a:lnTo>
                  <a:pt x="23910" y="21600"/>
                </a:lnTo>
                <a:lnTo>
                  <a:pt x="0" y="21600"/>
                </a:lnTo>
                <a:close/>
              </a:path>
              <a:path fill="lightenLess" w="23910" h="21600">
                <a:moveTo>
                  <a:pt x="0" y="0"/>
                </a:moveTo>
                <a:lnTo>
                  <a:pt x="23910" y="0"/>
                </a:lnTo>
                <a:lnTo>
                  <a:pt x="22510" y="1400"/>
                </a:lnTo>
                <a:lnTo>
                  <a:pt x="1400" y="1400"/>
                </a:lnTo>
                <a:close/>
              </a:path>
              <a:path fill="darken" w="23910" h="21600">
                <a:moveTo>
                  <a:pt x="23910" y="0"/>
                </a:moveTo>
                <a:lnTo>
                  <a:pt x="23910" y="21600"/>
                </a:lnTo>
                <a:lnTo>
                  <a:pt x="22510" y="20200"/>
                </a:lnTo>
                <a:lnTo>
                  <a:pt x="22510" y="1400"/>
                </a:lnTo>
                <a:close/>
              </a:path>
              <a:path fill="darkenLess" w="23910" h="21600">
                <a:moveTo>
                  <a:pt x="23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10" y="20200"/>
                </a:lnTo>
                <a:close/>
              </a:path>
              <a:path fill="lighten" w="23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10" h="21600">
                <a:moveTo>
                  <a:pt x="4948" y="10800"/>
                </a:moveTo>
                <a:lnTo>
                  <a:pt x="18961" y="3794"/>
                </a:lnTo>
                <a:lnTo>
                  <a:pt x="18961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7885080" y="5734080"/>
            <a:ext cx="971640" cy="900000"/>
          </a:xfrm>
          <a:custGeom>
            <a:avLst/>
            <a:gdLst>
              <a:gd name="textAreaLeft" fmla="*/ 58320 w 971640"/>
              <a:gd name="textAreaRight" fmla="*/ 913320 w 971640"/>
              <a:gd name="textAreaTop" fmla="*/ 58320 h 900000"/>
              <a:gd name="textAreaBottom" fmla="*/ 841680 h 900000"/>
            </a:gdLst>
            <a:ahLst/>
            <a:rect l="textAreaLeft" t="textAreaTop" r="textAreaRight" b="textAreaBottom"/>
            <a:pathLst>
              <a:path w="23319" h="21600">
                <a:moveTo>
                  <a:pt x="0" y="0"/>
                </a:moveTo>
                <a:lnTo>
                  <a:pt x="23319" y="0"/>
                </a:lnTo>
                <a:lnTo>
                  <a:pt x="23319" y="21600"/>
                </a:lnTo>
                <a:lnTo>
                  <a:pt x="0" y="21600"/>
                </a:lnTo>
                <a:close/>
              </a:path>
              <a:path fill="lightenLess" w="23319" h="21600">
                <a:moveTo>
                  <a:pt x="0" y="0"/>
                </a:moveTo>
                <a:lnTo>
                  <a:pt x="23319" y="0"/>
                </a:lnTo>
                <a:lnTo>
                  <a:pt x="21919" y="1400"/>
                </a:lnTo>
                <a:lnTo>
                  <a:pt x="1400" y="1400"/>
                </a:lnTo>
                <a:close/>
              </a:path>
              <a:path fill="darken" w="23319" h="21600">
                <a:moveTo>
                  <a:pt x="23319" y="0"/>
                </a:moveTo>
                <a:lnTo>
                  <a:pt x="23319" y="21600"/>
                </a:lnTo>
                <a:lnTo>
                  <a:pt x="21919" y="20200"/>
                </a:lnTo>
                <a:lnTo>
                  <a:pt x="21919" y="1400"/>
                </a:lnTo>
                <a:close/>
              </a:path>
              <a:path fill="darkenLess" w="23319" h="21600">
                <a:moveTo>
                  <a:pt x="23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19" y="20200"/>
                </a:lnTo>
                <a:close/>
              </a:path>
              <a:path fill="lighten" w="23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19" h="21600">
                <a:moveTo>
                  <a:pt x="116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19" h="21600">
                <a:moveTo>
                  <a:pt x="12765" y="14281"/>
                </a:moveTo>
                <a:lnTo>
                  <a:pt x="12765" y="12323"/>
                </a:lnTo>
                <a:cubicBezTo>
                  <a:pt x="12765" y="11496"/>
                  <a:pt x="13095" y="10800"/>
                  <a:pt x="13696" y="10800"/>
                </a:cubicBezTo>
                <a:cubicBezTo>
                  <a:pt x="14827" y="10800"/>
                  <a:pt x="15724" y="9434"/>
                  <a:pt x="15724" y="7849"/>
                </a:cubicBezTo>
                <a:cubicBezTo>
                  <a:pt x="15724" y="5534"/>
                  <a:pt x="13870" y="3794"/>
                  <a:pt x="11659" y="3794"/>
                </a:cubicBezTo>
                <a:cubicBezTo>
                  <a:pt x="9449" y="3794"/>
                  <a:pt x="7777" y="5534"/>
                  <a:pt x="7777" y="7849"/>
                </a:cubicBezTo>
                <a:lnTo>
                  <a:pt x="9631" y="7849"/>
                </a:lnTo>
                <a:cubicBezTo>
                  <a:pt x="9631" y="6709"/>
                  <a:pt x="10554" y="5821"/>
                  <a:pt x="11659" y="5821"/>
                </a:cubicBezTo>
                <a:cubicBezTo>
                  <a:pt x="12765" y="5821"/>
                  <a:pt x="13696" y="6709"/>
                  <a:pt x="13696" y="7849"/>
                </a:cubicBezTo>
                <a:cubicBezTo>
                  <a:pt x="13696" y="8589"/>
                  <a:pt x="13226" y="9320"/>
                  <a:pt x="12765" y="9320"/>
                </a:cubicBezTo>
                <a:cubicBezTo>
                  <a:pt x="11659" y="9320"/>
                  <a:pt x="10554" y="10800"/>
                  <a:pt x="10554" y="12323"/>
                </a:cubicBezTo>
                <a:lnTo>
                  <a:pt x="10554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ы игровых технологи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упраж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путешеств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соревно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7020000" y="6021360"/>
            <a:ext cx="792000" cy="57636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9676" h="21600">
                <a:moveTo>
                  <a:pt x="0" y="0"/>
                </a:moveTo>
                <a:lnTo>
                  <a:pt x="29676" y="0"/>
                </a:lnTo>
                <a:lnTo>
                  <a:pt x="29676" y="21600"/>
                </a:lnTo>
                <a:lnTo>
                  <a:pt x="0" y="21600"/>
                </a:lnTo>
                <a:close/>
              </a:path>
              <a:path fill="lightenLess" w="29676" h="21600">
                <a:moveTo>
                  <a:pt x="0" y="0"/>
                </a:moveTo>
                <a:lnTo>
                  <a:pt x="29676" y="0"/>
                </a:lnTo>
                <a:lnTo>
                  <a:pt x="28276" y="1400"/>
                </a:lnTo>
                <a:lnTo>
                  <a:pt x="1400" y="1400"/>
                </a:lnTo>
                <a:close/>
              </a:path>
              <a:path fill="darken" w="29676" h="21600">
                <a:moveTo>
                  <a:pt x="29676" y="0"/>
                </a:moveTo>
                <a:lnTo>
                  <a:pt x="29676" y="21600"/>
                </a:lnTo>
                <a:lnTo>
                  <a:pt x="28276" y="20200"/>
                </a:lnTo>
                <a:lnTo>
                  <a:pt x="28276" y="1400"/>
                </a:lnTo>
                <a:close/>
              </a:path>
              <a:path fill="darkenLess" w="29676" h="21600">
                <a:moveTo>
                  <a:pt x="29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6" y="20200"/>
                </a:lnTo>
                <a:close/>
              </a:path>
              <a:path fill="lighten" w="29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6" h="21600">
                <a:moveTo>
                  <a:pt x="7832" y="10800"/>
                </a:moveTo>
                <a:lnTo>
                  <a:pt x="21845" y="3794"/>
                </a:lnTo>
                <a:lnTo>
                  <a:pt x="21845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7956720" y="5661000"/>
            <a:ext cx="898200" cy="898560"/>
          </a:xfrm>
          <a:custGeom>
            <a:avLst/>
            <a:gdLst>
              <a:gd name="textAreaLeft" fmla="*/ 57960 w 898200"/>
              <a:gd name="textAreaRight" fmla="*/ 840240 w 89820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1600" h="21609">
                <a:moveTo>
                  <a:pt x="0" y="0"/>
                </a:moveTo>
                <a:lnTo>
                  <a:pt x="21600" y="0"/>
                </a:lnTo>
                <a:lnTo>
                  <a:pt x="21600" y="21609"/>
                </a:lnTo>
                <a:lnTo>
                  <a:pt x="0" y="21609"/>
                </a:lnTo>
                <a:close/>
              </a:path>
              <a:path fill="lightenLess" w="21600" h="216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9">
                <a:moveTo>
                  <a:pt x="21600" y="0"/>
                </a:moveTo>
                <a:lnTo>
                  <a:pt x="21600" y="21609"/>
                </a:lnTo>
                <a:lnTo>
                  <a:pt x="20200" y="20209"/>
                </a:lnTo>
                <a:lnTo>
                  <a:pt x="20200" y="1400"/>
                </a:lnTo>
                <a:close/>
              </a:path>
              <a:path fill="darkenLess" w="21600" h="21609">
                <a:moveTo>
                  <a:pt x="21600" y="21609"/>
                </a:moveTo>
                <a:lnTo>
                  <a:pt x="0" y="21609"/>
                </a:lnTo>
                <a:lnTo>
                  <a:pt x="1400" y="20209"/>
                </a:lnTo>
                <a:lnTo>
                  <a:pt x="20200" y="20209"/>
                </a:lnTo>
                <a:close/>
              </a:path>
              <a:path fill="lighten" w="21600" h="21609">
                <a:moveTo>
                  <a:pt x="0" y="216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9"/>
                </a:lnTo>
                <a:close/>
              </a:path>
              <a:path fill="darken" w="21600" h="21609">
                <a:moveTo>
                  <a:pt x="10800" y="1480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9">
                <a:moveTo>
                  <a:pt x="11905" y="14286"/>
                </a:moveTo>
                <a:lnTo>
                  <a:pt x="11905" y="12327"/>
                </a:lnTo>
                <a:cubicBezTo>
                  <a:pt x="11905" y="11501"/>
                  <a:pt x="12236" y="10804"/>
                  <a:pt x="12837" y="10804"/>
                </a:cubicBezTo>
                <a:cubicBezTo>
                  <a:pt x="13968" y="10804"/>
                  <a:pt x="14865" y="9438"/>
                  <a:pt x="14865" y="7854"/>
                </a:cubicBezTo>
                <a:cubicBezTo>
                  <a:pt x="14865" y="5539"/>
                  <a:pt x="13011" y="3798"/>
                  <a:pt x="10800" y="3798"/>
                </a:cubicBezTo>
                <a:cubicBezTo>
                  <a:pt x="8589" y="3798"/>
                  <a:pt x="6918" y="5539"/>
                  <a:pt x="6918" y="7854"/>
                </a:cubicBezTo>
                <a:lnTo>
                  <a:pt x="8772" y="7854"/>
                </a:lnTo>
                <a:cubicBezTo>
                  <a:pt x="8772" y="6714"/>
                  <a:pt x="9695" y="5826"/>
                  <a:pt x="10800" y="5826"/>
                </a:cubicBezTo>
                <a:cubicBezTo>
                  <a:pt x="11905" y="5826"/>
                  <a:pt x="12837" y="6714"/>
                  <a:pt x="12837" y="7854"/>
                </a:cubicBezTo>
                <a:cubicBezTo>
                  <a:pt x="12837" y="8594"/>
                  <a:pt x="12367" y="9325"/>
                  <a:pt x="11905" y="9325"/>
                </a:cubicBezTo>
                <a:cubicBezTo>
                  <a:pt x="10800" y="9325"/>
                  <a:pt x="9695" y="10804"/>
                  <a:pt x="9695" y="12327"/>
                </a:cubicBezTo>
                <a:lnTo>
                  <a:pt x="9695" y="1428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1"/>
          <a:stretch/>
        </p:blipFill>
        <p:spPr>
          <a:xfrm>
            <a:off x="4356000" y="3781440"/>
            <a:ext cx="415764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2916360" y="549360"/>
            <a:ext cx="55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гровые технологии используются  для решения следующих обучающих задач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2"/>
          <p:cNvSpPr/>
          <p:nvPr/>
        </p:nvSpPr>
        <p:spPr>
          <a:xfrm>
            <a:off x="826920" y="1628640"/>
            <a:ext cx="777744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формирование навыков восприятия и различения звуков речи: закрепление знаний об изученных звуках, их характеристиках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слухового восприятия, речевого слух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навыку звукового анализа сл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учение детей умению подбирать слова с заданными звуками, делению слов на слог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крепление понятия учащихся, что парные согласные в конце слова произносятся одинаково глухо, и их написание нужно обязательно проверять либо изменением числа, либо подбором родственного слова, у которого после проверяемого согласного звука звучит гласны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ffff"/>
              </a:buClr>
              <a:buSzPct val="8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азвитие орфографической зорк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пы овладения звуковым анализом.</a:t>
            </a:r>
            <a:br>
              <a:rPr sz="24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ый этап посвящается повторению гласных и согласных звуков, закреплению знаний об изученных звуках, их характеристиках (гласный-согласный, твёрдый - мягкий, звонкий - глухой),  о местоположении в словах (начало, середина, конец). </a:t>
            </a:r>
            <a:br>
              <a:rPr sz="20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40000" y="3213000"/>
            <a:ext cx="8147160" cy="28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Разноцветные  буквы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Угадай первый звук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гра «Поймай конец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" Сколько слов со звуком Ш? 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02000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10800"/>
                </a:moveTo>
                <a:lnTo>
                  <a:pt x="21854" y="3794"/>
                </a:lnTo>
                <a:lnTo>
                  <a:pt x="21854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956720" y="5734080"/>
            <a:ext cx="971280" cy="898560"/>
          </a:xfrm>
          <a:custGeom>
            <a:avLst/>
            <a:gdLst>
              <a:gd name="textAreaLeft" fmla="*/ 57960 w 971280"/>
              <a:gd name="textAreaRight" fmla="*/ 913320 w 971280"/>
              <a:gd name="textAreaTop" fmla="*/ 57960 h 898560"/>
              <a:gd name="textAreaBottom" fmla="*/ 840600 h 898560"/>
            </a:gdLst>
            <a:ahLst/>
            <a:rect l="textAreaLeft" t="textAreaTop" r="textAreaRight" b="textAreaBottom"/>
            <a:pathLst>
              <a:path w="23347" h="21600">
                <a:moveTo>
                  <a:pt x="0" y="0"/>
                </a:moveTo>
                <a:lnTo>
                  <a:pt x="23347" y="0"/>
                </a:lnTo>
                <a:lnTo>
                  <a:pt x="23347" y="21600"/>
                </a:lnTo>
                <a:lnTo>
                  <a:pt x="0" y="21600"/>
                </a:lnTo>
                <a:close/>
              </a:path>
              <a:path fill="lightenLess" w="23347" h="21600">
                <a:moveTo>
                  <a:pt x="0" y="0"/>
                </a:moveTo>
                <a:lnTo>
                  <a:pt x="23347" y="0"/>
                </a:lnTo>
                <a:lnTo>
                  <a:pt x="21947" y="1400"/>
                </a:lnTo>
                <a:lnTo>
                  <a:pt x="1400" y="1400"/>
                </a:lnTo>
                <a:close/>
              </a:path>
              <a:path fill="darken" w="23347" h="21600">
                <a:moveTo>
                  <a:pt x="23347" y="0"/>
                </a:moveTo>
                <a:lnTo>
                  <a:pt x="23347" y="21600"/>
                </a:lnTo>
                <a:lnTo>
                  <a:pt x="21947" y="20200"/>
                </a:lnTo>
                <a:lnTo>
                  <a:pt x="21947" y="1400"/>
                </a:lnTo>
                <a:close/>
              </a:path>
              <a:path fill="darkenLess" w="23347" h="21600">
                <a:moveTo>
                  <a:pt x="233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7" y="20200"/>
                </a:lnTo>
                <a:close/>
              </a:path>
              <a:path fill="lighten" w="233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7" h="21600">
                <a:moveTo>
                  <a:pt x="1167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347" h="21600">
                <a:moveTo>
                  <a:pt x="12779" y="14281"/>
                </a:moveTo>
                <a:lnTo>
                  <a:pt x="12779" y="12323"/>
                </a:lnTo>
                <a:cubicBezTo>
                  <a:pt x="12779" y="11496"/>
                  <a:pt x="13110" y="10800"/>
                  <a:pt x="13710" y="10800"/>
                </a:cubicBezTo>
                <a:cubicBezTo>
                  <a:pt x="14842" y="10800"/>
                  <a:pt x="15738" y="9434"/>
                  <a:pt x="15738" y="7849"/>
                </a:cubicBezTo>
                <a:cubicBezTo>
                  <a:pt x="15738" y="5534"/>
                  <a:pt x="13884" y="3794"/>
                  <a:pt x="11674" y="3794"/>
                </a:cubicBezTo>
                <a:cubicBezTo>
                  <a:pt x="9463" y="3794"/>
                  <a:pt x="7792" y="5534"/>
                  <a:pt x="7792" y="7849"/>
                </a:cubicBezTo>
                <a:lnTo>
                  <a:pt x="9646" y="7849"/>
                </a:lnTo>
                <a:cubicBezTo>
                  <a:pt x="9646" y="6709"/>
                  <a:pt x="10568" y="5821"/>
                  <a:pt x="11674" y="5821"/>
                </a:cubicBezTo>
                <a:cubicBezTo>
                  <a:pt x="12779" y="5821"/>
                  <a:pt x="13710" y="6709"/>
                  <a:pt x="13710" y="7849"/>
                </a:cubicBezTo>
                <a:cubicBezTo>
                  <a:pt x="13710" y="8589"/>
                  <a:pt x="13240" y="9320"/>
                  <a:pt x="12779" y="9320"/>
                </a:cubicBezTo>
                <a:cubicBezTo>
                  <a:pt x="11674" y="9320"/>
                  <a:pt x="10568" y="10800"/>
                  <a:pt x="10568" y="12323"/>
                </a:cubicBezTo>
                <a:lnTo>
                  <a:pt x="1056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280" y="1412640"/>
            <a:ext cx="6491160" cy="33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закрепления фонетических умений необходимо упражнять детей в подборе слова к звуковой схеме. Обучающимся очень нравятся игры, связанные с жизненным опытом ребен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5640" y="2701440"/>
            <a:ext cx="676908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Новоселье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«В зоопарк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а “Рыбалка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7020000" y="6165720"/>
            <a:ext cx="647640" cy="505080"/>
          </a:xfrm>
          <a:custGeom>
            <a:avLst/>
            <a:gdLst>
              <a:gd name="textAreaLeft" fmla="*/ 32400 w 647640"/>
              <a:gd name="textAreaRight" fmla="*/ 614880 w 64764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7692" h="21600">
                <a:moveTo>
                  <a:pt x="0" y="0"/>
                </a:moveTo>
                <a:lnTo>
                  <a:pt x="27692" y="0"/>
                </a:lnTo>
                <a:lnTo>
                  <a:pt x="27692" y="21600"/>
                </a:lnTo>
                <a:lnTo>
                  <a:pt x="0" y="21600"/>
                </a:lnTo>
                <a:close/>
              </a:path>
              <a:path fill="lightenLess" w="27692" h="21600">
                <a:moveTo>
                  <a:pt x="0" y="0"/>
                </a:moveTo>
                <a:lnTo>
                  <a:pt x="27692" y="0"/>
                </a:lnTo>
                <a:lnTo>
                  <a:pt x="26292" y="1400"/>
                </a:lnTo>
                <a:lnTo>
                  <a:pt x="1400" y="1400"/>
                </a:lnTo>
                <a:close/>
              </a:path>
              <a:path fill="darken" w="27692" h="21600">
                <a:moveTo>
                  <a:pt x="27692" y="0"/>
                </a:moveTo>
                <a:lnTo>
                  <a:pt x="27692" y="21600"/>
                </a:lnTo>
                <a:lnTo>
                  <a:pt x="26292" y="20200"/>
                </a:lnTo>
                <a:lnTo>
                  <a:pt x="26292" y="1400"/>
                </a:lnTo>
                <a:close/>
              </a:path>
              <a:path fill="darkenLess" w="27692" h="21600">
                <a:moveTo>
                  <a:pt x="27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92" y="20200"/>
                </a:lnTo>
                <a:close/>
              </a:path>
              <a:path fill="lighten" w="27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92" h="21600">
                <a:moveTo>
                  <a:pt x="6840" y="10800"/>
                </a:moveTo>
                <a:lnTo>
                  <a:pt x="20853" y="3794"/>
                </a:lnTo>
                <a:lnTo>
                  <a:pt x="20853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7885080" y="5877000"/>
            <a:ext cx="971640" cy="755640"/>
          </a:xfrm>
          <a:custGeom>
            <a:avLst/>
            <a:gdLst>
              <a:gd name="textAreaLeft" fmla="*/ 48960 w 971640"/>
              <a:gd name="textAreaRight" fmla="*/ 922680 w 971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7771" h="21600">
                <a:moveTo>
                  <a:pt x="0" y="0"/>
                </a:moveTo>
                <a:lnTo>
                  <a:pt x="27771" y="0"/>
                </a:lnTo>
                <a:lnTo>
                  <a:pt x="27771" y="21600"/>
                </a:lnTo>
                <a:lnTo>
                  <a:pt x="0" y="21600"/>
                </a:lnTo>
                <a:close/>
              </a:path>
              <a:path fill="lightenLess" w="27771" h="21600">
                <a:moveTo>
                  <a:pt x="0" y="0"/>
                </a:moveTo>
                <a:lnTo>
                  <a:pt x="27771" y="0"/>
                </a:lnTo>
                <a:lnTo>
                  <a:pt x="26371" y="1400"/>
                </a:lnTo>
                <a:lnTo>
                  <a:pt x="1400" y="1400"/>
                </a:lnTo>
                <a:close/>
              </a:path>
              <a:path fill="darken" w="27771" h="21600">
                <a:moveTo>
                  <a:pt x="27771" y="0"/>
                </a:moveTo>
                <a:lnTo>
                  <a:pt x="27771" y="21600"/>
                </a:lnTo>
                <a:lnTo>
                  <a:pt x="26371" y="20200"/>
                </a:lnTo>
                <a:lnTo>
                  <a:pt x="26371" y="1400"/>
                </a:lnTo>
                <a:close/>
              </a:path>
              <a:path fill="darkenLess" w="27771" h="21600">
                <a:moveTo>
                  <a:pt x="27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1" y="20200"/>
                </a:lnTo>
                <a:close/>
              </a:path>
              <a:path fill="lighten" w="27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1" h="21600">
                <a:moveTo>
                  <a:pt x="1388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771" h="21600">
                <a:moveTo>
                  <a:pt x="14991" y="14281"/>
                </a:moveTo>
                <a:lnTo>
                  <a:pt x="14991" y="12323"/>
                </a:lnTo>
                <a:cubicBezTo>
                  <a:pt x="14991" y="11496"/>
                  <a:pt x="15322" y="10800"/>
                  <a:pt x="15922" y="10800"/>
                </a:cubicBezTo>
                <a:cubicBezTo>
                  <a:pt x="17054" y="10800"/>
                  <a:pt x="17950" y="9434"/>
                  <a:pt x="17950" y="7849"/>
                </a:cubicBezTo>
                <a:cubicBezTo>
                  <a:pt x="17950" y="5534"/>
                  <a:pt x="16096" y="3794"/>
                  <a:pt x="13886" y="3794"/>
                </a:cubicBezTo>
                <a:cubicBezTo>
                  <a:pt x="11675" y="3794"/>
                  <a:pt x="10004" y="5534"/>
                  <a:pt x="10004" y="7849"/>
                </a:cubicBezTo>
                <a:lnTo>
                  <a:pt x="11858" y="7849"/>
                </a:lnTo>
                <a:cubicBezTo>
                  <a:pt x="11858" y="6709"/>
                  <a:pt x="12780" y="5821"/>
                  <a:pt x="13886" y="5821"/>
                </a:cubicBezTo>
                <a:cubicBezTo>
                  <a:pt x="14991" y="5821"/>
                  <a:pt x="15922" y="6709"/>
                  <a:pt x="15922" y="7849"/>
                </a:cubicBezTo>
                <a:cubicBezTo>
                  <a:pt x="15922" y="8589"/>
                  <a:pt x="15452" y="9320"/>
                  <a:pt x="14991" y="9320"/>
                </a:cubicBezTo>
                <a:cubicBezTo>
                  <a:pt x="13886" y="9320"/>
                  <a:pt x="12780" y="10800"/>
                  <a:pt x="12780" y="12323"/>
                </a:cubicBezTo>
                <a:lnTo>
                  <a:pt x="12780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а «Приготовление салат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7081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городе выросли следующие овощи:  укроп, картофель, огурец, помидор, лук, перец, чеснок. Хозяйка для приготовления салата взяла следующие овощ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- в слове 2 слога, 7 букв, 6 звуко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- в слове 2 слога, ударение падает на первый слог, 2 согласных звука мягки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 - в слове 1 слог, все согласные звуки тверды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 - в слове 3 слога, 7 букв,7 зву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риготовления салата хозяйка взяла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орковь, перец, лук, помид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6804000" y="6308640"/>
            <a:ext cx="720720" cy="395280"/>
          </a:xfrm>
          <a:custGeom>
            <a:avLst/>
            <a:gdLst>
              <a:gd name="textAreaLeft" fmla="*/ 25560 w 720720"/>
              <a:gd name="textAreaRight" fmla="*/ 695160 w 720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39367" h="21600">
                <a:moveTo>
                  <a:pt x="0" y="0"/>
                </a:moveTo>
                <a:lnTo>
                  <a:pt x="39367" y="0"/>
                </a:lnTo>
                <a:lnTo>
                  <a:pt x="39367" y="21600"/>
                </a:lnTo>
                <a:lnTo>
                  <a:pt x="0" y="21600"/>
                </a:lnTo>
                <a:close/>
              </a:path>
              <a:path fill="lightenLess" w="39367" h="21600">
                <a:moveTo>
                  <a:pt x="0" y="0"/>
                </a:moveTo>
                <a:lnTo>
                  <a:pt x="39367" y="0"/>
                </a:lnTo>
                <a:lnTo>
                  <a:pt x="37967" y="1400"/>
                </a:lnTo>
                <a:lnTo>
                  <a:pt x="1400" y="1400"/>
                </a:lnTo>
                <a:close/>
              </a:path>
              <a:path fill="darken" w="39367" h="21600">
                <a:moveTo>
                  <a:pt x="39367" y="0"/>
                </a:moveTo>
                <a:lnTo>
                  <a:pt x="39367" y="21600"/>
                </a:lnTo>
                <a:lnTo>
                  <a:pt x="37967" y="20200"/>
                </a:lnTo>
                <a:lnTo>
                  <a:pt x="37967" y="1400"/>
                </a:lnTo>
                <a:close/>
              </a:path>
              <a:path fill="darkenLess" w="39367" h="21600">
                <a:moveTo>
                  <a:pt x="393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967" y="20200"/>
                </a:lnTo>
                <a:close/>
              </a:path>
              <a:path fill="lighten" w="393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367" h="21600">
                <a:moveTo>
                  <a:pt x="12677" y="10800"/>
                </a:moveTo>
                <a:lnTo>
                  <a:pt x="26690" y="3794"/>
                </a:lnTo>
                <a:lnTo>
                  <a:pt x="26690" y="17806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7740720" y="5877000"/>
            <a:ext cx="936720" cy="826920"/>
          </a:xfrm>
          <a:custGeom>
            <a:avLst/>
            <a:gdLst>
              <a:gd name="textAreaLeft" fmla="*/ 53280 w 936720"/>
              <a:gd name="textAreaRight" fmla="*/ 883440 w 93672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4467" h="21600">
                <a:moveTo>
                  <a:pt x="0" y="0"/>
                </a:moveTo>
                <a:lnTo>
                  <a:pt x="24467" y="0"/>
                </a:lnTo>
                <a:lnTo>
                  <a:pt x="24467" y="21600"/>
                </a:lnTo>
                <a:lnTo>
                  <a:pt x="0" y="21600"/>
                </a:lnTo>
                <a:close/>
              </a:path>
              <a:path fill="lightenLess" w="24467" h="21600">
                <a:moveTo>
                  <a:pt x="0" y="0"/>
                </a:moveTo>
                <a:lnTo>
                  <a:pt x="24467" y="0"/>
                </a:lnTo>
                <a:lnTo>
                  <a:pt x="23067" y="1400"/>
                </a:lnTo>
                <a:lnTo>
                  <a:pt x="1400" y="1400"/>
                </a:lnTo>
                <a:close/>
              </a:path>
              <a:path fill="darken" w="24467" h="21600">
                <a:moveTo>
                  <a:pt x="24467" y="0"/>
                </a:moveTo>
                <a:lnTo>
                  <a:pt x="24467" y="21600"/>
                </a:lnTo>
                <a:lnTo>
                  <a:pt x="23067" y="20200"/>
                </a:lnTo>
                <a:lnTo>
                  <a:pt x="23067" y="1400"/>
                </a:lnTo>
                <a:close/>
              </a:path>
              <a:path fill="darkenLess" w="24467" h="21600">
                <a:moveTo>
                  <a:pt x="24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67" y="20200"/>
                </a:lnTo>
                <a:close/>
              </a:path>
              <a:path fill="lighten" w="24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67" h="21600">
                <a:moveTo>
                  <a:pt x="1223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467" h="21600">
                <a:moveTo>
                  <a:pt x="13339" y="14281"/>
                </a:moveTo>
                <a:lnTo>
                  <a:pt x="13339" y="12323"/>
                </a:lnTo>
                <a:cubicBezTo>
                  <a:pt x="13339" y="11496"/>
                  <a:pt x="13670" y="10800"/>
                  <a:pt x="14270" y="10800"/>
                </a:cubicBezTo>
                <a:cubicBezTo>
                  <a:pt x="15402" y="10800"/>
                  <a:pt x="16298" y="9434"/>
                  <a:pt x="16298" y="7849"/>
                </a:cubicBezTo>
                <a:cubicBezTo>
                  <a:pt x="16298" y="5534"/>
                  <a:pt x="14444" y="3794"/>
                  <a:pt x="12233" y="3794"/>
                </a:cubicBezTo>
                <a:cubicBezTo>
                  <a:pt x="10023" y="3794"/>
                  <a:pt x="8352" y="5534"/>
                  <a:pt x="8352" y="7849"/>
                </a:cubicBezTo>
                <a:lnTo>
                  <a:pt x="10205" y="7849"/>
                </a:lnTo>
                <a:cubicBezTo>
                  <a:pt x="10205" y="6709"/>
                  <a:pt x="11128" y="5821"/>
                  <a:pt x="12233" y="5821"/>
                </a:cubicBezTo>
                <a:cubicBezTo>
                  <a:pt x="13339" y="5821"/>
                  <a:pt x="14270" y="6709"/>
                  <a:pt x="14270" y="7849"/>
                </a:cubicBezTo>
                <a:cubicBezTo>
                  <a:pt x="14270" y="8589"/>
                  <a:pt x="13800" y="9320"/>
                  <a:pt x="13339" y="9320"/>
                </a:cubicBezTo>
                <a:cubicBezTo>
                  <a:pt x="12233" y="9320"/>
                  <a:pt x="11128" y="10800"/>
                  <a:pt x="11128" y="12323"/>
                </a:cubicBezTo>
                <a:lnTo>
                  <a:pt x="11128" y="14281"/>
                </a:lnTo>
                <a:close/>
              </a:path>
            </a:pathLst>
          </a:custGeom>
          <a:solidFill>
            <a:srgbClr val="0078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6383160" y="4981680"/>
            <a:ext cx="22942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9:14:22Z</dcterms:created>
  <dc:creator>1</dc:creator>
  <dc:description/>
  <dc:language>en-US</dc:language>
  <cp:lastModifiedBy>Татьяна</cp:lastModifiedBy>
  <dcterms:modified xsi:type="dcterms:W3CDTF">2021-12-04T05:57:31Z</dcterms:modified>
  <cp:revision>40</cp:revision>
  <dc:subject/>
  <dc:title>Слайд 1</dc:title>
</cp:coreProperties>
</file>