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A254-57A6-49C1-BAD2-EC14030E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F42-B459-445C-A822-B0218D8C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EFFE-0B04-43BB-A553-09796E6D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A28-0429-4B4C-98CE-466E7242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7570-BC27-4733-BE62-5D11D93A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4D1F-67A3-4796-B720-374F0CBB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237A-46BA-4ADD-8A17-DABE567F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3521-1132-4543-9959-72EC217B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FB8B-126D-4526-9ECA-0145279F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4CB7-5C75-45A1-AAD1-E6F386DC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E7DA-12FD-41CD-9138-DE4D5BE8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6760-397C-422A-9191-412662A5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6812-62A9-424C-8301-558E155E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14B4-1EE5-46D6-98F1-ABAD6C03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006F-6B51-4256-821B-4C5FE8E0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6A34-EEAA-48E8-A1D9-06C741FA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644B-FA54-49E8-9C6B-DBDF890B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0ECB1-E557-4989-B390-640A3686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BBE43-917F-4534-BA46-E46C654D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5A647-BCC5-42A0-B21F-E6F32AFA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77DB5-9F8F-404B-B951-0C0BFEDC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03CEC-B953-4CBC-ABBA-7FF1F9E6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493-B22A-4D90-B9FE-395BEE52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D1F8C-7BDF-43D0-8228-B12B54A4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04E30-AEA5-45DD-8BD1-5EAB27A9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C4D1C-1396-49AB-B36D-CFE12BDB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7774F-09ED-4E36-AB0F-06BBC1B8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16835-F992-4CDA-AAA4-BFA64A87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0A855-0C48-4B2F-B26C-FF17C716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14046-BFDE-48DB-AF37-49245A5D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8FD91-351C-4177-9FC4-3E1D7F3E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2C78B-19FA-4BD7-B1F0-B3B55FA4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416F4-B6E2-483D-A351-EEB1C7D1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741B-FEF3-4DD4-AB1A-93A977BA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AFD4E-819F-48E7-A32F-99B70B65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05D77-7471-462F-A058-65F63ABB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14FA6-0D1E-41AC-8F04-C5E72F6F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C4ABD-36E9-47BE-9F9E-74511AF9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A42D9-7D02-4042-9965-8F8EB97E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2AA59-95EF-46D3-8DB6-43396290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317B9-3DDF-43B6-9A0E-3B0EEEFB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92BE6-E0EC-4B96-847A-701C9F01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A8966-F44D-4E36-AF91-CCFF1DA6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D09-CE09-407E-B3A2-D3504151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D514-09FB-4E28-A89D-BE484E7B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33D-8303-41DB-A25B-EBE0C524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F86A-020A-4723-A404-2711CA47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033-A2E1-4749-B6A7-76B21995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7F53-C4E4-4919-AAE3-E951946AE53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B083-3CDF-4CFE-BC97-69CA047F962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1DB9-2A43-499A-AC95-929AF5C87E7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ADCE-8BE8-439B-A7FC-F83F99EE719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maze.com/@ALORZQLW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1600200"/>
            <a:ext cx="6605280" cy="21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«Формирование у учащихся с ОВ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ценностных ориентаций через знакомств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сельскохозяйственными профессиями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114440" y="4876560"/>
            <a:ext cx="31035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Наталия Васильевна,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Гульсара Ахметжанов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1676520" y="380880"/>
            <a:ext cx="5410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им.Н.С. Доровского с. Подбель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1083240" y="77004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кибернетик или агроинфор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https://vuzopedia.ru/storage/app/uploads/public/5e4/d98/e88/5e4d98e886862166335606.jpeg"/>
          <p:cNvPicPr/>
          <p:nvPr/>
        </p:nvPicPr>
        <p:blipFill>
          <a:blip r:embed="rId1"/>
          <a:stretch/>
        </p:blipFill>
        <p:spPr>
          <a:xfrm>
            <a:off x="228600" y="1531800"/>
            <a:ext cx="79088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2669040" y="77004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инже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https://mycalling.ru/wp-content/uploads/2015/01/agroinjener.jpg"/>
          <p:cNvPicPr/>
          <p:nvPr/>
        </p:nvPicPr>
        <p:blipFill>
          <a:blip r:embed="rId1"/>
          <a:stretch/>
        </p:blipFill>
        <p:spPr>
          <a:xfrm>
            <a:off x="762120" y="1538280"/>
            <a:ext cx="6858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485280" y="770040"/>
            <a:ext cx="63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ератор автоматизированной сельхоз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https://postupi.online/images/img_art/17227.jpg"/>
          <p:cNvPicPr/>
          <p:nvPr/>
        </p:nvPicPr>
        <p:blipFill>
          <a:blip r:embed="rId1"/>
          <a:stretch/>
        </p:blipFill>
        <p:spPr>
          <a:xfrm>
            <a:off x="252360" y="1459080"/>
            <a:ext cx="3943440" cy="219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ttps://dogruhaber.com.tr/images/19/23/resim-a67d2036.jpg"/>
          <p:cNvPicPr/>
          <p:nvPr/>
        </p:nvPicPr>
        <p:blipFill>
          <a:blip r:embed="rId2"/>
          <a:stretch/>
        </p:blipFill>
        <p:spPr>
          <a:xfrm>
            <a:off x="254160" y="3860640"/>
            <a:ext cx="3941640" cy="252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https://www.agrobase.ru/uploads/publications/2020/09/02/kphl8hcvptm.jpg"/>
          <p:cNvPicPr/>
          <p:nvPr/>
        </p:nvPicPr>
        <p:blipFill>
          <a:blip r:embed="rId3"/>
          <a:stretch/>
        </p:blipFill>
        <p:spPr>
          <a:xfrm>
            <a:off x="4343400" y="205740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2688840" y="7700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ти-фер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s://www.sakhanews.ru/files/121971.jpg"/>
          <p:cNvPicPr/>
          <p:nvPr/>
        </p:nvPicPr>
        <p:blipFill>
          <a:blip r:embed="rId1"/>
          <a:stretch/>
        </p:blipFill>
        <p:spPr>
          <a:xfrm>
            <a:off x="184320" y="1231920"/>
            <a:ext cx="4651200" cy="2583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s://assets.weforum.org/article/image/9DwCZeI539WRp5-zL9rt9P8FA3KYLoztP0vPjK6Y6fo.jpg"/>
          <p:cNvPicPr/>
          <p:nvPr/>
        </p:nvPicPr>
        <p:blipFill>
          <a:blip r:embed="rId2"/>
          <a:stretch/>
        </p:blipFill>
        <p:spPr>
          <a:xfrm>
            <a:off x="2590920" y="39942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1374840" y="386856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1"/>
              </a:rPr>
              <a:t>https://www.emaze.com/@ALORZQLWZ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991440" y="1219320"/>
            <a:ext cx="59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туальная экскур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в мир професс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: вниз 9"/>
          <p:cNvSpPr/>
          <p:nvPr/>
        </p:nvSpPr>
        <p:spPr>
          <a:xfrm>
            <a:off x="3733920" y="2624040"/>
            <a:ext cx="457200" cy="83520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958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457200" y="1343160"/>
            <a:ext cx="72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-  воспитание школьников, способных к добровольному выбору сельского образа жизни, готовых к умелому сочетанию трудовой деятельности и заботливого, бережного отношения к земле, к окружающей при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7083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348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Какие профессии ты знаешь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0488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152640" y="25848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Растениеводство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ном – специалист по работе с растениям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Рисунок 5" descr=""/>
          <p:cNvPicPr/>
          <p:nvPr/>
        </p:nvPicPr>
        <p:blipFill>
          <a:blip r:embed="rId1"/>
          <a:stretch/>
        </p:blipFill>
        <p:spPr>
          <a:xfrm>
            <a:off x="4419720" y="3711600"/>
            <a:ext cx="3889080" cy="2917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s://skillsfactory.com.ua/wp-content/uploads/2019/03/agronom-2-1024x800.jpg"/>
          <p:cNvPicPr/>
          <p:nvPr/>
        </p:nvPicPr>
        <p:blipFill>
          <a:blip r:embed="rId2"/>
          <a:stretch/>
        </p:blipFill>
        <p:spPr>
          <a:xfrm>
            <a:off x="380880" y="3809880"/>
            <a:ext cx="3733920" cy="2917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blog.startupnationcentral.org/wp-content/uploads/shutterstock_289763240.jpg"/>
          <p:cNvPicPr/>
          <p:nvPr/>
        </p:nvPicPr>
        <p:blipFill>
          <a:blip r:embed="rId3"/>
          <a:stretch/>
        </p:blipFill>
        <p:spPr>
          <a:xfrm>
            <a:off x="2212920" y="1219320"/>
            <a:ext cx="4038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152640" y="22824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химик</a:t>
            </a:r>
            <a:br>
              <a:rPr sz="2500"/>
            </a:b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В его обязанностях – проведение различных химических анализов, которые могут помочь определить направление ведения работ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Picture 2" descr="https://www.stavagroland.ru/wp-content/uploads/2013/05/participation-in-joint-exercises-cpc-01.jpg"/>
          <p:cNvPicPr/>
          <p:nvPr/>
        </p:nvPicPr>
        <p:blipFill>
          <a:blip r:embed="rId1"/>
          <a:stretch/>
        </p:blipFill>
        <p:spPr>
          <a:xfrm>
            <a:off x="152280" y="19810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s://www.stavagroland.ru/wp-content/uploads/2015/07/we-investigate-watermelons-for-ren-tv-02.jpg"/>
          <p:cNvPicPr/>
          <p:nvPr/>
        </p:nvPicPr>
        <p:blipFill>
          <a:blip r:embed="rId2"/>
          <a:stretch/>
        </p:blipFill>
        <p:spPr>
          <a:xfrm>
            <a:off x="3301920" y="3192480"/>
            <a:ext cx="555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152640" y="38052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Тракторист-машинист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охозяйственного производств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Профессии сельского хозяйства - Агроинженер"/>
          <p:cNvPicPr/>
          <p:nvPr/>
        </p:nvPicPr>
        <p:blipFill>
          <a:blip r:embed="rId1"/>
          <a:stretch/>
        </p:blipFill>
        <p:spPr>
          <a:xfrm>
            <a:off x="304920" y="2057400"/>
            <a:ext cx="731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Инженер по водному хозяйству и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мелиорац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Профессии сельского хозяйства - Мелиоратор"/>
          <p:cNvPicPr/>
          <p:nvPr/>
        </p:nvPicPr>
        <p:blipFill>
          <a:blip r:embed="rId1"/>
          <a:stretch/>
        </p:blipFill>
        <p:spPr>
          <a:xfrm>
            <a:off x="171360" y="1752480"/>
            <a:ext cx="7391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4533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Умные технолог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Picture 2" descr="https://iot.skoltech.ru/wp-content/uploads/2019/04/0-9d0aJbqHNCu1u41Q.jpg"/>
          <p:cNvPicPr/>
          <p:nvPr/>
        </p:nvPicPr>
        <p:blipFill>
          <a:blip r:embed="rId1"/>
          <a:stretch/>
        </p:blipFill>
        <p:spPr>
          <a:xfrm>
            <a:off x="422280" y="1171440"/>
            <a:ext cx="3727440" cy="2484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"/>
          <p:cNvSpPr/>
          <p:nvPr/>
        </p:nvSpPr>
        <p:spPr>
          <a:xfrm>
            <a:off x="228600" y="60948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30"/>
                </a:solidFill>
                <a:latin typeface="Muli"/>
              </a:rPr>
              <a:t>Сбор информации о состоянии окружающей среды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4149720" y="213372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529"/>
                </a:solidFill>
                <a:latin typeface="Montserrat"/>
              </a:rPr>
              <a:t>Система призвана облегчить фермерам принятие ежедневных решений, от которых в итоге зависит урожай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https://foodovik.com/upload/iblock/738/73871e9a1fee82ec4bb7f523ede0a018.jpg"/>
          <p:cNvPicPr/>
          <p:nvPr/>
        </p:nvPicPr>
        <p:blipFill>
          <a:blip r:embed="rId2"/>
          <a:stretch/>
        </p:blipFill>
        <p:spPr>
          <a:xfrm>
            <a:off x="2895480" y="3408480"/>
            <a:ext cx="49118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22-11-27T17:11:4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