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15C-507D-4F47-B240-128D56FA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97A-1E5F-4CF8-BC58-C3E3C1A1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85C-0823-4379-8095-1DF9605A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151-A84E-45EB-87EE-F8B393102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0D50-DE58-4D94-940B-D57E478F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4837-F172-41D3-971A-684733D5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9771-C44B-4D27-A24C-C79EA22E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C1AA-A644-446C-887A-78485674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901B-254F-402D-8160-EE7D0D00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EC32-2D0A-4776-AB15-3B37A59A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2EB3-30AC-414F-9C57-C0D911E2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10D-CBC1-4228-9E99-029F903E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D224-2CFB-4AEF-8664-21C5A087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A349-C4CB-42A5-891C-ED4D1C5E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4FCB-67DB-4F37-8C93-215DF7C4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D060-C824-438E-B1C7-D5F2AB75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DB43-308E-4045-AA68-3E61A918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166C4-2495-478D-9899-37EF68D3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1E3A-970B-437F-BBFB-D779B5F4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04D1C-E9B8-42D1-BCC5-EBBA1B86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12BE-A4DB-4645-8AE1-875D4482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7E7E3-A816-4452-B69D-124B448F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67F-D577-47EE-A8E8-60B3A195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32B8F-F014-41DC-A036-247FCF8E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F49A-DEB1-46EB-B44D-F30E2A3B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0977-CC98-413E-B4E3-0DD0B5B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6CD09-88A2-4AD0-87EB-BB8CCD79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4C88-9632-410F-820A-D6189CAA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C55BB-AEDB-4DCC-B6D5-FD913484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C27DB-432B-4CD7-8240-23FA419D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CCCB-C22C-49C6-8527-EAF87549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7015-C5DC-42AA-BBDC-ACEDE80A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9A30-69F5-454D-89EB-8C0C2818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718-41CF-488E-9047-D82DC764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AFB3-1F9A-493B-96BA-C0BAEE3E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B0592-76BA-41AF-A116-7BD1FE7B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59504-F387-4B84-BDFA-2AD471EB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B4C9-E47C-4E3D-A833-75CF29A8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7272B-DEEF-4D6D-9028-9799BF9B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7961-D50B-4DE8-9B40-523BD428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5F34-8A11-49FB-B225-69CCA271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31F4-A7E7-4841-A544-3F0374B8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158CC-5EE1-4F2C-A4E6-9B4234DD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D60-8AFC-4A8B-88D0-391AB487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BA4-3124-418A-967B-24FD092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D59-61F1-46B9-A9CC-AD2F8909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319-3057-4F4C-BE2A-FEE883AD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34B-E1B7-4A94-BAE5-F934A871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CC35-A6F9-4857-845B-7DB39FA7A6A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7FD1-D2E7-480D-B7FB-DE8AC03F2C3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8B46-07C7-47B0-A00D-8A4153E7DB9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F111-D5AD-4374-8222-8E50078DA68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maze.com/@ALORZQLW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1600200"/>
            <a:ext cx="6605280" cy="213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Формирование у учащихся с ОВ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ценностных ориентаций через знакомств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 сельскохозяйственными профессиями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114440" y="4876560"/>
            <a:ext cx="31035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Наталия Васильевна,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жамова Гульсара Ахметжановна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1676520" y="380880"/>
            <a:ext cx="5410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СОШ им.Н.С. Доровского с. Подбель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Прямоугольник 3"/>
          <p:cNvSpPr/>
          <p:nvPr/>
        </p:nvSpPr>
        <p:spPr>
          <a:xfrm>
            <a:off x="1083240" y="7700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кибернетик или агроинфор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https://vuzopedia.ru/storage/app/uploads/public/5e4/d98/e88/5e4d98e886862166335606.jpeg"/>
          <p:cNvPicPr/>
          <p:nvPr/>
        </p:nvPicPr>
        <p:blipFill>
          <a:blip r:embed="rId1"/>
          <a:stretch/>
        </p:blipFill>
        <p:spPr>
          <a:xfrm>
            <a:off x="228600" y="1531800"/>
            <a:ext cx="79088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2669040" y="7700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Агроинже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https://mycalling.ru/wp-content/uploads/2015/01/agroinjener.jpg"/>
          <p:cNvPicPr/>
          <p:nvPr/>
        </p:nvPicPr>
        <p:blipFill>
          <a:blip r:embed="rId1"/>
          <a:stretch/>
        </p:blipFill>
        <p:spPr>
          <a:xfrm>
            <a:off x="762120" y="1538280"/>
            <a:ext cx="685800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85280" y="770040"/>
            <a:ext cx="63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ператор автоматизированной сельхозтех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https://postupi.online/images/img_art/17227.jpg"/>
          <p:cNvPicPr/>
          <p:nvPr/>
        </p:nvPicPr>
        <p:blipFill>
          <a:blip r:embed="rId1"/>
          <a:stretch/>
        </p:blipFill>
        <p:spPr>
          <a:xfrm>
            <a:off x="252360" y="1459080"/>
            <a:ext cx="3943440" cy="219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https://dogruhaber.com.tr/images/19/23/resim-a67d2036.jpg"/>
          <p:cNvPicPr/>
          <p:nvPr/>
        </p:nvPicPr>
        <p:blipFill>
          <a:blip r:embed="rId2"/>
          <a:stretch/>
        </p:blipFill>
        <p:spPr>
          <a:xfrm>
            <a:off x="254160" y="3860640"/>
            <a:ext cx="3941640" cy="252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s://www.agrobase.ru/uploads/publications/2020/09/02/kphl8hcvptm.jpg"/>
          <p:cNvPicPr/>
          <p:nvPr/>
        </p:nvPicPr>
        <p:blipFill>
          <a:blip r:embed="rId3"/>
          <a:stretch/>
        </p:blipFill>
        <p:spPr>
          <a:xfrm>
            <a:off x="4343400" y="2057400"/>
            <a:ext cx="445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440" y="239400"/>
            <a:ext cx="6743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ие профессии будущег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2688840" y="77004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ити-фер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s://www.sakhanews.ru/files/121971.jpg"/>
          <p:cNvPicPr/>
          <p:nvPr/>
        </p:nvPicPr>
        <p:blipFill>
          <a:blip r:embed="rId1"/>
          <a:stretch/>
        </p:blipFill>
        <p:spPr>
          <a:xfrm>
            <a:off x="184320" y="1231920"/>
            <a:ext cx="4651200" cy="258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s://assets.weforum.org/article/image/9DwCZeI539WRp5-zL9rt9P8FA3KYLoztP0vPjK6Y6fo.jpg"/>
          <p:cNvPicPr/>
          <p:nvPr/>
        </p:nvPicPr>
        <p:blipFill>
          <a:blip r:embed="rId2"/>
          <a:stretch/>
        </p:blipFill>
        <p:spPr>
          <a:xfrm>
            <a:off x="2590920" y="3994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374840" y="3868560"/>
            <a:ext cx="59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ca3c"/>
                </a:solidFill>
                <a:uFillTx/>
                <a:latin typeface="Times New Roman"/>
                <a:ea typeface="Times New Roman"/>
                <a:hlinkClick r:id="rId1"/>
              </a:rPr>
              <a:t>https://www.emaze.com/@ALORZQLWZ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"/>
          <p:cNvSpPr/>
          <p:nvPr/>
        </p:nvSpPr>
        <p:spPr>
          <a:xfrm>
            <a:off x="991440" y="1219320"/>
            <a:ext cx="59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туальная экскурс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в мир професс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трелка: вниз 9"/>
          <p:cNvSpPr/>
          <p:nvPr/>
        </p:nvSpPr>
        <p:spPr>
          <a:xfrm>
            <a:off x="3733920" y="2624040"/>
            <a:ext cx="457200" cy="835200"/>
          </a:xfrm>
          <a:prstGeom prst="downArrow">
            <a:avLst>
              <a:gd name="adj1" fmla="val 50000"/>
              <a:gd name="adj2" fmla="val 49949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6958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457200" y="1343160"/>
            <a:ext cx="7215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-  воспитание школьников, способных к добровольному выбору сельского образа жизни, готовых к умелому сочетанию трудовой деятельности и заботливого, бережного отношения к земле, к окружающей при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7083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348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Какие профессии ты знаешь?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0488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152640" y="25848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Растениеводство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ном – специалист по работе с растениям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Рисунок 5" descr=""/>
          <p:cNvPicPr/>
          <p:nvPr/>
        </p:nvPicPr>
        <p:blipFill>
          <a:blip r:embed="rId1"/>
          <a:stretch/>
        </p:blipFill>
        <p:spPr>
          <a:xfrm>
            <a:off x="4419720" y="3711600"/>
            <a:ext cx="3889080" cy="2917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https://skillsfactory.com.ua/wp-content/uploads/2019/03/agronom-2-1024x800.jpg"/>
          <p:cNvPicPr/>
          <p:nvPr/>
        </p:nvPicPr>
        <p:blipFill>
          <a:blip r:embed="rId2"/>
          <a:stretch/>
        </p:blipFill>
        <p:spPr>
          <a:xfrm>
            <a:off x="380880" y="3809880"/>
            <a:ext cx="3733920" cy="2917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http://blog.startupnationcentral.org/wp-content/uploads/shutterstock_289763240.jpg"/>
          <p:cNvPicPr/>
          <p:nvPr/>
        </p:nvPicPr>
        <p:blipFill>
          <a:blip r:embed="rId3"/>
          <a:stretch/>
        </p:blipFill>
        <p:spPr>
          <a:xfrm>
            <a:off x="2212920" y="1219320"/>
            <a:ext cx="40384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152640" y="22824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Агрохимик</a:t>
            </a:r>
            <a:br>
              <a:rPr sz="2500"/>
            </a:br>
            <a:r>
              <a:rPr b="1" lang="ru-RU" sz="25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В его обязанностях – проведение различных химических анализов, которые могут помочь определить направление ведения работ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5" name="Picture 2" descr="https://www.stavagroland.ru/wp-content/uploads/2013/05/participation-in-joint-exercises-cpc-01.jpg"/>
          <p:cNvPicPr/>
          <p:nvPr/>
        </p:nvPicPr>
        <p:blipFill>
          <a:blip r:embed="rId1"/>
          <a:stretch/>
        </p:blipFill>
        <p:spPr>
          <a:xfrm>
            <a:off x="152280" y="198108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s://www.stavagroland.ru/wp-content/uploads/2015/07/we-investigate-watermelons-for-ren-tv-02.jpg"/>
          <p:cNvPicPr/>
          <p:nvPr/>
        </p:nvPicPr>
        <p:blipFill>
          <a:blip r:embed="rId2"/>
          <a:stretch/>
        </p:blipFill>
        <p:spPr>
          <a:xfrm>
            <a:off x="3301920" y="3192480"/>
            <a:ext cx="5554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52640" y="380520"/>
            <a:ext cx="7886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Тракторист-машинист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сельскохозяйственного производств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Профессии сельского хозяйства - Агроинженер"/>
          <p:cNvPicPr/>
          <p:nvPr/>
        </p:nvPicPr>
        <p:blipFill>
          <a:blip r:embed="rId1"/>
          <a:stretch/>
        </p:blipFill>
        <p:spPr>
          <a:xfrm>
            <a:off x="304920" y="2057400"/>
            <a:ext cx="7311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Инженер по водному хозяйству и </a:t>
            </a:r>
            <a:br>
              <a:rPr sz="2800"/>
            </a:b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мелиорац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Профессии сельского хозяйства - Мелиоратор"/>
          <p:cNvPicPr/>
          <p:nvPr/>
        </p:nvPicPr>
        <p:blipFill>
          <a:blip r:embed="rId1"/>
          <a:stretch/>
        </p:blipFill>
        <p:spPr>
          <a:xfrm>
            <a:off x="171360" y="1752480"/>
            <a:ext cx="73915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45338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e76618"/>
                </a:solidFill>
                <a:latin typeface="Times New Roman"/>
                <a:ea typeface="Times New Roman"/>
              </a:rPr>
              <a:t>Умные технологии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Picture 2" descr="https://iot.skoltech.ru/wp-content/uploads/2019/04/0-9d0aJbqHNCu1u41Q.jpg"/>
          <p:cNvPicPr/>
          <p:nvPr/>
        </p:nvPicPr>
        <p:blipFill>
          <a:blip r:embed="rId1"/>
          <a:stretch/>
        </p:blipFill>
        <p:spPr>
          <a:xfrm>
            <a:off x="422280" y="1171440"/>
            <a:ext cx="3727440" cy="24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"/>
          <p:cNvSpPr/>
          <p:nvPr/>
        </p:nvSpPr>
        <p:spPr>
          <a:xfrm>
            <a:off x="228600" y="609480"/>
            <a:ext cx="567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03030"/>
                </a:solidFill>
                <a:latin typeface="Muli"/>
              </a:rPr>
              <a:t>Сбор информации о состоянии окружающей среды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4149720" y="213372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529"/>
                </a:solidFill>
                <a:latin typeface="Montserrat"/>
              </a:rPr>
              <a:t>Система призвана облегчить фермерам принятие ежедневных решений, от которых в итоге зависит урожай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https://foodovik.com/upload/iblock/738/73871e9a1fee82ec4bb7f523ede0a018.jpg"/>
          <p:cNvPicPr/>
          <p:nvPr/>
        </p:nvPicPr>
        <p:blipFill>
          <a:blip r:embed="rId2"/>
          <a:stretch/>
        </p:blipFill>
        <p:spPr>
          <a:xfrm>
            <a:off x="2895480" y="3408480"/>
            <a:ext cx="4911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</cp:lastModifiedBy>
  <dcterms:modified xsi:type="dcterms:W3CDTF">2022-11-27T17:11:4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