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C79E-F41C-4B94-9593-D4D88890A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BBC7-4039-4D21-816C-FD60C4A52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4580-5FCC-46F8-829A-B5D2B1FCD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F26D-B888-4AC1-80C3-78DD06460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AFBF0-A2F2-44B2-909B-64040359C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C0AF6-7EA1-4BF4-BD86-93F6CAEED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0CB2D-0056-4FE6-A79D-751E69FA6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6E086-F61B-4D74-9E8A-D1B2980DF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74E6F-3982-47EE-A3FF-F37392053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D32B4-0466-4589-ABBF-89ABE9A9B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33BA0-7DC4-4BE4-91EB-DC7FD5E3F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3223-00F3-4E41-A6E1-207EA410E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101CF-127F-4ECC-ADEB-32F2D223B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5BC3D-933F-4355-80BF-A577951BD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77E3B-B83F-4172-A32C-2AB13C4A8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E679A-7A2E-4A3D-AF5D-9B6A813EB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D7840-9A53-4F20-B5B9-1BDC14FDE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029A03-0DFB-44E6-AC79-F5B1E297F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89F961-0CD2-43F6-88F2-45CA3087D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AD451B-F611-49CE-8124-C65ED0C84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8A8196-F4ED-47F9-BF1E-5865FD7EE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2DDDE4-756E-44D7-A536-613FE6A65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FDC3-9E8C-486A-B812-39F680E3D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067CEF-4FE6-47BC-98F8-E5C17C4B7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DA7A0C-EC0A-4953-AA67-125B7F7A1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AECE83-E82F-436C-9446-4013CB550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790411-2BC2-4B94-8B8C-630E125CE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0ABBFB-4BD1-497B-8529-3A281F93A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083870-2968-4F8B-BD11-4723915A0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0B424C-21C2-4033-88D0-C69403307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02621D-053D-4E71-9D59-33A3A50E1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C28D1F-3329-480B-8A4E-A3CDFD1DD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2DF609-7DD4-41D6-8616-07E822BCA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5C97-A125-469D-93F2-7EDC5A79F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8E02F7-AB7B-4B54-860C-A189CDDAA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DFAA6E-992A-40BD-8BA8-0C3FF1BCE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20AE13-0EDD-4B9B-B65F-C5C6D2D63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67219B-7628-4125-9A58-994BAB5CC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04DFE1-9679-4B09-AEC1-376A4802C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BEBB91-8DE1-4BCB-A9EA-7C5E8F2D9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66011A-B65A-4525-BB24-516C77728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6F4D3D-16CA-4DB7-ADE5-AD9498E67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0A1E4C-BC8E-4007-9386-122A21B6C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BD8B-13AB-4EC8-A27B-5FB493612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2DF6-73C9-4213-97A2-E9DF04064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72E6-72C1-4F1E-8849-7044B1AC2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2AF0-4A8A-4C95-9454-39CE72813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DD55-88AA-4EAD-9333-EC5A1E8B6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B4920-9A3D-4C71-82A3-FECDEA615C8F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17D3B-95BA-45EE-B014-B72CFF025CDC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6D99B-E61E-4C02-9419-6E05EB9F4326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E8D6E-C02F-49FA-BC00-7C6EA6A36E82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s://www.emaze.com/@ALORZQLWZ/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22440" y="1600200"/>
            <a:ext cx="6605280" cy="2131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«Формирование у учащихся с ОВЗ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ценностных ориентаций через знакомство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с сельскохозяйственными профессиями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 </a:t>
            </a:r>
            <a:br>
              <a:rPr sz="2400"/>
            </a:br>
            <a:endParaRPr b="0" lang="en-US" sz="2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114440" y="4876560"/>
            <a:ext cx="310356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жамова Наталия Васильевна,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жамова Гульсара Ахметжановна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4" name="Прямоугольник 1"/>
          <p:cNvSpPr/>
          <p:nvPr/>
        </p:nvSpPr>
        <p:spPr>
          <a:xfrm>
            <a:off x="1676520" y="380880"/>
            <a:ext cx="54100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БОУ СОШ им.Н.С. Доровского с. Подбельс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06440" y="239400"/>
            <a:ext cx="67435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e76618"/>
                </a:solidFill>
                <a:latin typeface="Times New Roman"/>
                <a:ea typeface="Times New Roman"/>
              </a:rPr>
              <a:t>Сельские профессии будущего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7" name="Прямоугольник 3"/>
          <p:cNvSpPr/>
          <p:nvPr/>
        </p:nvSpPr>
        <p:spPr>
          <a:xfrm>
            <a:off x="1083240" y="770040"/>
            <a:ext cx="512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</a:rPr>
              <a:t>Агрокибернетик или агроинформат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4" descr="https://vuzopedia.ru/storage/app/uploads/public/5e4/d98/e88/5e4d98e886862166335606.jpeg"/>
          <p:cNvPicPr/>
          <p:nvPr/>
        </p:nvPicPr>
        <p:blipFill>
          <a:blip r:embed="rId1"/>
          <a:stretch/>
        </p:blipFill>
        <p:spPr>
          <a:xfrm>
            <a:off x="228600" y="1531800"/>
            <a:ext cx="7908840" cy="39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06440" y="239400"/>
            <a:ext cx="67435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e76618"/>
                </a:solidFill>
                <a:latin typeface="Times New Roman"/>
                <a:ea typeface="Times New Roman"/>
              </a:rPr>
              <a:t>Сельские профессии будущего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0" name="Прямоугольник 3"/>
          <p:cNvSpPr/>
          <p:nvPr/>
        </p:nvSpPr>
        <p:spPr>
          <a:xfrm>
            <a:off x="2669040" y="770040"/>
            <a:ext cx="195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</a:rPr>
              <a:t>Агроинжен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2" descr="https://mycalling.ru/wp-content/uploads/2015/01/agroinjener.jpg"/>
          <p:cNvPicPr/>
          <p:nvPr/>
        </p:nvPicPr>
        <p:blipFill>
          <a:blip r:embed="rId1"/>
          <a:stretch/>
        </p:blipFill>
        <p:spPr>
          <a:xfrm>
            <a:off x="762120" y="1538280"/>
            <a:ext cx="6858000" cy="45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06440" y="239400"/>
            <a:ext cx="67435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e76618"/>
                </a:solidFill>
                <a:latin typeface="Times New Roman"/>
                <a:ea typeface="Times New Roman"/>
              </a:rPr>
              <a:t>Сельские профессии будущего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3" name="Прямоугольник 3"/>
          <p:cNvSpPr/>
          <p:nvPr/>
        </p:nvSpPr>
        <p:spPr>
          <a:xfrm>
            <a:off x="485280" y="770040"/>
            <a:ext cx="631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ператор автоматизированной сельхозтех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6" descr="https://postupi.online/images/img_art/17227.jpg"/>
          <p:cNvPicPr/>
          <p:nvPr/>
        </p:nvPicPr>
        <p:blipFill>
          <a:blip r:embed="rId1"/>
          <a:stretch/>
        </p:blipFill>
        <p:spPr>
          <a:xfrm>
            <a:off x="252360" y="1459080"/>
            <a:ext cx="3943440" cy="21999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8" descr="https://dogruhaber.com.tr/images/19/23/resim-a67d2036.jpg"/>
          <p:cNvPicPr/>
          <p:nvPr/>
        </p:nvPicPr>
        <p:blipFill>
          <a:blip r:embed="rId2"/>
          <a:stretch/>
        </p:blipFill>
        <p:spPr>
          <a:xfrm>
            <a:off x="254160" y="3860640"/>
            <a:ext cx="3941640" cy="25210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0" descr="https://www.agrobase.ru/uploads/publications/2020/09/02/kphl8hcvptm.jpg"/>
          <p:cNvPicPr/>
          <p:nvPr/>
        </p:nvPicPr>
        <p:blipFill>
          <a:blip r:embed="rId3"/>
          <a:stretch/>
        </p:blipFill>
        <p:spPr>
          <a:xfrm>
            <a:off x="4343400" y="2057400"/>
            <a:ext cx="44578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06440" y="239400"/>
            <a:ext cx="67435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e76618"/>
                </a:solidFill>
                <a:latin typeface="Times New Roman"/>
                <a:ea typeface="Times New Roman"/>
              </a:rPr>
              <a:t>Сельские профессии будущего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8" name="Прямоугольник 3"/>
          <p:cNvSpPr/>
          <p:nvPr/>
        </p:nvSpPr>
        <p:spPr>
          <a:xfrm>
            <a:off x="2688840" y="770040"/>
            <a:ext cx="191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ити-ферм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2" descr="https://www.sakhanews.ru/files/121971.jpg"/>
          <p:cNvPicPr/>
          <p:nvPr/>
        </p:nvPicPr>
        <p:blipFill>
          <a:blip r:embed="rId1"/>
          <a:stretch/>
        </p:blipFill>
        <p:spPr>
          <a:xfrm>
            <a:off x="184320" y="1231920"/>
            <a:ext cx="4651200" cy="258300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4" descr="https://assets.weforum.org/article/image/9DwCZeI539WRp5-zL9rt9P8FA3KYLoztP0vPjK6Y6fo.jpg"/>
          <p:cNvPicPr/>
          <p:nvPr/>
        </p:nvPicPr>
        <p:blipFill>
          <a:blip r:embed="rId2"/>
          <a:stretch/>
        </p:blipFill>
        <p:spPr>
          <a:xfrm>
            <a:off x="2590920" y="3994200"/>
            <a:ext cx="403848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Прямоугольник 1"/>
          <p:cNvSpPr/>
          <p:nvPr/>
        </p:nvSpPr>
        <p:spPr>
          <a:xfrm>
            <a:off x="1374840" y="3868560"/>
            <a:ext cx="59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ca3c"/>
                </a:solidFill>
                <a:uFillTx/>
                <a:latin typeface="Times New Roman"/>
                <a:ea typeface="Times New Roman"/>
                <a:hlinkClick r:id="rId1"/>
              </a:rPr>
              <a:t>https://www.emaze.com/@ALORZQLWZ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Прямоугольник 1"/>
          <p:cNvSpPr/>
          <p:nvPr/>
        </p:nvSpPr>
        <p:spPr>
          <a:xfrm>
            <a:off x="991440" y="1219320"/>
            <a:ext cx="594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ртуальная экскурс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утешествие в мир профессий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Стрелка: вниз 9"/>
          <p:cNvSpPr/>
          <p:nvPr/>
        </p:nvSpPr>
        <p:spPr>
          <a:xfrm>
            <a:off x="3733920" y="2624040"/>
            <a:ext cx="457200" cy="835200"/>
          </a:xfrm>
          <a:prstGeom prst="downArrow">
            <a:avLst>
              <a:gd name="adj1" fmla="val 50000"/>
              <a:gd name="adj2" fmla="val 49949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52280" y="685440"/>
            <a:ext cx="695808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ff6600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6" name="Прямоугольник 2"/>
          <p:cNvSpPr/>
          <p:nvPr/>
        </p:nvSpPr>
        <p:spPr>
          <a:xfrm>
            <a:off x="457200" y="1343160"/>
            <a:ext cx="72151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а -  воспитание школьников, способных к добровольному выбору сельского образа жизни, готовых к умелому сочетанию трудовой деятельности и заботливого, бережного отношения к земле, к окружающей природ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Рисунок 2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70833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6348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e76618"/>
                </a:solidFill>
                <a:latin typeface="Times New Roman"/>
                <a:ea typeface="Times New Roman"/>
              </a:rPr>
              <a:t>Какие профессии ты знаешь?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19" name="Рисунок 3" descr=""/>
          <p:cNvPicPr/>
          <p:nvPr/>
        </p:nvPicPr>
        <p:blipFill>
          <a:blip r:embed="rId1"/>
          <a:stretch/>
        </p:blipFill>
        <p:spPr>
          <a:xfrm>
            <a:off x="152280" y="1676520"/>
            <a:ext cx="8048880" cy="45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152640" y="258480"/>
            <a:ext cx="788652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e76618"/>
                </a:solidFill>
                <a:latin typeface="Times New Roman"/>
                <a:ea typeface="Times New Roman"/>
              </a:rPr>
              <a:t>Растениеводство</a:t>
            </a:r>
            <a:br>
              <a:rPr sz="2800"/>
            </a:br>
            <a:r>
              <a:rPr b="1" lang="ru-RU" sz="2800" spc="-1" strike="noStrike">
                <a:solidFill>
                  <a:srgbClr val="e76618"/>
                </a:solidFill>
                <a:latin typeface="Times New Roman"/>
                <a:ea typeface="Times New Roman"/>
              </a:rPr>
              <a:t>Агроном – специалист по работе с растениями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21" name="Рисунок 5" descr=""/>
          <p:cNvPicPr/>
          <p:nvPr/>
        </p:nvPicPr>
        <p:blipFill>
          <a:blip r:embed="rId1"/>
          <a:stretch/>
        </p:blipFill>
        <p:spPr>
          <a:xfrm>
            <a:off x="4419720" y="3711600"/>
            <a:ext cx="3889080" cy="29178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6" descr="https://skillsfactory.com.ua/wp-content/uploads/2019/03/agronom-2-1024x800.jpg"/>
          <p:cNvPicPr/>
          <p:nvPr/>
        </p:nvPicPr>
        <p:blipFill>
          <a:blip r:embed="rId2"/>
          <a:stretch/>
        </p:blipFill>
        <p:spPr>
          <a:xfrm>
            <a:off x="380880" y="3809880"/>
            <a:ext cx="3733920" cy="29178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8" descr="http://blog.startupnationcentral.org/wp-content/uploads/shutterstock_289763240.jpg"/>
          <p:cNvPicPr/>
          <p:nvPr/>
        </p:nvPicPr>
        <p:blipFill>
          <a:blip r:embed="rId3"/>
          <a:stretch/>
        </p:blipFill>
        <p:spPr>
          <a:xfrm>
            <a:off x="2212920" y="1219320"/>
            <a:ext cx="403848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-152640" y="228240"/>
            <a:ext cx="788652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500" spc="-1" strike="noStrike">
                <a:solidFill>
                  <a:srgbClr val="e76618"/>
                </a:solidFill>
                <a:latin typeface="Times New Roman"/>
                <a:ea typeface="Times New Roman"/>
              </a:rPr>
              <a:t>Агрохимик</a:t>
            </a:r>
            <a:br>
              <a:rPr sz="2500"/>
            </a:br>
            <a:r>
              <a:rPr b="1" lang="ru-RU" sz="2500" spc="-1" strike="noStrike">
                <a:solidFill>
                  <a:srgbClr val="e76618"/>
                </a:solidFill>
                <a:latin typeface="Times New Roman"/>
                <a:ea typeface="Times New Roman"/>
              </a:rPr>
              <a:t>В его обязанностях – проведение различных химических анализов, которые могут помочь определить направление ведения работ</a:t>
            </a:r>
            <a:endParaRPr b="0" lang="en-US" sz="25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25" name="Picture 2" descr="https://www.stavagroland.ru/wp-content/uploads/2013/05/participation-in-joint-exercises-cpc-01.jpg"/>
          <p:cNvPicPr/>
          <p:nvPr/>
        </p:nvPicPr>
        <p:blipFill>
          <a:blip r:embed="rId1"/>
          <a:stretch/>
        </p:blipFill>
        <p:spPr>
          <a:xfrm>
            <a:off x="152280" y="1981080"/>
            <a:ext cx="3149640" cy="23623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4" descr="https://www.stavagroland.ru/wp-content/uploads/2015/07/we-investigate-watermelons-for-ren-tv-02.jpg"/>
          <p:cNvPicPr/>
          <p:nvPr/>
        </p:nvPicPr>
        <p:blipFill>
          <a:blip r:embed="rId2"/>
          <a:stretch/>
        </p:blipFill>
        <p:spPr>
          <a:xfrm>
            <a:off x="3301920" y="3192480"/>
            <a:ext cx="555480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-152640" y="380520"/>
            <a:ext cx="788652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e76618"/>
                </a:solidFill>
                <a:latin typeface="Times New Roman"/>
                <a:ea typeface="Times New Roman"/>
              </a:rPr>
              <a:t>Тракторист-машинист </a:t>
            </a:r>
            <a:br>
              <a:rPr sz="2800"/>
            </a:br>
            <a:r>
              <a:rPr b="1" lang="ru-RU" sz="2800" spc="-1" strike="noStrike">
                <a:solidFill>
                  <a:srgbClr val="e76618"/>
                </a:solidFill>
                <a:latin typeface="Times New Roman"/>
                <a:ea typeface="Times New Roman"/>
              </a:rPr>
              <a:t>сельскохозяйственного производства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28" name="Picture 2" descr="Профессии сельского хозяйства - Агроинженер"/>
          <p:cNvPicPr/>
          <p:nvPr/>
        </p:nvPicPr>
        <p:blipFill>
          <a:blip r:embed="rId1"/>
          <a:stretch/>
        </p:blipFill>
        <p:spPr>
          <a:xfrm>
            <a:off x="304920" y="2057400"/>
            <a:ext cx="73119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-76320" y="456840"/>
            <a:ext cx="78868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e76618"/>
                </a:solidFill>
                <a:latin typeface="Times New Roman"/>
                <a:ea typeface="Times New Roman"/>
              </a:rPr>
              <a:t>Инженер по водному хозяйству и </a:t>
            </a:r>
            <a:br>
              <a:rPr sz="2800"/>
            </a:br>
            <a:r>
              <a:rPr b="1" lang="ru-RU" sz="2800" spc="-1" strike="noStrike">
                <a:solidFill>
                  <a:srgbClr val="e76618"/>
                </a:solidFill>
                <a:latin typeface="Times New Roman"/>
                <a:ea typeface="Times New Roman"/>
              </a:rPr>
              <a:t>мелиорации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30" name="Picture 2" descr="Профессии сельского хозяйства - Мелиоратор"/>
          <p:cNvPicPr/>
          <p:nvPr/>
        </p:nvPicPr>
        <p:blipFill>
          <a:blip r:embed="rId1"/>
          <a:stretch/>
        </p:blipFill>
        <p:spPr>
          <a:xfrm>
            <a:off x="171360" y="1752480"/>
            <a:ext cx="739152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71600" y="152280"/>
            <a:ext cx="453384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e76618"/>
                </a:solidFill>
                <a:latin typeface="Times New Roman"/>
                <a:ea typeface="Times New Roman"/>
              </a:rPr>
              <a:t>Умные технологии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32" name="Picture 2" descr="https://iot.skoltech.ru/wp-content/uploads/2019/04/0-9d0aJbqHNCu1u41Q.jpg"/>
          <p:cNvPicPr/>
          <p:nvPr/>
        </p:nvPicPr>
        <p:blipFill>
          <a:blip r:embed="rId1"/>
          <a:stretch/>
        </p:blipFill>
        <p:spPr>
          <a:xfrm>
            <a:off x="422280" y="1171440"/>
            <a:ext cx="3727440" cy="2484720"/>
          </a:xfrm>
          <a:prstGeom prst="rect">
            <a:avLst/>
          </a:prstGeom>
          <a:ln w="0">
            <a:noFill/>
          </a:ln>
        </p:spPr>
      </p:pic>
      <p:sp>
        <p:nvSpPr>
          <p:cNvPr id="233" name="Прямоугольник 1"/>
          <p:cNvSpPr/>
          <p:nvPr/>
        </p:nvSpPr>
        <p:spPr>
          <a:xfrm>
            <a:off x="228600" y="609480"/>
            <a:ext cx="567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03030"/>
                </a:solidFill>
                <a:latin typeface="Muli"/>
              </a:rPr>
              <a:t>Сбор информации о состоянии окружающей среды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рямоугольник 2"/>
          <p:cNvSpPr/>
          <p:nvPr/>
        </p:nvSpPr>
        <p:spPr>
          <a:xfrm>
            <a:off x="4149720" y="2133720"/>
            <a:ext cx="3889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12529"/>
                </a:solidFill>
                <a:latin typeface="Montserrat"/>
              </a:rPr>
              <a:t>Система призвана облегчить фермерам принятие ежедневных решений, от которых в итоге зависит урожай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4" descr="https://foodovik.com/upload/iblock/738/73871e9a1fee82ec4bb7f523ede0a018.jpg"/>
          <p:cNvPicPr/>
          <p:nvPr/>
        </p:nvPicPr>
        <p:blipFill>
          <a:blip r:embed="rId2"/>
          <a:stretch/>
        </p:blipFill>
        <p:spPr>
          <a:xfrm>
            <a:off x="2895480" y="3408480"/>
            <a:ext cx="4911840" cy="32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наталья</cp:lastModifiedBy>
  <dcterms:modified xsi:type="dcterms:W3CDTF">2022-11-27T17:11:47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