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3988-2F15-462F-861E-0AE306939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181C-B2E2-4F48-8AF6-469F3234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F500-F7EF-4A61-8B72-8CB1588B1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9931-FF50-443B-B439-F701B737B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3E2E-BBEE-4206-BC4B-A76D1267C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056E-AC06-444E-A453-81FA1F47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87E0-F3E1-4A53-B8FF-7DF39143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DCA2-D0BD-41D6-86B4-D8BEE406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4F7A-0E5E-421C-ACCF-466746F0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AE4F-ED71-4549-915E-6A57BDF1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A2FC-B731-4E40-8D36-131E92AC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8805-9166-4843-BF62-4C3DB7F9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64B8-998D-4A1C-9E8D-C6972C12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17D3-F8FF-4A1C-AF1A-55A75245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E602-1B45-4E03-902B-DD5C9A5E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EAF3-B4CE-4B3F-B349-8630A995E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50FC-AF3A-492E-9DA4-72AFE1651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04332-F06B-44F6-A890-EF5A544FF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E5D33-1AC7-4D29-8FB8-E87B360B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EABB1-2E02-4DA0-9152-65D256CD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14F06-6BD7-48E9-B396-438BAEBD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87849-B21F-4F26-A519-5C54B632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83AC-9555-4BB9-8C53-3C5365DA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D09A6-3814-4DA6-ACD8-669DE3FE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C09C2-F97A-409C-B6F2-AF86290C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CF61C-24B7-4CCE-A724-D2CB09BA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C84EC-F6AE-4095-9102-8BB08269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CA2B7-D571-4C69-8CBF-1C4DCCB5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7953F-8033-407C-9863-0E540E707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AD9CE-602F-4CFD-8EBD-D4C96C8F5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FFB22-6787-4310-AAE3-BB85FA3FB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D8700-858F-42AF-AACE-E0F45268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316AC-E924-453D-AB6F-70A5CFC7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1D62-3E37-4C09-804C-77B20177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69E1C-A11B-4F13-BF62-DE6477EC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3F64B-F17F-4997-88C5-382DB33D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D2DCD-98D6-4634-82EA-3E138F7E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B695F-878B-4BAA-B414-0C7B5013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A6927-A522-47EC-AA94-E0104CB3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7E8B1-142C-4371-A924-32EFBE35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786AD-A329-4915-A172-7041A4D7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9AC3F-6DBD-42FB-AA7C-83D88D23F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45878-7125-4192-A1B4-E5D0B143A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238C-47E5-4712-A2FD-F10AEC55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7DB2-8BEA-4B19-8EEC-CFEAC2EC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D682-E45A-4CC5-AA7E-1D2231CD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051B-C32A-4953-B0C0-FF52ED70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14AD-7B16-4A57-9B03-B33CC407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D074-98FE-470A-8235-18A9D9F07D2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EE36-FFEA-4E18-A149-15C28580184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B7F2-0F8D-4BB5-B298-5F08C0EB1E4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DCCD-91F4-4963-B70C-EDD87D84719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emaze.com/@ALORZQLWZ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2440" y="1600200"/>
            <a:ext cx="6605280" cy="213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«Формирование у учащихся с ОВЗ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ценностных ориентаций через знакомств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 сельскохозяйственными профессиями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114440" y="4876560"/>
            <a:ext cx="31035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жамова Наталия Васильевна,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жамова Гульсара Ахметжановна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Прямоугольник 1"/>
          <p:cNvSpPr/>
          <p:nvPr/>
        </p:nvSpPr>
        <p:spPr>
          <a:xfrm>
            <a:off x="1676520" y="380880"/>
            <a:ext cx="5410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СОШ им.Н.С. Доровского с. Подбель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Прямоугольник 3"/>
          <p:cNvSpPr/>
          <p:nvPr/>
        </p:nvSpPr>
        <p:spPr>
          <a:xfrm>
            <a:off x="1083240" y="770040"/>
            <a:ext cx="51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Агрокибернетик или агроинформа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https://vuzopedia.ru/storage/app/uploads/public/5e4/d98/e88/5e4d98e886862166335606.jpeg"/>
          <p:cNvPicPr/>
          <p:nvPr/>
        </p:nvPicPr>
        <p:blipFill>
          <a:blip r:embed="rId1"/>
          <a:stretch/>
        </p:blipFill>
        <p:spPr>
          <a:xfrm>
            <a:off x="228600" y="1531800"/>
            <a:ext cx="790884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2669040" y="77004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Агроинжен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https://mycalling.ru/wp-content/uploads/2015/01/agroinjener.jpg"/>
          <p:cNvPicPr/>
          <p:nvPr/>
        </p:nvPicPr>
        <p:blipFill>
          <a:blip r:embed="rId1"/>
          <a:stretch/>
        </p:blipFill>
        <p:spPr>
          <a:xfrm>
            <a:off x="762120" y="1538280"/>
            <a:ext cx="6858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Прямоугольник 3"/>
          <p:cNvSpPr/>
          <p:nvPr/>
        </p:nvSpPr>
        <p:spPr>
          <a:xfrm>
            <a:off x="485280" y="770040"/>
            <a:ext cx="63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ератор автоматизированной сельхозтех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https://postupi.online/images/img_art/17227.jpg"/>
          <p:cNvPicPr/>
          <p:nvPr/>
        </p:nvPicPr>
        <p:blipFill>
          <a:blip r:embed="rId1"/>
          <a:stretch/>
        </p:blipFill>
        <p:spPr>
          <a:xfrm>
            <a:off x="252360" y="1459080"/>
            <a:ext cx="3943440" cy="2199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https://dogruhaber.com.tr/images/19/23/resim-a67d2036.jpg"/>
          <p:cNvPicPr/>
          <p:nvPr/>
        </p:nvPicPr>
        <p:blipFill>
          <a:blip r:embed="rId2"/>
          <a:stretch/>
        </p:blipFill>
        <p:spPr>
          <a:xfrm>
            <a:off x="254160" y="3860640"/>
            <a:ext cx="3941640" cy="2521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https://www.agrobase.ru/uploads/publications/2020/09/02/kphl8hcvptm.jpg"/>
          <p:cNvPicPr/>
          <p:nvPr/>
        </p:nvPicPr>
        <p:blipFill>
          <a:blip r:embed="rId3"/>
          <a:stretch/>
        </p:blipFill>
        <p:spPr>
          <a:xfrm>
            <a:off x="4343400" y="2057400"/>
            <a:ext cx="4457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2688840" y="77004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ти-фер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https://www.sakhanews.ru/files/121971.jpg"/>
          <p:cNvPicPr/>
          <p:nvPr/>
        </p:nvPicPr>
        <p:blipFill>
          <a:blip r:embed="rId1"/>
          <a:stretch/>
        </p:blipFill>
        <p:spPr>
          <a:xfrm>
            <a:off x="184320" y="1231920"/>
            <a:ext cx="4651200" cy="2583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https://assets.weforum.org/article/image/9DwCZeI539WRp5-zL9rt9P8FA3KYLoztP0vPjK6Y6fo.jpg"/>
          <p:cNvPicPr/>
          <p:nvPr/>
        </p:nvPicPr>
        <p:blipFill>
          <a:blip r:embed="rId2"/>
          <a:stretch/>
        </p:blipFill>
        <p:spPr>
          <a:xfrm>
            <a:off x="2590920" y="39942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1"/>
          <p:cNvSpPr/>
          <p:nvPr/>
        </p:nvSpPr>
        <p:spPr>
          <a:xfrm>
            <a:off x="1374840" y="3868560"/>
            <a:ext cx="59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ca3c"/>
                </a:solidFill>
                <a:uFillTx/>
                <a:latin typeface="Times New Roman"/>
                <a:ea typeface="Times New Roman"/>
                <a:hlinkClick r:id="rId1"/>
              </a:rPr>
              <a:t>https://www.emaze.com/@ALORZQLWZ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"/>
          <p:cNvSpPr/>
          <p:nvPr/>
        </p:nvSpPr>
        <p:spPr>
          <a:xfrm>
            <a:off x="991440" y="1219320"/>
            <a:ext cx="59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туальная экскурс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утешествие в мир професси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трелка: вниз 9"/>
          <p:cNvSpPr/>
          <p:nvPr/>
        </p:nvSpPr>
        <p:spPr>
          <a:xfrm>
            <a:off x="3733920" y="2624040"/>
            <a:ext cx="457200" cy="835200"/>
          </a:xfrm>
          <a:prstGeom prst="downArrow">
            <a:avLst>
              <a:gd name="adj1" fmla="val 50000"/>
              <a:gd name="adj2" fmla="val 49949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69580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Прямоугольник 2"/>
          <p:cNvSpPr/>
          <p:nvPr/>
        </p:nvSpPr>
        <p:spPr>
          <a:xfrm>
            <a:off x="457200" y="1343160"/>
            <a:ext cx="7215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-  воспитание школьников, способных к добровольному выбору сельского образа жизни, готовых к умелому сочетанию трудовой деятельности и заботливого, бережного отношения к земле, к окружающей приро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Рисунок 2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7083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348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Какие профессии ты знаешь?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9" name="Рисунок 3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804888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152640" y="258480"/>
            <a:ext cx="7886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Растениеводство</a:t>
            </a:r>
            <a:br>
              <a:rPr sz="2800"/>
            </a:b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Агроном – специалист по работе с растениями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1" name="Рисунок 5" descr=""/>
          <p:cNvPicPr/>
          <p:nvPr/>
        </p:nvPicPr>
        <p:blipFill>
          <a:blip r:embed="rId1"/>
          <a:stretch/>
        </p:blipFill>
        <p:spPr>
          <a:xfrm>
            <a:off x="4419720" y="3711600"/>
            <a:ext cx="3889080" cy="2917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https://skillsfactory.com.ua/wp-content/uploads/2019/03/agronom-2-1024x800.jpg"/>
          <p:cNvPicPr/>
          <p:nvPr/>
        </p:nvPicPr>
        <p:blipFill>
          <a:blip r:embed="rId2"/>
          <a:stretch/>
        </p:blipFill>
        <p:spPr>
          <a:xfrm>
            <a:off x="380880" y="3809880"/>
            <a:ext cx="3733920" cy="2917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http://blog.startupnationcentral.org/wp-content/uploads/shutterstock_289763240.jpg"/>
          <p:cNvPicPr/>
          <p:nvPr/>
        </p:nvPicPr>
        <p:blipFill>
          <a:blip r:embed="rId3"/>
          <a:stretch/>
        </p:blipFill>
        <p:spPr>
          <a:xfrm>
            <a:off x="2212920" y="1219320"/>
            <a:ext cx="40384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152640" y="228240"/>
            <a:ext cx="7886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Агрохимик</a:t>
            </a:r>
            <a:br>
              <a:rPr sz="2500"/>
            </a:br>
            <a:r>
              <a:rPr b="1" lang="ru-RU" sz="25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В его обязанностях – проведение различных химических анализов, которые могут помочь определить направление ведения работ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5" name="Picture 2" descr="https://www.stavagroland.ru/wp-content/uploads/2013/05/participation-in-joint-exercises-cpc-01.jpg"/>
          <p:cNvPicPr/>
          <p:nvPr/>
        </p:nvPicPr>
        <p:blipFill>
          <a:blip r:embed="rId1"/>
          <a:stretch/>
        </p:blipFill>
        <p:spPr>
          <a:xfrm>
            <a:off x="152280" y="198108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https://www.stavagroland.ru/wp-content/uploads/2015/07/we-investigate-watermelons-for-ren-tv-02.jpg"/>
          <p:cNvPicPr/>
          <p:nvPr/>
        </p:nvPicPr>
        <p:blipFill>
          <a:blip r:embed="rId2"/>
          <a:stretch/>
        </p:blipFill>
        <p:spPr>
          <a:xfrm>
            <a:off x="3301920" y="3192480"/>
            <a:ext cx="5554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152640" y="380520"/>
            <a:ext cx="7886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Тракторист-машинист </a:t>
            </a:r>
            <a:br>
              <a:rPr sz="2800"/>
            </a:b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охозяйственного производства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8" name="Picture 2" descr="Профессии сельского хозяйства - Агроинженер"/>
          <p:cNvPicPr/>
          <p:nvPr/>
        </p:nvPicPr>
        <p:blipFill>
          <a:blip r:embed="rId1"/>
          <a:stretch/>
        </p:blipFill>
        <p:spPr>
          <a:xfrm>
            <a:off x="304920" y="2057400"/>
            <a:ext cx="7311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76320" y="456840"/>
            <a:ext cx="7886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Инженер по водному хозяйству и </a:t>
            </a:r>
            <a:br>
              <a:rPr sz="2800"/>
            </a:b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мелиорации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0" name="Picture 2" descr="Профессии сельского хозяйства - Мелиоратор"/>
          <p:cNvPicPr/>
          <p:nvPr/>
        </p:nvPicPr>
        <p:blipFill>
          <a:blip r:embed="rId1"/>
          <a:stretch/>
        </p:blipFill>
        <p:spPr>
          <a:xfrm>
            <a:off x="171360" y="1752480"/>
            <a:ext cx="73915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45338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Умные технологии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2" name="Picture 2" descr="https://iot.skoltech.ru/wp-content/uploads/2019/04/0-9d0aJbqHNCu1u41Q.jpg"/>
          <p:cNvPicPr/>
          <p:nvPr/>
        </p:nvPicPr>
        <p:blipFill>
          <a:blip r:embed="rId1"/>
          <a:stretch/>
        </p:blipFill>
        <p:spPr>
          <a:xfrm>
            <a:off x="422280" y="1171440"/>
            <a:ext cx="3727440" cy="248472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"/>
          <p:cNvSpPr/>
          <p:nvPr/>
        </p:nvSpPr>
        <p:spPr>
          <a:xfrm>
            <a:off x="228600" y="609480"/>
            <a:ext cx="56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3030"/>
                </a:solidFill>
                <a:latin typeface="Muli"/>
              </a:rPr>
              <a:t>Сбор информации о состоянии окружающей среды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"/>
          <p:cNvSpPr/>
          <p:nvPr/>
        </p:nvSpPr>
        <p:spPr>
          <a:xfrm>
            <a:off x="4149720" y="2133720"/>
            <a:ext cx="388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529"/>
                </a:solidFill>
                <a:latin typeface="Montserrat"/>
              </a:rPr>
              <a:t>Система призвана облегчить фермерам принятие ежедневных решений, от которых в итоге зависит урожай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https://foodovik.com/upload/iblock/738/73871e9a1fee82ec4bb7f523ede0a018.jpg"/>
          <p:cNvPicPr/>
          <p:nvPr/>
        </p:nvPicPr>
        <p:blipFill>
          <a:blip r:embed="rId2"/>
          <a:stretch/>
        </p:blipFill>
        <p:spPr>
          <a:xfrm>
            <a:off x="2895480" y="3408480"/>
            <a:ext cx="491184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22-11-27T17:11:47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