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5134-2E90-4AB3-AC8E-4DB6C42E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F27A-D889-4842-A1ED-AABD8EB2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2803-FB80-4401-B93A-3320C03F1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6164-0A14-4BB3-A109-D5AC8F1E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D6D2-F55E-4165-AC41-E7D3B57E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C4F2-C7EC-4730-A59E-A59AE2C8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2A99-A835-47FB-918F-3599D493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83DA-A8EF-4837-BD2B-A313A371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97D2-50A4-4F64-B981-EC0A4640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ACC7-71A4-4234-B5F1-94E7ECB2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EEAC-2932-4393-8DC3-8048E255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695F-7ADA-461C-AF03-19C754C5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4E90-7F6E-4A2F-8AC8-88C7FB40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6646-10C8-4F48-90C9-17CAAD22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2DCB-3528-460D-A496-09518E35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A819-4852-4BED-9531-4140179FD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5278-B76F-47F1-8BB7-B6C131069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7EF7-DF4C-4C2C-B294-116237CD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BAA6-0C5B-45DC-BF1A-07015EBA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A019-81F4-4C01-A5F1-76534243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AA1D-9733-4414-859E-4087243E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786E-798A-4A25-BEA2-6FBD8888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4BB5-733F-4B36-B568-C131F74B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9DBC-5AC6-4C54-956F-F54E6C8A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1706-9D20-458C-A1D6-4E6D8A698D4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440" cy="474840"/>
              <a:chOff x="417600" y="2968560"/>
              <a:chExt cx="7394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8400" y="2968560"/>
                <a:ext cx="36864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6AD4-7288-4DBA-A052-CC66B469C9D9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15416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«Разработка и реализация</a:t>
            </a:r>
            <a:br>
              <a:rPr sz="4400"/>
            </a:b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СИПР</a:t>
            </a:r>
            <a:br>
              <a:rPr sz="4400"/>
            </a:b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для обучающихся с ТМНР» </a:t>
            </a:r>
            <a:br>
              <a:rPr sz="36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62520" y="4191120"/>
            <a:ext cx="4876560" cy="23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Сиско Елена Викторов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ГБОУ СОШ «ОЦ» с. Воротнее м.р. Сергиев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333399"/>
                </a:solidFill>
                <a:latin typeface="Tahoma"/>
              </a:rPr>
              <a:t> </a:t>
            </a:r>
            <a:br>
              <a:rPr sz="1200"/>
            </a:br>
            <a:br>
              <a:rPr sz="12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АЛГОРИТМ РАЗРАБОТКИ СПЕЦИАЛЬНОЙ ИНДИВИДУАЛЬНОЙ ПРОГРАММЫ РАЗВИТИЯ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400" y="1066680"/>
            <a:ext cx="78487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Индивидуальные сведения о ребенк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О ребенк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зраст ребенк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сто жительств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ть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ец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д обучени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упень обучени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руппа(особые потребности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Структура СИПР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Индивидуальные сведения о ребенк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Структура СИП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Психолого-педагогическая характеристика. 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Индивидуальный учебный план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. Условия реализации потребности в уходе и присмотр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 Содержание образова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1. Базовые учебные действ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2. Содержание учебных предметов и коррекционных курс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3. Нравственное развити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4. Формирование экологической культуры, здорового и безопасного образа жизн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5. Внеурочная деятельность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. Специалисты, участвующие в реализации СИП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. Программа сотрудничества с семье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9. Перечень необходимых технических средств и дидактических материал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0. Средства мониторинга и оценки динамики обуч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ПЕЦИАЛЬНАЯ МЕТОДИЧЕСКАЯ ЛИТЕРАТУРА И ДРУГИЕИНФОРМАЦИОННЫЕ РЕСУРСЫ, НЕОБХОДИМЫЕ ДЛЯ ОРГАНИЗАЦИ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БУЧЕНИЯ С ОБУЧАЮЩИМИСЯ С ТМНР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680" y="2017440"/>
            <a:ext cx="78883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.САЙТ ИНСТИТУТА КОРРЕКЦИОННОЙ ПЕДАГОГИКИ РАО Г. МОСКВ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САЙТ ЦЛП Г. ПСКОВА В РАЗДЕЛЕ «БИБЛИОТЕКА»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ЛЕВЧЕНКО И.Ю., КИСЕЛЁВА Н.А. ПСИХОЛОГИЧЕСКОЕ ИЗУЧЕНИЕ ДЕТЕЙ С НАРУШЕНИЯМ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АЗВИТИЯ /ПОД НАУЧНОЙ РЕДАКЦИЕЙ И.Ю. ЛЕВЧЕНКО.-М.: НАЦИОНАЛЬНЫЙ КНИЖНЫЙ ЦЕНТР,2015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 ЖИГОРЕВА М.В., ЛЕВЧЕНКО И.Ю. ДЕТИ С КОМПЛЕКСНЫМИ НАРУШЕНИЯМИ РАЗВИТИЯ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ИАГНОСТИКА И СОПРОВОЖДЕНИЕ. — М.: НАЦИОНАЛЬНЫЙ КНИЖНЫЙ ЦЕНТР, 2016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. МАЛЛЕР А. Р., ЦИКОТО Г. В. ВОСПИТАНИЕ И ОБУЧЕНИЕ ДЕТЕЙ С ТЯЖЕЛОЙ ИНТЕЛЛЕКТУАЛЬНО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ЕДОСТАТОЧНОСТЬЮ: УЧЕБ. ПОСОБИЕ ДЛЯ СТУД. ВЫСШ. ПЕД. УЧЕБ. ЗАВЕДЕНИЙ. — М.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ЗДАТЕЛЬСКИЙ ЦЕНТР «АКАДЕМИЯ», 2003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6.МАЛЛЕР А.Р. ОБУЧЕНИЕ, ВОСПИТАНИЕ И ТРУДОВАЯ ПОДГОТОВКА ДЕТЕЙ С ГЛУБОКИМ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АРУШЕНИЯМИ ИНТЕЛЛЕКТА, М., 1998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7. ПРОГРАММА ОБРАЗОВАНИЯ УЧАЩИХСЯ С УМЕРЕННОЙ И ТЯЖЕЛОЙ УМСТВЕННОЙ ОТСТАЛОСТЬ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Д РЕДАКЦИЕЙ Л. Б. БАРЯЕВОЙ, Н. Н. ЯКОВЛЕВОЙ.-С-ПБ., 2011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8818560" cy="56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117360" y="380880"/>
            <a:ext cx="8798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89773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82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общеобразовательное учреждение Самарской области средняя общеобразовательная школа «Образовательный центр» с.Воротнее муниципального района Сергиевский Самарской области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80880" y="1219320"/>
          <a:ext cx="7980480" cy="1600200"/>
        </p:xfrm>
        <a:graphic>
          <a:graphicData uri="http://schemas.openxmlformats.org/drawingml/2006/table">
            <a:tbl>
              <a:tblPr/>
              <a:tblGrid>
                <a:gridCol w="3164040"/>
                <a:gridCol w="1101600"/>
                <a:gridCol w="3714840"/>
              </a:tblGrid>
              <a:tr h="160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Согласовано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дитель (законный представитель): ________ С.А. Набережне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_____»___________2022г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Утверждаю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иректор школы: _______  О.П. Коршиков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___»___________ 2022г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sp>
        <p:nvSpPr>
          <p:cNvPr id="126" name="Прямоугольник 6"/>
          <p:cNvSpPr/>
          <p:nvPr/>
        </p:nvSpPr>
        <p:spPr>
          <a:xfrm>
            <a:off x="2514600" y="2819520"/>
            <a:ext cx="45720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АЯ ИНДИВИДУАЛЬНА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РАЗВИТИ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Прямоугольник 8"/>
          <p:cNvSpPr/>
          <p:nvPr/>
        </p:nvSpPr>
        <p:spPr>
          <a:xfrm>
            <a:off x="474840" y="4017960"/>
            <a:ext cx="27255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йся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3_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а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амилия, им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: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11_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Прямоугольник 9"/>
          <p:cNvSpPr/>
          <p:nvPr/>
        </p:nvSpPr>
        <p:spPr>
          <a:xfrm>
            <a:off x="6259680" y="4311720"/>
            <a:ext cx="2590560" cy="20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ый  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еализацию программы: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Е.В. Сиско_____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ИО учител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2760840" y="5979960"/>
            <a:ext cx="45720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Воротнее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од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труктура СИП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. Общие сведения о ребёнк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 Психолого-педагогическая характеристика  обучающегося с ТМНР на начало учебного год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 Индивидуальный учебный план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 Содержание образования в условия организации и семь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1. Формирование базовых учебных действий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2. Содержание учебных предметов и коррекционных курсов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3. Нравственное развити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4. Формирование экологической культуры, здорового и безопасного образа жизн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5. Внеурочная деятельность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. Условия реализации потребности в уходе и присмотр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6. Специалисты, участвующие в разработке и реализации СИПР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7. Задачи, мероприятия и формы сотрудничества организации и семьи обучающегос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8. Технические средства и дидактические материала, необходимые для реализации СИПР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9. Средства оценки динамики обучения в процессе мониторинг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0. Приложен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яснительная запис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45840" y="1904760"/>
            <a:ext cx="849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ая индивидуальная программа развития (СИПР) разработана на основе АООП образования обучающихся с умеренной, тяжелой и глубокой умственной отсталостью (интеллектуальными нарушениями), тяжелыми и множественными нарушениями развития, (вариант 2) ГБОУ СОШ «Образовательный центр» с. Воротнее муниципального района Сергиевский Самарской области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ые документы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ый закон "Об образовании в Российской Федерации" от 29.12.2012 N 273-ФЗ (редакция 2016г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ый государственный образовательный стандарт образования обучающихся с умственной отсталостью (интеллектуальными нарушениями)», приказ Минобрнауки РФ от 19 декабря 2014 года №1599, зарегистрировано в Минюсте РФ 3 февраля 2015года №35850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НПИН 2.4.2.3286-15 «Санитарно-эпидемиологические требования к условиям и организации обучения и воспитания в организациях, осуществляющих образовательную деятельность по Адаптированным основным общеобразовательным программам для обучающихся с ограниченными возможностями здоровья», постановление от 10 июля 2015 года № 26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ебный план ГБОУ СОШ «ОЦ» с. Воротнее для обучающихся с умеренной, тяжелой и глубокой умственной отсталостью (интеллектуальными нарушениями), тяжелыми и множественными нарушениями развития (вариант2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ав ГБОУ СОШ «ОЦ» с. Воротнее  м.р. Сергиевский Самарской област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2240" y="380520"/>
            <a:ext cx="75358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щие сведения о ребёнк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3160" y="2017440"/>
            <a:ext cx="842148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программы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34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9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d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167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cdc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ФИО ребенка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Возраст ребенка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Место жительства:  с. Воротнее, ул.Почтовая, 2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Мать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Отец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Год обучения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Группа (особые потребности)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Ступень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Заключение ПМПК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результатам комплексного психолого-медико-педагогического обследования установлено, что ребенок с инвалидностью является обучающимся с ограниченными возможностями здоровья и нуждается в организации специальных образовательных условий. Простой уравновешенный вариант тотального недоразвития (средняя степень недоразвития), сочетанный с дефицитарностью в развитии двигательной сферы (детский церебральный паралич, нижний центральный парапарез со стойкими выраженными нарушениями двигательных функций). Уровень развития психических функций выражено не соответствует возрастной норме. Контакту доступен. Избирателен в выполнении заданий. Низкий уровень обучаемости (не всегда понимает смысл заданий, нуждается в организующей и обучающей помощи). Системное недоразвитие речи,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уровень развития. Стойкая выраженная социальная дезадаптация. Навыки самообслуживания сформированы частично. Передвигается на коляске с помощью сопровождающего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БУ СО «Сергиевский пансионат для детей-инвалидов (детский дом-интернат для умственно отсталых детей)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Picture 2" descr="http://minsocdem.samregion.ru/sites/default/files/fayl_6.jpg"/>
          <p:cNvPicPr/>
          <p:nvPr/>
        </p:nvPicPr>
        <p:blipFill>
          <a:blip r:embed="rId1"/>
          <a:stretch/>
        </p:blipFill>
        <p:spPr>
          <a:xfrm>
            <a:off x="228600" y="1752480"/>
            <a:ext cx="3201840" cy="24019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6"/>
          <p:cNvSpPr/>
          <p:nvPr/>
        </p:nvSpPr>
        <p:spPr>
          <a:xfrm>
            <a:off x="3809880" y="1447920"/>
            <a:ext cx="4876920" cy="53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ФЕДЕРАЛЬНЫЙ ЗАКОН РФ "ОБ ОБРАЗОВАНИИ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В РОССИЙСКОЙ ФЕДЕРАЦИИ", N 273-ФЗ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 2. П.16. ОБУЧАЮЩИЙСЯ С ОГРАНИЧЕННЫМИ ВОЗМОЖНОСТЯМИ ЗДОРОВЬЯ - ФИЗИЧЕСКОЕ ЛИЦО, ИМЕЮЩЕЕ НЕДОСТАТКИ В ФИЗИЧЕСКОМ И (ИЛИ) ПСИХОЛОГИЧЕСКОМ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РАЗВИТИИ, ПОДТВЕРЖДЕННЫЕ ПСИХОЛОГО-МЕДИКО-ПЕДАГОГИЧЕСКОЙ КОМИССИЕЙ И ПРЕПЯТСТВУЮЩИЕ ПОЛУЧЕНИЮ ОБРАЗОВАНИЯ БЕЗ СОЗДАНИЯ СПЕЦИАЛЬНЫХ УСЛОВИЙ.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 5. П.5. В ЦЕЛЯХ РЕАЛИЗАЦИИ ПРАВА КАЖДОГО ЧЕЛОВЕКА НА ОБРАЗОВАНИЕ …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ОЗДАЮТСЯ НЕОБХОДИМЫЕ УСЛОВИЯ ДЛЯ ПОЛУЧЕНИЯ БЕЗ ДИСКРИМИНАЦИИ КАЧЕСТВЕННОГО ОБРАЗОВАНИЯ ЛИЦАМИ С ОГРАНИЧЕННЫМИ ВОЗМОЖНОСТЯМИ ЗДОРОВЬЯ, ДЛЯ КОРРЕКЦИИ НАРУШЕНИЙ РАЗВИТИЯ И СОЦИАЛЬНОЙ АДАПТАЦИИ…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11. П.6. В ЦЕЛЯХ ОБЕСПЕЧЕНИЯ РЕАЛИЗАЦИИ ПРАВА НА ОБРАЗОВАНИЕ ОБУЧАЮЩИХСЯ С ОГРАНИЧЕННЫМИ ВОЗМОЖНОСТЯМИ ЗДОРОВЬЯ УСТАНАВЛИВАЮТСЯ ФЕДЕРАЛЬНЫЕ ГОСУДАРСТВЕННЫЕ ОБРАЗОВАТЕЛЬНЫЕ СТАНДАРТЫ ОБРАЗОВАНИЯ УКАЗАННЫХ ЛИЦ.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сихолого-педагогическая характеристика обучающегося на начало учебного год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520" y="1142640"/>
            <a:ext cx="8574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общей моторики: удерживает голову, совершает повороты, наклоны головы, поднимается на предплечьях, поворачивается со спины на живот (с живота на спину), сидит на полу с вытянутыми вперед ногами, сидит на стуле (без фиксации), встает, держась за опору, ползает на четвереньках, наклоняется самостоятельно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передвигается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помощью кресла-коляск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Передвижение с помощью индивидуальных технических средств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мелкой моторики: удерживает вложенный в руку предмет, захватывает предложенный предмет, держит небольшой предмет двумя руками, держит большой предмет двумя руками, разворачивает предмет в руке, чтобы удобнее захватить, распределяет пальцы на предмете, чтобы удобнее захватить, перекладывает предмет из руки в руку, берет предмет со стола, манипулирует с одним предметом, захватывает каждой рукой по предмету и удерживает (стучит друг о друга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эмоциональной сферы: эмоциональные проявления (реагирует на проявления эмоций другого человека, ответные эмоции не соответствуют ситуации), преобладающий эмоциональный фон (позитивный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еустойчивый), эмоциональный контроль (успокаивается при вмешательстве взрослого: по просьбе взрослого, при переключении на другую деятельность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Мальчик спокойный, особенностей в поведении не наблюдается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зрительного восприятия: зрительное поведение - прикасается к глазам пальцами, щурится, наклоняет голову вперед/назад, когда смотрит; приближает предмет к глазам или сам низко наклоняется; зрительное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прослеживание;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контраст –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лабый; зрительный образ – узнает знакомые предметы на фотографии, цветной картинке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луховое восприятие: воспринимает и узнает неречевые звуки, определяет направление звука в пространстве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тактильного восприятия: берет предметы в рот, ощупывает предметы одной/двумя руками, кончиками пальцев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речевого развития: затруднено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формирование экспрессивных движений (мимика, указательные жесты и др.)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трудом произносит отдельные звуки и слоги. Импрессивная речь развита на низком уровне (понимает простые по звуковому составу слова дай, мяу, дядя). Низкий уровень владения вербальными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средствами альтернативной коммуникации (устанавливае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зрительный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контак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собеседником, приветствуе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обеседника звуком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предметно-практической деятельности на низком уровне: выполняет простые действия с инструментами, материалам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ые базовые учебные действия: направленность взгляда на говорящего взрослого, спокойное пребывание в новой среде, перемещение в новой среде без проявления дискомфорта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математических представлений у мальчика отсутствуют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представлений об окружающем мире: знает нянь, воспитателя, учителя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Мальчик устанавливает контакт со взрослыми: смотрит на говорящего, вокализирует, улыбается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Контакт со сверстниками не устанавливает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У Димы навыки самообслуживания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тсутствуют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авыки бытовой деятельности у мальчика отсутствуют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Трудовая деятельность не доступна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еобходим полный объём помощи со стороны окружающих, нуждается в особом питани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Требуется постоянный присмотр за мальчиком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7929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ндивидуальный учебный план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219320" y="1143000"/>
          <a:ext cx="7238880" cy="5584680"/>
        </p:xfrm>
        <a:graphic>
          <a:graphicData uri="http://schemas.openxmlformats.org/drawingml/2006/table">
            <a:tbl>
              <a:tblPr/>
              <a:tblGrid>
                <a:gridCol w="904680"/>
                <a:gridCol w="905040"/>
                <a:gridCol w="904680"/>
                <a:gridCol w="905040"/>
                <a:gridCol w="904680"/>
                <a:gridCol w="905040"/>
                <a:gridCol w="904680"/>
                <a:gridCol w="905040"/>
              </a:tblGrid>
              <a:tr h="878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, коррекционный курс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-повые занят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занятия</a:t>
                      </a:r>
                      <a:endParaRPr b="1" lang="en-US" sz="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/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ьюто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логопед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культуры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дефектолог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-психолог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 и альтернативная (доп.) коммуникац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ческие представлен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природный ми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социальный ми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аптивная физкультура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 и движен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зительная деятельность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оводство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ный труд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онно-развивающие занят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орное развит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. действ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гательное развит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тернативная коммуникац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урочная деятельность: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">
                <a:tc grid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                                              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 1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79292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одержание образования в условия организации и семьи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Rectangle 165"/>
          <p:cNvSpPr/>
          <p:nvPr/>
        </p:nvSpPr>
        <p:spPr>
          <a:xfrm>
            <a:off x="762120" y="1897560"/>
            <a:ext cx="78483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 Формирование базовых учебных действий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 Создание благоприятной обстановки, способствующей формированию положительной мотивации пребывания в образовательной организации и эмоциональному конструктивному взаимодействию с взрослыми (учитель, воспитатель, ассистент и др.) и сверстниками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1. Спокойное пребывание в новой среде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3. Принятие контакта, инициированного взрослым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4. Установление контакта с педагогом и другими взрослыми, участвующими в организации учебного процесса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 Формирование учебного поведени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1. Поддержание правильной позы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4. Выполнение простых речевых инструкций (дай, возьми, встань, сядь, подними и др.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4595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курсов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7080" y="3505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38080" y="990720"/>
          <a:ext cx="7315200" cy="5533920"/>
        </p:xfrm>
        <a:graphic>
          <a:graphicData uri="http://schemas.openxmlformats.org/drawingml/2006/table">
            <a:tbl>
              <a:tblPr/>
              <a:tblGrid>
                <a:gridCol w="3851280"/>
                <a:gridCol w="1154160"/>
                <a:gridCol w="1155600"/>
                <a:gridCol w="1154160"/>
              </a:tblGrid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учебного год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Речь и альтернативная (дополнительная) коммуникац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 Коммуникац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 Коммуникация с использованием вербальных средств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. Использование звук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2. Использование звукоподражания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 Коммуникация с использованием невербальных средств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1. Использование взгляд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2. Использование мимики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3. Использование жест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4. Использование звучащего предмет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Развитие речи средствами вербальной и невербальной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 Импрессивная реч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1. Понимание слова, обозначающего собственное им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2. Понимание слов, обозначающих названия членов семьи, имена членов семьи, учащихся класса, педагогов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2. Экспрессивная реч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2.1. Называние (употребление) отдельных звуков, звукоподражаний, звуковых комплексов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79292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курсов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09480" y="609480"/>
          <a:ext cx="7772400" cy="6450120"/>
        </p:xfrm>
        <a:graphic>
          <a:graphicData uri="http://schemas.openxmlformats.org/drawingml/2006/table">
            <a:tbl>
              <a:tblPr/>
              <a:tblGrid>
                <a:gridCol w="4859280"/>
                <a:gridCol w="971640"/>
                <a:gridCol w="970200"/>
                <a:gridCol w="971280"/>
              </a:tblGrid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Математические представлен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Количественные представлен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1. Нахождение одинаковых предмето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кружающий природ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 Живот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1. Знание строения животного (голова, туловище, лапы, рога, хвост, уши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Человек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 Представления о себе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1. Узнавание (различение) мальчика и девочки по внешнему виду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 Семь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1. Узнавание (различение) членов семь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 Гигиена тел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4. Вытирание рук полотенцем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12. Вытирание лиц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. Обращение с одеждой и обувью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.1. Узнавание (различение) предметов одежды пальто (куртка, шуба, плащ), шапка, шарф, варежки, свитер, рубашка, майка, трусы, брюки, носки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 Прием пищ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1. Сообщение о желании пить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3. 4.5.3. Питье из кружки /стакана (захват кружки /стакана, поднесение кружки/стакана ко рту, наклон кружки/стакана, втягивание / вливание жидкости в рот, опускание кружки/стакана на стол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7. Еда ложкой (захват ложки, зачерпывание ложкой пищи из тарелки, поднесение ложки с пищей ко рту, снятие с ложки пищи губами, опускание ложки в тарелку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 Туалет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1. Сообщение о желании сходить в туалет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2. Сидение на унитазе и оправление малой (большой) нужды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Окружающий социаль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. Предметы и материалы, изготовленные человеком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.1. Знание свойств бумаги (рвется, мнется, намокает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. Квартира, дом, дво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.1. Узнавание (различение) частей дома (крыша, окно, дверь, потолок, пол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Заголовок 1"/>
          <p:cNvSpPr/>
          <p:nvPr/>
        </p:nvSpPr>
        <p:spPr>
          <a:xfrm>
            <a:off x="914400" y="76320"/>
            <a:ext cx="7459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занятий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43000" y="457200"/>
          <a:ext cx="6629400" cy="6777000"/>
        </p:xfrm>
        <a:graphic>
          <a:graphicData uri="http://schemas.openxmlformats.org/drawingml/2006/table">
            <a:tbl>
              <a:tblPr/>
              <a:tblGrid>
                <a:gridCol w="4145040"/>
                <a:gridCol w="826920"/>
                <a:gridCol w="828720"/>
                <a:gridCol w="828720"/>
              </a:tblGrid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Музыка и движе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 Слуша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1. Различение тихого и громкого звучания музык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 Пе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1. Подражание характерным звукам животных во время звучания знакомой песн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 Движение под музыку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1. Выполнение движений разными частями тела под музыку (топанье, хлопанье в ладоши, «фонарики», «пружинка», наклоны головы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. Коррекционный раздел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.1. Реакция на низкочастотные немузыкальные звуки (сердцебиение, внутриутробные звук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Сенсорное развит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 Зрительн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1. Удержание взгляда на лице челове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2. Удержание взгляда на неподвижном светящемся предмете (фонарик, пламя свечи, светящиеся игрушк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3. Удержание взгляда на неподвижном предмете, расположенном на уровне глаз, напротив ребен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 Слухов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1. Слушание речевых звуков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2. Слушание неречевых звуков (звуки природы, бытовые звуки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 Кинестетическ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1. Реакция на прикосновения челове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2. Реакция на соприкосновение с материалами, различными по температуре (теплый, холодный), фактуре (гладкий, шероховатый, др.), влажности (сухой, влажный, мокрый), вязкости (жидкий, густой, сыпучий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. Восприятие запаха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.1. Реакция на запах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Предметно-практические действ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 Действия с материалам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1. Сминание материала (салфетки, туалетная бумага, бумажные полотенца, газета, цветная, папиросная бумага, калька и др.) двумя руками (одной рукой, пальцам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2. Разрывание материала (бумагу, вату, природный материал) двумя руками, направляя руки в разные стороны (двумя руками, направляя одну руку к себе, другую руку от себя; пальцами обеих рук, направляя одну руку к себе, другую руку от себя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3. Размазывание материала руками (сверху вниз, слева направо, по кругу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4. Разминание материала (тесто, пластилин) двумя руками (одной рукой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 Действия с предметам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1. Захватывание, удержание, отпускание предмета (шарики, кубики, мелкие игрушки, шишки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2. Встряхивание предмета, издающего звук (бутылочки с бусинками или крупой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  Двигательное развит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 Общеразвивающие и корригирующие упражнен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2. Выполнение движений головой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3. Выполнение движений руками: вперед, назад, вверх, в стороны, «круговые»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4. Выполнение движений пальцами рук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 Альтернативная коммуникац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 Коммуникация с использованием невербальных средств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1. Использование взгляда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2. Использование мимики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3. Использование жеста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. Импрессивная речь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.1. Понимание слова, обозначающего собственное им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5720" y="1519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равственное воспитание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04920" y="1523880"/>
          <a:ext cx="8458200" cy="3802320"/>
        </p:xfrm>
        <a:graphic>
          <a:graphicData uri="http://schemas.openxmlformats.org/drawingml/2006/table">
            <a:tbl>
              <a:tblPr/>
              <a:tblGrid>
                <a:gridCol w="4908600"/>
                <a:gridCol w="1811160"/>
                <a:gridCol w="1738440"/>
              </a:tblGrid>
              <a:tr h="365400">
                <a:tc rowSpan="2"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gridSpan="2"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наблюден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37160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брожелательно и уважительно относиться к окружающим (членам семьи, сверстникам, членам школьного коллектива, учителям и др.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69884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койно вести себя в помещении и на улиц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2880" y="304920"/>
            <a:ext cx="77914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ормирование экологической культуры, здорового и безопасного образа жизн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600200"/>
          <a:ext cx="8534520" cy="5078520"/>
        </p:xfrm>
        <a:graphic>
          <a:graphicData uri="http://schemas.openxmlformats.org/drawingml/2006/table">
            <a:tbl>
              <a:tblPr/>
              <a:tblGrid>
                <a:gridCol w="4794120"/>
                <a:gridCol w="1892520"/>
                <a:gridCol w="1847880"/>
              </a:tblGrid>
              <a:tr h="320040">
                <a:tc rowSpan="2"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gridSpan="2"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наблюд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598760"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я об основах экологической культуры на примере экологически сообразного поведения в быту и природе, безопасного для человека и окружающей среды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ок спокойно относился к водным процедурам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154520"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ние правил здорового питания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щательно пережевывать пищ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пешить во время ед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687320"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ность безбоязненно обращаться к врачу по любым вопросам, связанным с особенностями состояния здоровья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лять врачу осматривать себя: открывать рот, поднимать рубашку и т.п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лять врачу измерять твой рост, вес, слушать фонендоскопом, делать ЭЭГ, ЭКГ, флюорографию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урочная деятельност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52280" y="914400"/>
          <a:ext cx="8534520" cy="5583240"/>
        </p:xfrm>
        <a:graphic>
          <a:graphicData uri="http://schemas.openxmlformats.org/drawingml/2006/table">
            <a:tbl>
              <a:tblPr/>
              <a:tblGrid>
                <a:gridCol w="2371680"/>
                <a:gridCol w="2856240"/>
                <a:gridCol w="3306600"/>
              </a:tblGrid>
              <a:tr h="390600"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ая деятельность ребенка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ебенка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знан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ствие на торжественной линейке, праздничном завтраке, участие в работе станц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, присутствовал на линейке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02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здоровь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портивных станциях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льщик, радовался за участников спортивных игр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50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 Осен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празднику: изготовление поделок на тему «Осень», участие в проведении праздник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 игры «Разложи осенние листочки»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6206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годний праздник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изготовление украшений класса, новогодних поделок, открыток; участие в Новогоднем праздник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ениц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знакомство с атрибутами праздника, участие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7780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 «8 марта»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знакомство с атрибутами праздника, изготовление открыток; участие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8592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х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покраска яиц, изготовление украшений, оформление класс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512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ёлые старт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портивных эстафетах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50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с мячом, настольные дидактические игры «Лото», «Домино», сенсорные игры, подвижные игры в спортивном зал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ний учебный ден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ствие на торжественной линейке, праздничном завтраке, участие в работе станц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 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урочная деятельность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3880" y="1523880"/>
          <a:ext cx="6096240" cy="24066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01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роприятия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ая деятельность ребенка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ебенка в мероприяти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равствуй, школа!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кладывание цветных карандашей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 "Собери пенал"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годний утренни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кание бумаги для снежков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ет в снеж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остях у миш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массаж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сновыми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шишками 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 "Собери шишки"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600200" y="4191120"/>
          <a:ext cx="6095880" cy="12031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рабочей программ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предметные результат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личностные результат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шебные крас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ксация взгляда на предмете.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оваться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7929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ИСЬМО МИНОБРНАУКИ РОССИИ 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ОТ 11.08.2016 № ВК-1788/07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«ОБ ОРГАНИЗАЦИИ ОБРАЗОВАНИЯ ОБУЧАЮЩИХСЯ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 УМСТВЕННОЙ ОТСТАЛОСТЬЮ»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ФГОС ДЛЯ ОБУЧАЮЩИХСЯ С УМСТВЕННОЙ ОТСТАЛОСТЬЮ МОЖЕТ БЫ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ЕАЛИЗОВАН ПРИ ОРГАНИЗАЦИИ ОБУЧЕНИЯ ОБУЧАЮЩИХСЯ С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УМСТВЕННОЙ ОТСТАЛОСТЬЮ СОВМЕСТНО С ДРУГИМИ ОБУЧАЮЩИМИСЯ, В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ТДЕЛЬНЫХ КЛАССАХ, ГРУППАХ ИЛИ В ОТДЕЛЬНЫХ ОРГАНИЗАЦИЯХ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СУЩЕСТВЛЯЮЩИХ ОБРАЗОВАТЕЛЬНУЮ ДЕЯТЕЛЬНОС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(ОБЩЕОБРАЗОВАТЕЛЬНЫЕ ОРГАНИЗАЦИИ, МЕДИЦИНСКИЕ ОРГАНИЗАЦИИ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АНАТОРНЫЕ ОРГАНИЗАЦИИ, ДЕТСКИЕ ДОМА-ИНТЕРНАТЫ СИСТЕМ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ОЦИАЛЬНОЙ ЗАЩИТЫ), ИЛИ ВНЕ ИХ - В ФОРМЕ СЕМЕЙНОГО ОБРАЗОВАНИЯ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А ТАКЖЕ НА ДОМ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50720" y="2286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Условия реализации потребности в уходе и присмотр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295280" y="1384200"/>
          <a:ext cx="6858000" cy="5208840"/>
        </p:xfrm>
        <a:graphic>
          <a:graphicData uri="http://schemas.openxmlformats.org/drawingml/2006/table">
            <a:tbl>
              <a:tblPr/>
              <a:tblGrid>
                <a:gridCol w="711360"/>
                <a:gridCol w="869760"/>
                <a:gridCol w="868680"/>
                <a:gridCol w="636480"/>
                <a:gridCol w="635040"/>
                <a:gridCol w="714240"/>
                <a:gridCol w="846000"/>
                <a:gridCol w="844560"/>
                <a:gridCol w="731880"/>
              </a:tblGrid>
              <a:tr h="19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недел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.00-11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-11.4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0-13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0-14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00-16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0-16.4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40-17.1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00-21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н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 и альтернативная коммуникация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Аникина Т.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жок "Волшебные краски"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орное развитие педагог-психолог Якимова Я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ческие представления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ая деятельность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ие действия учитель-дефектолог Комаровская М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природный мир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. Игротерапия 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тернативная коммуникация учитель-логопед Земскова Н.А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гательное развитие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ие действия учитель-дефектолог Комаровская М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социальный мир учитель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 и движение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ая деятельность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6172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ециалисты, участвующие в реализации СИП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04760"/>
            <a:ext cx="826920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ко Е.В. – учитель начальных классов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скова Н.А – учитель-логопед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имова Я.П. - учитель-психолог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нотенко Ю.И. .- учитель-дефектолог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Задачи, мероприятия и формы сотрудничества организации и семьи обучающегос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838080" y="1219320"/>
          <a:ext cx="7086600" cy="5521320"/>
        </p:xfrm>
        <a:graphic>
          <a:graphicData uri="http://schemas.openxmlformats.org/drawingml/2006/table">
            <a:tbl>
              <a:tblPr/>
              <a:tblGrid>
                <a:gridCol w="2362320"/>
                <a:gridCol w="2362320"/>
                <a:gridCol w="2361960"/>
              </a:tblGrid>
              <a:tr h="158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 о проведен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ческая поддержка семьи (законных представителей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тренингах «Взаимодействие родителей (законных представителей) с «особыми» детьм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емейных встречах «Клуба выходного дня»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консультации с психологом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осведомленности родителей  (законных представителей) об особенностях развития и специфических образовательных потребностях ребенк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консультации родителей (законных представителей) со специалистами (раз в триместр)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ческие семинары: «Особенности развития ребенка с ДЦП», «Развитие двигательных навыков ребенка с ДЦП»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пециалистов и семьи в ходе разработки и реализации СИП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азработке и реализации СИП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е родителями (законными представителями) уроков/занятий в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ые встречи, беседы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7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участия родителей (законных представителей)  в деятельности образовательной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 в планировании, разработке и реализации мероприятий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ешении вопросов, связанных с управлением образовательной организацией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о взаимодействии с другими организациям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ешении хозяйственных вопросов образовательной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Технические средства и дидактические материалы, необходимые для реализации СИПР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карточки с изображениями объектов, людей, действий (фотографии, пиктограммы, символы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пазлы (из 2-х, 3-х, 4-х частей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предметные и сюжетные картинки, фотографии с изображением членов семьи ребенка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музыкальные инструменты: погремушки, колокольчики, бубенцы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бумага (цветная, белая),  карандаши (простые, цветные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спортивный инвентарь: гимнастические мячи разного диаметра, кегл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игрушки и предметы со световыми, звуковыми эффектам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технические средства: кресла-каляск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редства мониторинга и оценки динамики обуч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3520" y="1523880"/>
          <a:ext cx="7502400" cy="4876920"/>
        </p:xfrm>
        <a:graphic>
          <a:graphicData uri="http://schemas.openxmlformats.org/drawingml/2006/table">
            <a:tbl>
              <a:tblPr/>
              <a:tblGrid>
                <a:gridCol w="6937200"/>
                <a:gridCol w="565200"/>
              </a:tblGrid>
              <a:tr h="262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ни освоения (выполнения) действий/операц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сивное участие/соучастие - действие выполняется взрослым (ребёнок позволяет что-нибудь сделать с ним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958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е участие - действие выполняется ребёнком: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о значительной помощью взросло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 частичной помощью взросло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последовательной инструкции (изображения или вербально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ражанию или по образц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 с ошибкам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62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ность представл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отсутствуе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ыявить наличие представл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3064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на уровне: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я по прямой подсказк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я с косвенной подсказкой (изображение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го использов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61720" y="38088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ложения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исок литературы для учител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0520" y="1752120"/>
            <a:ext cx="872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лексеева Е.И., Андреева С.В. Формирование навыков общения с использованием средств альтернативной коммуникации у детей с тяжелыми и множественными нарушениями развития – Воспитание и обучение детей с нарушениями развития № 5, 2014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аряева Л.Б., Бгажнокова И.М., Бойков Д.И., Зарин AM., Комаров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В. Обучение детей с выраженным недоразвитием интеллекта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но-методические материалы / под ред. И.М. Бгажноковой - М.: Гуманитар, изд. центр ВЛАДОС, 2007. — 181 с. — (Коррекционная педагогика).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ррекционно-педагогическая работа в домах – интернатах для детей с умственным и физическим недоразвитием: Пособие для педагогов 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ред. Лисовской Т.В. – Минск: Национальный институт образования, 2008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етодика учебно-воспитательной работы в центре коррекционно-развивающего обучения и реабилитации: Учеб.- метод. пособие/ М. Вентланд, С.Е. Гайдукевич, Т.В. Горудко и др.; Науч. ред.С.Е. Гайдукевич. – Мн.: БГПУ, 2009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Царёв А.М., Рудакова Е.А., Сухарева О.Ю. Дети с тяжелыми и множественными нарушениями развития /Дошкольное воспитание 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детей с комплексными нарушениями / под. Ред. Л.А. Головчиц: учебное пособие.- М., Логомаг, 2015. – 266 с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онцепция Специального Федерального государственного образовательного стандарта для детей с ОВЗ / Н.Н. Малофеев, О.И. Кукушкина, О.С. Никольская, Е.Л. Гончарова. М.: Просвещение, 2013. 42 с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6" descr=""/>
          <p:cNvPicPr/>
          <p:nvPr/>
        </p:nvPicPr>
        <p:blipFill>
          <a:blip r:embed="rId1"/>
          <a:stretch/>
        </p:blipFill>
        <p:spPr>
          <a:xfrm>
            <a:off x="4730760" y="27936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7" descr=""/>
          <p:cNvPicPr/>
          <p:nvPr/>
        </p:nvPicPr>
        <p:blipFill>
          <a:blip r:embed="rId2"/>
          <a:stretch/>
        </p:blipFill>
        <p:spPr>
          <a:xfrm>
            <a:off x="380880" y="279360"/>
            <a:ext cx="4152960" cy="27687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8" descr=""/>
          <p:cNvPicPr/>
          <p:nvPr/>
        </p:nvPicPr>
        <p:blipFill>
          <a:blip r:embed="rId3"/>
          <a:stretch/>
        </p:blipFill>
        <p:spPr>
          <a:xfrm>
            <a:off x="4724280" y="337356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"/>
          <p:cNvPicPr/>
          <p:nvPr/>
        </p:nvPicPr>
        <p:blipFill>
          <a:blip r:embed="rId4"/>
          <a:stretch/>
        </p:blipFill>
        <p:spPr>
          <a:xfrm>
            <a:off x="127080" y="3349800"/>
            <a:ext cx="44006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09520" y="6094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5" name="Рисунок 1" descr=""/>
          <p:cNvPicPr/>
          <p:nvPr/>
        </p:nvPicPr>
        <p:blipFill>
          <a:blip r:embed="rId1"/>
          <a:stretch/>
        </p:blipFill>
        <p:spPr>
          <a:xfrm>
            <a:off x="228600" y="127476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" descr=""/>
          <p:cNvPicPr/>
          <p:nvPr/>
        </p:nvPicPr>
        <p:blipFill>
          <a:blip r:embed="rId2"/>
          <a:stretch/>
        </p:blipFill>
        <p:spPr>
          <a:xfrm>
            <a:off x="4741920" y="3924360"/>
            <a:ext cx="3975120" cy="26985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3" descr=""/>
          <p:cNvPicPr/>
          <p:nvPr/>
        </p:nvPicPr>
        <p:blipFill>
          <a:blip r:embed="rId3"/>
          <a:stretch/>
        </p:blipFill>
        <p:spPr>
          <a:xfrm>
            <a:off x="4786200" y="1244520"/>
            <a:ext cx="3930840" cy="26211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" descr=""/>
          <p:cNvPicPr/>
          <p:nvPr/>
        </p:nvPicPr>
        <p:blipFill>
          <a:blip r:embed="rId4"/>
          <a:stretch/>
        </p:blipFill>
        <p:spPr>
          <a:xfrm>
            <a:off x="223920" y="4122720"/>
            <a:ext cx="4048200" cy="26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523880" y="2057400"/>
          <a:ext cx="6364440" cy="4467240"/>
        </p:xfrm>
        <a:graphic>
          <a:graphicData uri="http://schemas.openxmlformats.org/drawingml/2006/table">
            <a:tbl>
              <a:tblPr/>
              <a:tblGrid>
                <a:gridCol w="3183120"/>
                <a:gridCol w="3181320"/>
              </a:tblGrid>
              <a:tr h="509760">
                <a:tc>
                  <a:txBody>
                    <a:bodyPr lIns="9360" rIns="9360" tIns="9360" bIns="9360" anchor="t">
                      <a:noAutofit/>
                    </a:bodyPr>
                    <a:p>
                      <a:pPr marL="75240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тегория детей с ОВЗ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4284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рианты программ ФГОС НОО обучающихся с ОВЗ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лух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, 1.2, 1.3, 1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абослышащ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, 2.2, 2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пы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, 3.2, 3.3, 3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абовидящ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, 4.2, 4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тяжелыми нарушениями реч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1, 5.2, 5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нарушениями ОД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1, 6.2, 6.3, 6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задержкой психического развит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1, 7.2, 7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расстройствами аутистического спектр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1, 8.2, 8.3, 8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ти с умственной отсталостью(интеллектуальными нарушениями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ГОС образования обучающихся с умственной отсталостью (интеллектуальными нарушениями)-варианты1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Прямоугольник 2"/>
          <p:cNvSpPr/>
          <p:nvPr/>
        </p:nvSpPr>
        <p:spPr>
          <a:xfrm>
            <a:off x="1523880" y="1522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ИСЬМО МИНОБРНАУКИ РОССИИ 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ОТ 11.08.2016 № ВК-1788/07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«ОБ ОРГАНИЗАЦИИ ОБРАЗОВАНИЯ ОБУЧАЮЩИХСЯ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 УМСТВЕННОЙ ОТСТАЛОСТЬЮ»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ДЕТИ С ТЯЖЕЛЫМИ И МНОЖЕСТВЕННЫМИ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НАРУШЕНИЯ РАЗВИТИЯ (ТМНР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ЕТИ с ТМНР– ЭТО ДЕТИ С УМЕРЕННОЙ, ТЯЖЕЛОЙ И ГЛУБОКОЙ УМСТВЕННОЙ ОТСТАЛОСТЬЮ, ИМЕЮЩИЕ ДРУГИЕ ПЕРВИЧНЫЕ НАРУШЕНИЯ: НАРУШЕНИЯ ОПОРНО-ДВИГАТЕЛЬНОГО СФЕРЫ (ДЦП РАЗНОЙ ФОРМЫ И СТЕПЕНИ ТЯЖЕСТИ), ТЯЖЁЛЫЕ НАРУШЕНИЯ РЕЧИ, НАРУШЕНИЕ ФУНКЦИЙ АНАЛИЗАТОРНЫХ СИСТЕМ (ЗРЕНИЯ, СЛУХА, ТАКТИЛЬНОЙ ЧУВСТВИТЕЛЬНОСТИ), РАССТРОЙСТВА ЭМОЦИОНАЛЬНО-ВОЛЕВОЙ СФЕРЫ (НАРУШЕНИЯ РЕГУЛЯЦИИ ПОВЕДЕНИЯ), АУТИСТИЧЕСКИЕ РАССТРОЙСТВА (НАРУШЕНИЕ КОММУНИКАЦИИ, СОЦИАЛЬНОГО ВЗАИМОДЕЙСТВИЯ И ПОВЕДЕНИЯ, СТЕРЕОТИПНЫЕ ДЕЙСТВИЯ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88502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304920" y="1754280"/>
          <a:ext cx="8610480" cy="4027320"/>
        </p:xfrm>
        <a:graphic>
          <a:graphicData uri="http://schemas.openxmlformats.org/drawingml/2006/table">
            <a:tbl>
              <a:tblPr/>
              <a:tblGrid>
                <a:gridCol w="5119560"/>
                <a:gridCol w="3490920"/>
              </a:tblGrid>
              <a:tr h="969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-23 уч. год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асс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ые потребност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6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руппа –  ДЦП (тетрапарез со стойкими выраженными нарушениями двигательных функций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руппа –  ДЦП (нижний центральный парапарез со стойкими выраженными нарушениями двигательных функций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реч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ное недоразвитие речи тяжелой степени (1 уровень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22120" y="38088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По заключениям ПМПК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9140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СПЕЦИАЛЬНАЯ ИНДИВИДУАЛЬНАЯ ПРОГРАММА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РАЗВИТИЯ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ИПР –специальная индивидуальная программа развит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Ь РАЗРАБОТКИ СИПР - ПОСТРОЕНИЕ ОБРАЗОВАТЕЛЬНОГО ПРОЦЕССА, ПР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ТОРОМ УЧИТЫВАЮТСЯ ИНДИВИДУАЛЬНЫЕ ОСОБЕННОСТИ РАЗВИТИЯ РЕБЕНКА С ИНТЕЛЛЕКТУАЛЬНОЙ НЕДОСТАТОЧНОСТЬЮ, ЕГО РЕАЛЬНЫЕ ВОЗМОЖ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Ь РЕАЛИЗАЦИИ СИПР - ОБРЕТЕНИЕ РЕБЕНКОМ С УМСТВЕННОЙ ОТСТАЛОСТЬЮ ЖИЗНЕННО ВАЖНЫХ КОМПЕТЕНЦИЙ, КОТОРЫЕ ПОЗВОЛЯТ ЕМУ ДОСТИГНУТЬ МАКСИМАЛЬНОГО УРОВНЯ САМОСТОЯТЕЛЬ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150920" y="214200"/>
            <a:ext cx="7804080" cy="59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ИПР разрабатываетс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УМСТВЕННОЙ ОТСТАЛОСТЬЮ (ИНТЕЛЛЕКТУАЛЬНЫМИ НАРУШЕНИЯМИ) Вариант 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ГЛУХИХ ОБУЧАЮЩИХСЯ Вариант 1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епых обучающихся Вариант 3.4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НАРУШЕНИЯМИ ОПОРНО-ДВИГАТЕЛЬНОГО АППАРАТА Вариант 6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БУЧАЮЩИХСЯ С РАССТРОЙСТВАМИ АУТИСТИЧЕСКОГО СПЕКТРА Вариант 8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ИПР не разрабатываетс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ГЛУХИХ ОБУЧАЮЩИХСЯ Вариант 1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абослышащих и позднооглохших обучающихся Вариант 2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епых обучающихся Вариант 3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АБОВИДЯЩИХ ОБУЧАЮЩИХСЯ Вариант 4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НАРУШЕНИЯМИ ОПОРНО-ДВИГАТЕЛЬНОГО АППАРАТА Вариант 6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БУЧАЮЩИХСЯ С РАССТРОЙСТВАМИ АУТИСТИЧЕСКОГО СПЕКТРА Вариант 8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2-12-01T03:28:57Z</dcterms:modified>
  <cp:revision>2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