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3EB-AB5F-4B3E-9DE7-FA5D22CC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698-1AB6-4140-9D9F-E6A662AB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543-B1CA-4BAB-B590-C4EA0070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CD1-2FDA-4516-BB95-B784F0A7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30C4-663A-46E4-99C8-D8ADA42E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BEA5-5E85-4B2A-9628-A9C5AACD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5129-0741-48F1-B943-D4E1B646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ED38-3A51-4597-95B4-C9A121CD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5013-CAD7-42F1-8888-5C6DFE81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DF5B-D312-49CD-95DC-5F719FCA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BE27-1AF7-4961-8F6C-9C07D70D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5C6-A6F8-48BC-A536-EEB4A446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BF3A-C1BB-4A04-A121-81622E97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8D69-E8FB-4DCF-A2B1-CA7D8664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8BBF-A829-437F-BBC6-F5CA4F4D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9D6A-571C-40FF-AD79-1F037910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D544-A426-4433-AB4C-0AD7550E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B42-2B83-4450-9323-D20B1AF1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9F2-82D0-4859-A348-534816F4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23E-F91E-4308-8A3C-6F80D686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B0D-2832-4616-9F81-48ABF8F3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232-B021-463F-BF70-86731A36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49C-0BC4-4057-967B-33499932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C05-446A-42B4-BB83-E8EA9F95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FCC8-58FF-4B4A-9639-48F32C1E402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B02D-1755-41DA-999F-ACC8991C846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5416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«Разработка и реализация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ПР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для обучающихся с ТМНР» </a:t>
            </a:r>
            <a:br>
              <a:rPr sz="36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4191120"/>
            <a:ext cx="4876560" cy="23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ско Елена Викто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ГБОУ СОШ «ОЦ» с. Воротнее м.р. Серги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АЛГОРИТМ РАЗРАБОТКИ СПЕЦИАЛЬНОЙ ИНДИВИДУАЛЬНОЙ ПРОГРАММЫ РАЗВИТИЯ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О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зраст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сто житель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ец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д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упень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(особые потребност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Психолого-педагогическая характеристика.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Индивидуальный учебный пл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Содержание образ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1. Базовые учебные действ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2. Содержание учебных предметов и коррекцион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3. Нравственное развит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4. Формирование экологической культуры, здорового и безопасного образа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5. Внеурочная деятельн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Специалисты, участвующие в реализации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Программа сотрудничества с семь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. Перечень необходимых технических средств и дид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. Средства мониторинга и оценки динамики об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ПЕЦИАЛЬНАЯ МЕТОДИЧЕСКАЯ ЛИТЕРАТУРА И ДРУГИЕИНФОРМАЦИОННЫЕ РЕСУРСЫ, НЕОБХОДИМЫЕ ДЛЯ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ЕНИЯ С ОБУЧАЮЩИМИСЯ С ТМНР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017440"/>
            <a:ext cx="7888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САЙТ ИНСТИТУТА КОРРЕКЦИОННОЙ ПЕДАГОГИКИ РАО Г. МОСК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САЙТ ЦЛП Г. ПСКОВА В РАЗДЕЛЕ «БИБЛИОТЕ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ЛЕВЧЕНКО И.Ю., КИСЕЛЁВА Н.А. ПСИХОЛОГИЧЕСКОЕ ИЗУЧЕНИЕ ДЕТЕЙ С НАРУШЕН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Я /ПОД НАУЧНОЙ РЕДАКЦИЕЙ И.Ю. ЛЕВЧЕНКО.-М.: НАЦИОНАЛЬНЫЙ КНИЖНЫЙ ЦЕНТР,201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ЖИГОРЕВА М.В., ЛЕВЧЕНКО И.Ю. ДЕТИ С КОМПЛЕКСНЫМИ НАРУШЕНИЯМИ РАЗВИТ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ИАГНОСТИКА И СОПРОВОЖДЕНИЕ. — М.: НАЦИОНАЛЬНЫЙ КНИЖНЫЙ ЦЕНТР, 201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МАЛЛЕР А. Р., ЦИКОТО Г. В. ВОСПИТАНИЕ И ОБУЧЕНИЕ ДЕТЕЙ С ТЯЖЕЛОЙ ИНТЕЛЛЕКТУАЛЬ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ДОСТАТОЧНОСТЬЮ: УЧЕБ. ПОСОБИЕ ДЛЯ СТУД. ВЫСШ. ПЕД. УЧЕБ. ЗАВЕДЕНИЙ. — М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ДАТЕЛЬСКИЙ ЦЕНТР «АКАДЕМИЯ», 200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МАЛЛЕР А.Р. ОБУЧЕНИЕ, ВОСПИТАНИЕ И ТРУДОВАЯ ПОДГОТОВКА ДЕТЕЙ С ГЛУБОКИ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РУШЕНИЯМИ ИНТЕЛЛЕКТА, М., 199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ПРОГРАММА ОБРАЗОВАНИЯ УЧАЩИХСЯ С УМЕРЕННОЙ И ТЯЖЕЛОЙ УМСТВЕННОЙ ОТСТАЛОСТЬ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 РЕДАКЦИЕЙ Л. Б. БАРЯЕВОЙ, Н. Н. ЯКОВЛЕВОЙ.-С-ПБ., 201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1856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17360" y="380880"/>
            <a:ext cx="879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9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«Образовательный центр» с.Воротнее муниципального района Сергиевский Самарской области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19320"/>
          <a:ext cx="7980480" cy="1600200"/>
        </p:xfrm>
        <a:graphic>
          <a:graphicData uri="http://schemas.openxmlformats.org/drawingml/2006/table">
            <a:tbl>
              <a:tblPr/>
              <a:tblGrid>
                <a:gridCol w="3164040"/>
                <a:gridCol w="1101600"/>
                <a:gridCol w="3714840"/>
              </a:tblGrid>
              <a:tr h="16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гласовано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тель (законный представитель): ________ С.А. Набережне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__»___________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тверждаю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 школы: _______  О.П. Коршико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»___________ 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6"/>
          <p:cNvSpPr/>
          <p:nvPr/>
        </p:nvSpPr>
        <p:spPr>
          <a:xfrm>
            <a:off x="2514600" y="281952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74840" y="4017960"/>
            <a:ext cx="2725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3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, им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11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6259680" y="4311720"/>
            <a:ext cx="25905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 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лизацию программы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Е.В. Сиско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О учи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2760840" y="597996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оротнее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уктура СИП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Общие сведения о ребёнк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Психолого-педагогическая характеристика  обучающегося с ТМНР на начало учебного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Индивидуальный учебный пл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Содержание образования в условия организации и семь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1. Формирование базовых учебных действ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2. Содержание учебных предметов и коррекционных к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3. Нравственное развит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4. Формирование экологической культуры,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5. Внеурочная деятельнос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пециалисты, участвующие в разработке и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Задачи, мероприятия и формы сотрудничества организации и семьи обучающего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Технические средства и дидактические материала, необходимые для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Средства оценки динамики обучения в процессе мониторинг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Прилож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5840" y="190476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 (СИПР) разработана на основе АООП образования обучающихся с умеренной, тяжелой и глубокой умственной отсталостью (интеллектуальными нарушениями), тяжелыми и множественными нарушениями развития, (вариант 2) ГБОУ СОШ «Образовательный центр» с. Воротнее муниципального района Сергиевский Самарской област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закон "Об образовании в Российской Федерации" от 29.12.2012 N 273-ФЗ (редакция 2016г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», приказ Минобрнауки РФ от 19 декабря 2014 года №1599, зарегистрировано в Минюсте РФ 3 февраля 2015года №3585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ПИН 2.4.2.3286-15 «Санитарно-эпидемиологические требования к условиям и организации обучения и воспитания в организациях,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», постановление от 10 июля 2015 года № 26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план ГБОУ СОШ «ОЦ» с. Воротнее для обучающихся с умеренной, тяжелой и глубокой умственной отсталостью (интеллектуальными нарушениями), тяжелыми и множественными нарушениями развития (вариант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в ГБОУ СОШ «ОЦ» с. Воротнее  м.р. Сергиевский Самарской обла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380520"/>
            <a:ext cx="75358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е сведения о ребён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программы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3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167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cd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ФИО ребенка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озраст ребенка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есто жительства:  с. Воротнее, ул.Почтовая, 2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ать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тец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д обучения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руппа (особые потребности)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тупень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Заключение ПМПК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результатам комплексного психолого-медико-педагогического обследования установлено, что ребенок с инвалидностью является обучающимся с ограниченными возможностями здоровья и нуждается в организации специальных образовательных условий. Простой уравновешенный вариант тотального недоразвития (средняя степень недоразвития), сочетанный с дефицитарностью в развитии двигательной сферы (детский церебральный паралич, нижний центральный парапарез со стойкими выраженными нарушениями двигательных функций). Уровень развития психических функций выражено не соответствует возрастной норме. Контакту доступен. Избирателен в выполнении заданий. Низкий уровень обучаемости (не всегда понимает смысл заданий, нуждается в организующей и обучающей помощи). Системное недоразвитие реч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уровень развития. Стойкая выраженная социальная дезадаптация. Навыки самообслуживания сформированы частично. Передвигается на коляске с помощью сопровождающе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У СО «Сергиевский пансионат для детей-инвалидов (детский дом-интернат для умственно отсталых детей)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2" descr="http://minsocdem.samregion.ru/sites/default/files/fayl_6.jpg"/>
          <p:cNvPicPr/>
          <p:nvPr/>
        </p:nvPicPr>
        <p:blipFill>
          <a:blip r:embed="rId1"/>
          <a:stretch/>
        </p:blipFill>
        <p:spPr>
          <a:xfrm>
            <a:off x="228600" y="1752480"/>
            <a:ext cx="320184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3809880" y="1447920"/>
            <a:ext cx="48769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ФЕДЕРАЛЬНЫЙ ЗАКОН РФ "ОБ ОБРАЗОВАНИИ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В РОССИЙСКОЙ ФЕДЕРАЦИИ", N 273-ФЗ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2. П.16. ОБУЧАЮЩИЙСЯ С ОГРАНИЧЕННЫМИ ВОЗМОЖНОСТЯМИ ЗДОРОВЬЯ - ФИЗИЧЕСКОЕ ЛИЦО, ИМЕЮЩЕЕ НЕДОСТАТКИ В ФИЗИЧЕСКОМ И (ИЛИ) ПСИХОЛОГИЧЕСКОМ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РАЗВИТИИ, ПОДТВЕРЖДЕННЫЕ ПСИХОЛОГО-МЕДИКО-ПЕДАГОГИЧЕСКОЙ КОМИССИЕЙ И ПРЕПЯТСТВУЮЩИЕ ПОЛУЧЕНИЮ ОБРАЗОВАНИЯ БЕЗ СОЗДАНИЯ СПЕЦИАЛЬНЫХ УСЛОВИЙ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5. П.5. В ЦЕЛЯХ РЕАЛИЗАЦИИ ПРАВА КАЖДОГО ЧЕЛОВЕКА НА ОБРАЗОВАНИЕ 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11. П.6. В ЦЕЛЯХ ОБЕСПЕЧЕНИЯ РЕАЛИЗАЦИИ ПРАВА НА ОБРАЗОВАНИЕ ОБУЧАЮЩИХСЯ С ОГРАНИЧЕННЫМИ ВОЗМОЖНОСТЯМИ ЗДОРОВЬЯ УСТАНАВЛИВАЮТСЯ ФЕДЕРАЛЬНЫЕ ГОСУДАРСТВЕННЫЕ ОБРАЗОВАТЕЛЬНЫЕ СТАНДАРТЫ ОБРАЗОВАНИЯ УКАЗАННЫХ ЛИЦ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сихолого-педагогическая характеристика обучающегося на начало учебного г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142640"/>
            <a:ext cx="857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общей моторики: удерживает голову, совершает повороты, наклоны головы, поднимается на предплечьях, поворачивается со спины на живот (с живота на спину), сидит на полу с вытянутыми вперед ногами, сидит на стуле (без фиксации), встает, держась за опору, ползает на четвереньках, наклоняется самостоятельно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передвигаетс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помощью кресла-коляск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едвижение с помощью индивидуальных технических средст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мелкой моторики: удерживает вложенный в руку предмет, захватывает предложенный предмет, держит небольшой предмет двумя руками, держит большой предмет двумя руками, разворачивает предмет в руке, чтобы удобнее захватить, распределяет пальцы на предмете, чтобы удобнее захватить, перекладывает предмет из руки в руку, берет предмет со стола, манипулирует с одним предметом, захватывает каждой рукой по предмету и удерживает (стучит друг о друга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эмоциональной сферы: эмоциональные проявления (реагирует на проявления эмоций другого человека, ответные эмоции не соответствуют ситуации), преобладающий эмоциональный фон (позитивный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устойчивый), эмоциональный контроль (успокаивается при вмешательстве взрослого: по просьбе взрослого, при переключении на другую деятельность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спокойный, особенностей в поведении не наблюд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зрительного восприятия: зрительное поведение - прикасается к глазам пальцами, щурится, наклоняет голову вперед/назад, когда смотрит; приближает предмет к глазам или сам низко наклоняется; зрительно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слеживание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контраст –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абый; зрительный образ – узнает знакомые предметы на фотографии, цветной картинк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уховое восприятие: воспринимает и узнает неречевые звуки, определяет направление звука в пространств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тактильного восприятия: берет предметы в рот, ощупывает предметы одной/двумя руками, кончиками пальце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речевого развития: затруднено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формирование экспрессивных движений (мимика, указательные жесты и др.)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трудом произносит отдельные звуки и слоги. Импрессивная речь развита на низком уровне (понимает простые по звуковому составу слова дай, мяу, дядя). Низкий уровень владения вербальными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средствами альтернативной коммуникации (устанавлива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зрительный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собеседником, приветству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беседника звуком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метно-практической деятельности на низком уровне: выполняет простые действия с инструментами, материалам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ые базовые учебные действия: направленность взгляда на говорящего взрослого, спокойное пребывание в новой среде, перемещение в новой среде без проявления дискомфорт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математических представлений у мальчика отсутствую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ставлений об окружающем мире: знает нянь, воспитателя, учителя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устанавливает контакт со взрослыми: смотрит на говорящего, вокализирует, улыб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 со сверстниками не устанавливае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У Димы навыки самообслуживан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выки бытовой деятельности у мальчика 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удовая деятельность не доступн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обходим полный объём помощи со стороны окружающих, нуждается в особом питани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ебуется постоянный присмотр за мальчиком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ый учебный план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143000"/>
          <a:ext cx="7238880" cy="55846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4680"/>
                <a:gridCol w="905040"/>
                <a:gridCol w="904680"/>
                <a:gridCol w="905040"/>
                <a:gridCol w="904680"/>
                <a:gridCol w="905040"/>
              </a:tblGrid>
              <a:tr h="87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коррекционный курс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повы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</a:t>
                      </a:r>
                      <a:endParaRPr b="1" lang="en-US" sz="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/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(доп.)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вная физкультура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деятельност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дств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тру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. действ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е образования в условия организации и семьи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165"/>
          <p:cNvSpPr/>
          <p:nvPr/>
        </p:nvSpPr>
        <p:spPr>
          <a:xfrm>
            <a:off x="762120" y="1897560"/>
            <a:ext cx="7848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 Формирование базовых учебных действий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 Создание благоприятной обстановки, способствующей формированию положительной мотивации пребывания в образовательной организации и эмоциональному конструктивному взаимодействию с взрослыми (учитель, воспитатель, ассистент и др.) и сверстниками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1. Спокойное пребывание в новой среде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3. Принятие контакта, инициированного взрослым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4. Установление контакта с педагогом и другими взрослыми, участвующими в организации учебного процесса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 Формирование учебного поведен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1. Поддержание правильной поз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4. Выполнение простых речевых инструкций (дай, возьми, встань, сядь, подними и др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45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70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990720"/>
          <a:ext cx="7315200" cy="5533920"/>
        </p:xfrm>
        <a:graphic>
          <a:graphicData uri="http://schemas.openxmlformats.org/drawingml/2006/table">
            <a:tbl>
              <a:tblPr/>
              <a:tblGrid>
                <a:gridCol w="3851280"/>
                <a:gridCol w="1154160"/>
                <a:gridCol w="1155600"/>
                <a:gridCol w="115416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чь и альтернативная (дополнительная)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 Коммуникация с использованием 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 Использование звук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. Использование звукоподражания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 Коммуникация с использованием не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1. Использование взгляд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2. Использование мимики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3. Использование жес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4. Использование звучащего предме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Развитие речи средствами вербальной и невербальной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 Им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. Понимание слова, обозначающего собственное им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2. Понимание слов, обозначающих названия членов семьи, имена членов семьи, учащихся класса, педагог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 Экс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1. Называние (употребление) отдельных звуков, звукоподражаний, звуковых комплекс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609480"/>
          <a:ext cx="7772400" cy="6450120"/>
        </p:xfrm>
        <a:graphic>
          <a:graphicData uri="http://schemas.openxmlformats.org/drawingml/2006/table">
            <a:tbl>
              <a:tblPr/>
              <a:tblGrid>
                <a:gridCol w="4859280"/>
                <a:gridCol w="971640"/>
                <a:gridCol w="970200"/>
                <a:gridCol w="971280"/>
              </a:tblGrid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атематически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личественны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1. Нахождение одинаковых предмето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кружающий природ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Живот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. Знание строения животного (голова, туловище, лапы, рога, хвост, уши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лове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Представления о себ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1. Узнавание (различение) мальчика и девочки по внешнему виду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емь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1. Узнавание (различение) членов семь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Гигиена тел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4. Вытирание рук полотенце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12. Вытирание лиц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Обращение с одеждой и обувью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1. Узнавание (различение) предметов одежды пальто (куртка, шуба, плащ), шапка, шарф, варежки, свитер, рубашка, майка, трусы, брюки, носк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 Прием пищ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1. Сообщение о желании пит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3. 4.5.3. Питье из кружки /стакана (захват кружки /стакана, поднесение кружки/стакана ко рту, наклон кружки/стакана, втягивание / вливание жидкости в рот, опускание кружки/стакана на ст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7. Еда ложкой (захват ложки, зачерпывание ложкой пищи из тарелки, поднесение ложки с пищей ко рту, снятие с ложки пищи губами, опускание ложки в тарелку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. Сообщение о желании сходить в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. Сидение на унитазе и оправление малой (большой) нуж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ружающий социаль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 Предметы и материалы, изготовленные человек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1. Знание свойств бумаги (рвется, мнется, намокает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 Квартира, дом, дво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. Узнавание (различение) частей дома (крыша, окно, дверь, потолок, п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914400" y="76320"/>
            <a:ext cx="745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занят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457200"/>
          <a:ext cx="6629400" cy="6777000"/>
        </p:xfrm>
        <a:graphic>
          <a:graphicData uri="http://schemas.openxmlformats.org/drawingml/2006/table">
            <a:tbl>
              <a:tblPr/>
              <a:tblGrid>
                <a:gridCol w="4145040"/>
                <a:gridCol w="826920"/>
                <a:gridCol w="828720"/>
                <a:gridCol w="828720"/>
              </a:tblGrid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узыка и движ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Слуша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 Различение тихого и громкого звучания музык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П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 Подражание характерным звукам животных во время звучания знакомой песн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Движение под музыку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Выполнение движений разными частями тела под музыку (топанье, хлопанье в ладоши, «фонарики», «пружинка», наклоны головы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Коррекционный разде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Реакция на низкочастотные немузыкальные звуки (сердцебиение, внутриутробные зву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енсор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Зрительн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. Удержание взгляда на лице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2. Удержание взгляда на неподвижном светящемся предмете (фонарик, пламя свечи, светящиеся игруш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3. Удержание взгляда на неподвижном предмете, расположенном на уровне глаз, напротив ребен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 Слухов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. Слушание речевых звуко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2. Слушание неречевых звуков (звуки природы, бытовые зву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 Кинестетическ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. Реакция на прикосновения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2. Реакция на соприкосновение с материалами, различными по температуре (теплый, холодный), фактуре (гладкий, шероховатый, др.), влажности (сухой, влажный, мокрый), вязкости (жидкий, густой, сыпучи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 Восприятие запаха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1. Реакция на запах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Предметно-практические действ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Действия с материал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1. Сминание материала (салфетки, туалетная бумага, бумажные полотенца, газета, цветная, папиросная бумага, калька и др.) двумя руками (одной рукой, пальцам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2. Разрывание материала (бумагу, вату, природный материал) двумя руками, направляя руки в разные стороны (двумя руками, направляя одну руку к себе, другую руку от себя; пальцами обеих рук, направляя одну руку к себе, другую руку от себя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3. Размазывание материала руками (сверху вниз, слева направо, по кругу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4. Разминание материала (тесто, пластилин) двумя руками (одной руко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Действия с предмет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1. Захватывание, удержание, отпускание предмета (шарики, кубики, мелкие игрушки, шиш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2. Встряхивание предмета, издающего звук (бутылочки с бусинками или крупой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 Двигатель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 Общеразвивающие и корригирующие упражнен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2. Выполнение движений голово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3. Выполнение движений руками: вперед, назад, вверх, в стороны, «круговые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4. Выполнение движений пальцами рук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Альтернативная коммуникац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 Коммуникация с использованием невербальных средст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1. Использование взгляд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2. Использование мимики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3. Использование жест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 Импрессивная речь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1. Понимание слова, обозначающего собственное им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равственное воспитан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523880"/>
          <a:ext cx="8458200" cy="3802320"/>
        </p:xfrm>
        <a:graphic>
          <a:graphicData uri="http://schemas.openxmlformats.org/drawingml/2006/table">
            <a:tbl>
              <a:tblPr/>
              <a:tblGrid>
                <a:gridCol w="4908600"/>
                <a:gridCol w="1811160"/>
                <a:gridCol w="1738440"/>
              </a:tblGrid>
              <a:tr h="365400">
                <a:tc row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716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ожелательно и уважительно относиться к окружающим (членам семьи, сверстникам, членам школьного коллектива, учителям и др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9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о вести себя в помещении и на ули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ирование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534520" cy="5078520"/>
        </p:xfrm>
        <a:graphic>
          <a:graphicData uri="http://schemas.openxmlformats.org/drawingml/2006/table">
            <a:tbl>
              <a:tblPr/>
              <a:tblGrid>
                <a:gridCol w="4794120"/>
                <a:gridCol w="1892520"/>
                <a:gridCol w="1847880"/>
              </a:tblGrid>
              <a:tr h="320040">
                <a:tc row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9876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об основах экологической культуры на примере экологически сообразного поведения в быту и природе, безопасного для человека и окружающей сред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покойно относился к водным процедура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5452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правил здорового пит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щательно пережевывать пищ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ешить во время 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7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безбоязненно обращаться к врачу по любым вопросам, связанным с особенностями состояния здоровь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осматривать себя: открывать рот, поднимать рубашку и т.п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измерять твой рост, вес, слушать фонендоскопом, делать ЭЭГ, ЭКГ, флюорограф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914400"/>
          <a:ext cx="8534520" cy="5583240"/>
        </p:xfrm>
        <a:graphic>
          <a:graphicData uri="http://schemas.openxmlformats.org/drawingml/2006/table">
            <a:tbl>
              <a:tblPr/>
              <a:tblGrid>
                <a:gridCol w="2371680"/>
                <a:gridCol w="2856240"/>
                <a:gridCol w="3306600"/>
              </a:tblGrid>
              <a:tr h="39060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н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, присутствовал на линейк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02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станция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льщик, радовался за участников спортивных иг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Осен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празднику: изготовление поделок на тему «Осень», участие в проведении праздн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игры «Разложи осенние листочки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20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праздни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изготовление украшений класса, новогодних поделок, открыток; участие в Новогоднем праздни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ениц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7780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8 марта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изготовление открыток;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859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х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покраска яиц, изготовление украшений, оформление класс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51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эстафета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настольные дидактические игры «Лото», «Домино», сенсорные игры, подвижные игры в спортивном за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учебны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523880"/>
          <a:ext cx="6096240" cy="240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0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школа!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ладывание цветных карандаше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пенал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утренни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кание бумаги для снежков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ет в снеж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миш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новым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ишкам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шишки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4191120"/>
          <a:ext cx="6095880" cy="120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бочей программ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едме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личнос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ые крас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взгляда на предмете.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оватьс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ГОС ДЛЯ ОБУЧАЮЩИХСЯ С УМСТВЕННОЙ ОТСТАЛОСТЬЮ МОЖЕТ БЫ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АЛИЗОВАН ПРИ ОРГАНИЗАЦИИ ОБУЧЕНИЯ ОБУЧАЮЩИХСЯ 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МСТВЕННОЙ ОТСТАЛОСТЬЮ СОВМЕСТНО С ДРУГИМИ ОБУЧАЮЩИМИСЯ, 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ДЕЛЬНЫХ КЛАССАХ, ГРУППАХ ИЛИ В ОТДЕЛЬНЫХ ОРГАНИЗАЦИЯ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УЩЕСТВЛЯЮЩИХ ОБРАЗОВАТЕЛЬНУЮ ДЕЯТЕЛЬ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ОБЩЕОБРАЗОВАТЕЛЬНЫЕ ОРГАНИЗАЦИИ, МЕДИЦИНСКИЕ ОРГАНИЗАЦИИ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НАТОРНЫЕ ОРГАНИЗАЦИИ, ДЕТСКИЕ ДОМА-ИНТЕРНАТЫ СИСТЕМ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ЦИАЛЬНОЙ ЗАЩИТЫ), ИЛИ ВНЕ ИХ - В ФОРМЕ СЕМЕЙНОГО ОБРАЗОВА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 ТАКЖЕ НА ДО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словия реализации потребности в уходе и присмот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1384200"/>
          <a:ext cx="6858000" cy="5208840"/>
        </p:xfrm>
        <a:graphic>
          <a:graphicData uri="http://schemas.openxmlformats.org/drawingml/2006/table">
            <a:tbl>
              <a:tblPr/>
              <a:tblGrid>
                <a:gridCol w="711360"/>
                <a:gridCol w="869760"/>
                <a:gridCol w="868680"/>
                <a:gridCol w="636480"/>
                <a:gridCol w="635040"/>
                <a:gridCol w="714240"/>
                <a:gridCol w="846000"/>
                <a:gridCol w="844560"/>
                <a:gridCol w="731880"/>
              </a:tblGrid>
              <a:tr h="19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-1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-11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-13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4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-16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-16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0-17.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0-2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коммуникац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Аникина Т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ок "Волшебные краски"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 педагог-психолог Якимова Я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Игротерапия 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 учитель-логопед Земскова Н.А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 уч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172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ециалисты, участвующие в реализации СИП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04760"/>
            <a:ext cx="8269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.В. – 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ова Н.А – учитель-логопе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а Я.П. - учитель-психоло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тенко Ю.И. .- учитель-дефектоло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, мероприятия и формы сотрудничества организации и семьи обучающего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219320"/>
          <a:ext cx="7086600" cy="55213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15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проведен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семьи (законных представителей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тренингах «Взаимодействие родителей (законных представителей) с «особыми» деть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мейных встречах «Клуба выходного дня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с психологом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осведомленности родителей  (законных представителей) об особенностях развития и специфических образовательных потребностях ребенк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родителей (законных представителей) со специалистами (раз в триместр)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семинары: «Особенности развития ребенка с ДЦП», «Развитие двигательных навыков ребенка с ДЦП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пециалистов и семьи в ходе разработки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азработке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родителями (законными представителями) уроков/занятий в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встречи, бесе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астия родителей (законных представителей)  в деятельности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 в планировании, разработке и реализации мероприяти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вопросов, связанных с управлением образовательной организаци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о взаимодействии с другими организация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хозяйственных вопросов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ические средства и дидактические материалы, необходимые для реализации СИПР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арточки с изображениями объектов, людей, действий (фотографии, пиктограммы, символ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азлы (из 2-х, 3-х, 4-х часте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едметные и сюжетные картинки, фотографии с изображением членов семьи ребенк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узыкальные инструменты: погремушки, колокольчики, бубенц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бумага (цветная, белая),  карандаши (простые, цветны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спортивный инвентарь: гимнастические мячи разного диаметра, кегл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игрушки и предметы со световыми, звуковыми эффек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технические средства: кресла-каля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едства мониторинга и оценки динамики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523880"/>
          <a:ext cx="7502400" cy="4876920"/>
        </p:xfrm>
        <a:graphic>
          <a:graphicData uri="http://schemas.openxmlformats.org/drawingml/2006/table">
            <a:tbl>
              <a:tblPr/>
              <a:tblGrid>
                <a:gridCol w="6937200"/>
                <a:gridCol w="56520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освоения (выполнения) действий/опер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участие/соучастие - действие выполняется взрослым (ребёнок позволяет что-нибудь сделать с ним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участие - действие выполняется ребёнком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 значитель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 частич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й инструкции (изображения или вербально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ражанию или по образц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с ошибка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тсутству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явить наличие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на уровне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по прямой подсказк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с косвенной подсказкой (изображени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172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ложения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исок литературы для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72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ексеева Е.И., Андреева С.В. Формирование навыков общения с использованием средств альтернативной коммуникации у детей с тяжелыми и множественными нарушениями развития – Воспитание и обучение детей с нарушениями развития № 5, 201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яева Л.Б., Бгажнокова И.М., Бойков Д.И., Зарин AM., Комар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Обучение детей с выраженным недоразвитием интеллек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ие материалы / под ред. И.М. Бгажноковой - М.: Гуманитар, изд. центр ВЛАДОС, 2007. — 181 с. — (Коррекционная педагогика)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рекционно-педагогическая работа в домах – интернатах для детей с умственным и физическим недоразвитием: Пособие для педагогов 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Лисовской Т.В. – Минск: Национальный институт образования, 200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ка учебно-воспитательной работы в центре коррекционно-развивающего обучения и реабилитации: Учеб.- метод. пособие/ М. Вентланд, С.Е. Гайдукевич, Т.В. Горудко и др.; Науч. ред.С.Е. Гайдукевич. – Мн.: БГПУ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Царёв А.М., Рудакова Е.А., Сухарева О.Ю. Дети с тяжелыми и множественными нарушениями развития /Дошкольное воспитание 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с комплексными нарушениями / под. Ред. Л.А. Головчиц: учебное пособие.- М., Логомаг, 2015. – 266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нцепция Специального Федерального государственного образовательного стандарта для детей с ОВЗ / Н.Н. Малофеев, О.И. Кукушкина, О.С. Никольская, Е.Л. Гончарова. М.: Просвещение, 2013. 42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"/>
          <p:cNvPicPr/>
          <p:nvPr/>
        </p:nvPicPr>
        <p:blipFill>
          <a:blip r:embed="rId1"/>
          <a:stretch/>
        </p:blipFill>
        <p:spPr>
          <a:xfrm>
            <a:off x="4730760" y="2793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"/>
          <p:cNvPicPr/>
          <p:nvPr/>
        </p:nvPicPr>
        <p:blipFill>
          <a:blip r:embed="rId2"/>
          <a:stretch/>
        </p:blipFill>
        <p:spPr>
          <a:xfrm>
            <a:off x="380880" y="27936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3"/>
          <a:stretch/>
        </p:blipFill>
        <p:spPr>
          <a:xfrm>
            <a:off x="4724280" y="33735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4"/>
          <a:stretch/>
        </p:blipFill>
        <p:spPr>
          <a:xfrm>
            <a:off x="127080" y="3349800"/>
            <a:ext cx="4400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952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28600" y="127476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2"/>
          <a:stretch/>
        </p:blipFill>
        <p:spPr>
          <a:xfrm>
            <a:off x="4741920" y="3924360"/>
            <a:ext cx="3975120" cy="2698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4786200" y="124452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223920" y="4122720"/>
            <a:ext cx="40482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523880" y="2057400"/>
          <a:ext cx="6364440" cy="4467240"/>
        </p:xfrm>
        <a:graphic>
          <a:graphicData uri="http://schemas.openxmlformats.org/drawingml/2006/table">
            <a:tbl>
              <a:tblPr/>
              <a:tblGrid>
                <a:gridCol w="3183120"/>
                <a:gridCol w="31813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75240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ия детей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4284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 программ ФГОС НОО обучающихся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ух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, 1.2, 1.3,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слыша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, 2.2, 2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пы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, 3.2, 3.3, 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видя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, 4.2, 4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тяжелыми нарушениями ре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, 5.2, 5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нарушениями 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, 6.2, 6.3, 6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задержкой психического разви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, 7.2, 7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, 8.2, 8.3, 8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и с умственной отсталостью(интеллектуальными нарушениям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ГОС образования обучающихся с умственной отсталостью (интеллектуальными нарушениями)-варианты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2"/>
          <p:cNvSpPr/>
          <p:nvPr/>
        </p:nvSpPr>
        <p:spPr>
          <a:xfrm>
            <a:off x="15238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ЕТИ С ТЯЖЕЛЫМИ И МНОЖЕСТВЕННЫМ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АРУШЕНИЯ РАЗВИТИЯ (ТМНР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с ТМНР– ЭТО ДЕТИ С УМЕРЕННОЙ, ТЯЖЕЛОЙ И ГЛУБОКОЙ УМСТВЕННОЙ ОТСТАЛОСТЬЮ, ИМЕЮЩИЕ ДРУГИЕ ПЕРВИЧНЫЕ НАРУШЕНИЯ: НАРУШЕНИЯ ОПОРНО-ДВИГАТЕЛЬНОГО СФЕРЫ (ДЦП РАЗНОЙ ФОРМЫ И СТЕПЕНИ ТЯЖЕСТИ), ТЯЖЁЛЫЕ НАРУШЕНИЯ РЕЧИ, НАРУШЕНИЕ ФУНКЦИЙ АНАЛИЗАТОРНЫХ СИСТЕМ (ЗРЕНИЯ, СЛУХА, ТАКТИЛЬНОЙ ЧУВСТВИТЕЛЬНОСТИ), РАССТРОЙСТВА ЭМОЦИОНАЛЬНО-ВОЛЕВОЙ СФЕРЫ (НАРУШЕНИЯ РЕГУЛЯЦИИ ПОВЕДЕНИЯ), АУТИСТИЧЕСКИЕ РАССТРОЙСТВА (НАРУШЕНИЕ КОММУНИКАЦИИ, СОЦИАЛЬНОГО ВЗАИМОДЕЙСТВИЯ И ПОВЕДЕНИЯ, СТЕРЕОТИПНЫЕ ДЕЙСТВИ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850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1754280"/>
          <a:ext cx="8610480" cy="4027320"/>
        </p:xfrm>
        <a:graphic>
          <a:graphicData uri="http://schemas.openxmlformats.org/drawingml/2006/table">
            <a:tbl>
              <a:tblPr/>
              <a:tblGrid>
                <a:gridCol w="5119560"/>
                <a:gridCol w="349092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3 уч.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е потреб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тет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нижний центральный па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еч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е недоразвитие речи тяжелой степени (1 уровень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12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По заключениям ПМПК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ИНДИВИДУАЛЬНАЯ ПРОГРАММА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ВИТ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ПР –специальная индивидуальная программа разви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АЗРАБОТКИ СИПР - ПОСТРОЕНИЕ ОБРАЗОВАТЕЛЬНОГО ПРОЦЕССА,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ТОРОМ УЧИТЫВАЮТСЯ ИНДИВИДУАЛЬНЫЕ ОСОБЕННОСТИ РАЗВИТИЯ РЕБЕНКА С ИНТЕЛЛЕКТУАЛЬНОЙ НЕДОСТАТОЧНОСТЬЮ, ЕГО РЕАЛЬНЫЕ ВОЗМ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ЕАЛИЗАЦИИ СИПР - ОБРЕТЕНИЕ РЕБЕНКОМ С УМСТВЕННОЙ ОТСТАЛОСТЬЮ ЖИЗНЕННО ВАЖНЫХ КОМПЕТЕНЦИЙ, КОТОРЫЕ ПОЗВОЛЯТ ЕМУ ДОСТИГНУТЬ МАКСИМАЛЬНОГО УРОВНЯ САМОСТО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УМСТВЕННОЙ ОТСТАЛОСТЬЮ (ИНТЕЛЛЕКТУАЛЬНЫМИ НАРУШЕНИЯМИ) Вариант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не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слышащих и позднооглохших обучающихся Вариант 2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ВИДЯЩИХ ОБУЧАЮЩИХСЯ Вариант 4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2-01T03:28:57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