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8.jpeg" ContentType="image/jpeg"/>
  <Override PartName="/ppt/media/image5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BB9D4-CE65-4714-B2D4-95F834738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1C057-E86D-4BC2-B2C5-8BE9F2294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E6319-4425-4209-BF6D-9DFDC0975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E900C-7574-4BF4-B5DC-287C5A1C4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708DC-D4B9-4444-9457-62A984015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CAD67-E86F-4B72-AF3B-35A1B6C11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F431D-4601-4CB8-911A-EBEA8AF81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02179-8828-4C52-91A8-F68CA3DF3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2DAD7-BE98-4F56-805C-1610F2E11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6BF3C-BCB2-4EB8-8752-CB4B9F9EB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0FEF6-81B3-4D82-9E1B-D9E0B6D11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4D815-E4C8-47E6-9ABC-54EB0922C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A273C-21FF-4074-835A-05AF9D169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9AC92-3F8E-49F8-A2F9-838273990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E5261-85C0-4BEC-A878-41812964A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3D0FA-FEFA-41DE-802B-271B409DE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322EA-A769-41A5-97B0-6F3D9A116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0DBF9-30BC-4198-87C4-84C0895BE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A96D5-655F-4050-972F-00B82DA54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0EF6B-9284-4CB2-933D-03F404742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8DC10-BB63-476A-8905-C612EFCD3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32E4E-2292-4717-9F8C-5A85DED82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7F2BC-5142-423F-8BEE-9F485D640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968A5-92B5-4E73-95D3-1DBA8558F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E9761-C057-4530-ADAF-BBF317DFAACC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440" cy="474840"/>
              <a:chOff x="417600" y="2968560"/>
              <a:chExt cx="73944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8400" y="2968560"/>
                <a:ext cx="36864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84A69-21C1-45D0-A2D0-DF0F6A00B692}" type="slidenum">
              <a:rPr b="0" lang="ru-RU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0880" y="1154160"/>
            <a:ext cx="8763120" cy="3200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7254"/>
                </a:solidFill>
                <a:latin typeface="Times New Roman"/>
                <a:ea typeface="Times New Roman"/>
              </a:rPr>
              <a:t>«Разработка и реализация</a:t>
            </a:r>
            <a:br>
              <a:rPr sz="4400"/>
            </a:br>
            <a:r>
              <a:rPr b="1" i="1" lang="ru-RU" sz="4400" spc="-1" strike="noStrike">
                <a:solidFill>
                  <a:srgbClr val="007254"/>
                </a:solidFill>
                <a:latin typeface="Times New Roman"/>
                <a:ea typeface="Times New Roman"/>
              </a:rPr>
              <a:t>СИПР</a:t>
            </a:r>
            <a:br>
              <a:rPr sz="4400"/>
            </a:br>
            <a:r>
              <a:rPr b="1" i="1" lang="ru-RU" sz="4400" spc="-1" strike="noStrike">
                <a:solidFill>
                  <a:srgbClr val="007254"/>
                </a:solidFill>
                <a:latin typeface="Times New Roman"/>
                <a:ea typeface="Times New Roman"/>
              </a:rPr>
              <a:t>для обучающихся с ТМНР» </a:t>
            </a:r>
            <a:br>
              <a:rPr sz="3600"/>
            </a:b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3962520" y="4191120"/>
            <a:ext cx="4876560" cy="235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254"/>
                </a:solidFill>
                <a:latin typeface="Times New Roman"/>
                <a:ea typeface="Times New Roman"/>
              </a:rPr>
              <a:t>Сиско Елена Викторовна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254"/>
                </a:solidFill>
                <a:latin typeface="Times New Roman"/>
                <a:ea typeface="Times New Roman"/>
              </a:rPr>
              <a:t>учитель начальных классов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254"/>
                </a:solidFill>
                <a:latin typeface="Times New Roman"/>
                <a:ea typeface="Times New Roman"/>
              </a:rPr>
              <a:t>ГБОУ СОШ «ОЦ» с. Воротнее м.р. Сергиевский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333399"/>
                </a:solidFill>
                <a:latin typeface="Tahoma"/>
              </a:rPr>
              <a:t> </a:t>
            </a:r>
            <a:br>
              <a:rPr sz="1200"/>
            </a:br>
            <a:br>
              <a:rPr sz="1200"/>
            </a:br>
            <a:r>
              <a:rPr b="1" lang="ru-RU" sz="1800" spc="-1" strike="noStrike">
                <a:solidFill>
                  <a:srgbClr val="333399"/>
                </a:solidFill>
                <a:latin typeface="Tahoma"/>
              </a:rPr>
              <a:t>АЛГОРИТМ РАЗРАБОТКИ СПЕЦИАЛЬНОЙ ИНДИВИДУАЛЬНОЙ ПРОГРАММЫ РАЗВИТИЯ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914400" y="1066680"/>
            <a:ext cx="784872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1. Индивидуальные сведения о ребенке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ФИО ребенка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озраст ребенка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есто жительства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ать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тец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Год обучения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тупень обучения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Группа(особые потребности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2. Структура СИПР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1. Индивидуальные сведения о ребенке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2. Структура СИПР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3. Психолого-педагогическая характеристика. 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4. Индивидуальный учебный план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5. Условия реализации потребности в уходе и присмотре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6. Содержание образования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6.1. Базовые учебные действия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6.2. Содержание учебных предметов и коррекционных курсов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6.3. Нравственное развитие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6.4. Формирование экологической культуры, здорового и безопасного образа жизни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6.5. Внеурочная деятельность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7. Специалисты, участвующие в реализации СИПР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8. Программа сотрудничества с семьей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9. Перечень необходимых технических средств и дидактических материалов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10. Средства мониторинга и оценки динамики обучения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43000" y="380520"/>
            <a:ext cx="784872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СПЕЦИАЛЬНАЯ МЕТОДИЧЕСКАЯ ЛИТЕРАТУРА И ДРУГИЕИНФОРМАЦИОННЫЕ РЕСУРСЫ, НЕОБХОДИМЫЕ ДЛЯ ОРГАНИЗАЦИИ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ОБУЧЕНИЯ С ОБУЧАЮЩИМИСЯ С ТМНР</a:t>
            </a:r>
            <a:endParaRPr b="0" lang="en-US" sz="1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066680" y="2017440"/>
            <a:ext cx="7888320" cy="438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1.САЙТ ИНСТИТУТА КОРРЕКЦИОННОЙ ПЕДАГОГИКИ РАО Г. МОСКВА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2.САЙТ ЦЛП Г. ПСКОВА В РАЗДЕЛЕ «БИБЛИОТЕКА»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3.ЛЕВЧЕНКО И.Ю., КИСЕЛЁВА Н.А. ПСИХОЛОГИЧЕСКОЕ ИЗУЧЕНИЕ ДЕТЕЙ С НАРУШЕНИЯМИ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РАЗВИТИЯ /ПОД НАУЧНОЙ РЕДАКЦИЕЙ И.Ю. ЛЕВЧЕНКО.-М.: НАЦИОНАЛЬНЫЙ КНИЖНЫЙ ЦЕНТР,2015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4. ЖИГОРЕВА М.В., ЛЕВЧЕНКО И.Ю. ДЕТИ С КОМПЛЕКСНЫМИ НАРУШЕНИЯМИ РАЗВИТИЯ: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ДИАГНОСТИКА И СОПРОВОЖДЕНИЕ. — М.: НАЦИОНАЛЬНЫЙ КНИЖНЫЙ ЦЕНТР, 2016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5. МАЛЛЕР А. Р., ЦИКОТО Г. В. ВОСПИТАНИЕ И ОБУЧЕНИЕ ДЕТЕЙ С ТЯЖЕЛОЙ ИНТЕЛЛЕКТУАЛЬНОЙ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НЕДОСТАТОЧНОСТЬЮ: УЧЕБ. ПОСОБИЕ ДЛЯ СТУД. ВЫСШ. ПЕД. УЧЕБ. ЗАВЕДЕНИЙ. — М.: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ИЗДАТЕЛЬСКИЙ ЦЕНТР «АКАДЕМИЯ», 2003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6.МАЛЛЕР А.Р. ОБУЧЕНИЕ, ВОСПИТАНИЕ И ТРУДОВАЯ ПОДГОТОВКА ДЕТЕЙ С ГЛУБОКИМИ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НАРУШЕНИЯМИ ИНТЕЛЛЕКТА, М., 1998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7. ПРОГРАММА ОБРАЗОВАНИЯ УЧАЩИХСЯ С УМЕРЕННОЙ И ТЯЖЕЛОЙ УМСТВЕННОЙ ОТСТАЛОСТЬЮ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ПОД РЕДАКЦИЕЙ Л. Б. БАРЯЕВОЙ, Н. Н. ЯКОВЛЕВОЙ.-С-ПБ., 2011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"/>
          <p:cNvPicPr/>
          <p:nvPr/>
        </p:nvPicPr>
        <p:blipFill>
          <a:blip r:embed="rId1"/>
          <a:stretch/>
        </p:blipFill>
        <p:spPr>
          <a:xfrm>
            <a:off x="152280" y="533520"/>
            <a:ext cx="8818560" cy="56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3" descr=""/>
          <p:cNvPicPr/>
          <p:nvPr/>
        </p:nvPicPr>
        <p:blipFill>
          <a:blip r:embed="rId1"/>
          <a:stretch/>
        </p:blipFill>
        <p:spPr>
          <a:xfrm>
            <a:off x="117360" y="380880"/>
            <a:ext cx="879804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"/>
          <p:cNvPicPr/>
          <p:nvPr/>
        </p:nvPicPr>
        <p:blipFill>
          <a:blip r:embed="rId1"/>
          <a:stretch/>
        </p:blipFill>
        <p:spPr>
          <a:xfrm>
            <a:off x="0" y="152280"/>
            <a:ext cx="897732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8688240" cy="63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сударственное бюджетное общеобразовательное учреждение Самарской области средняя общеобразовательная школа «Образовательный центр» с.Воротнее муниципального района Сергиевский Самарской области</a:t>
            </a: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380880" y="1219320"/>
          <a:ext cx="7980480" cy="1600200"/>
        </p:xfrm>
        <a:graphic>
          <a:graphicData uri="http://schemas.openxmlformats.org/drawingml/2006/table">
            <a:tbl>
              <a:tblPr/>
              <a:tblGrid>
                <a:gridCol w="3164040"/>
                <a:gridCol w="1101600"/>
                <a:gridCol w="3714840"/>
              </a:tblGrid>
              <a:tr h="16002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«Согласовано»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одитель (законный представитель): ________ С.А. Набережнев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«_____»___________2022г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«Утверждаю»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иректор школы: _______  О.П. Коршикова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«___»___________ 2022г.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</a:tbl>
          </a:graphicData>
        </a:graphic>
      </p:graphicFrame>
      <p:sp>
        <p:nvSpPr>
          <p:cNvPr id="126" name="Прямоугольник 6"/>
          <p:cNvSpPr/>
          <p:nvPr/>
        </p:nvSpPr>
        <p:spPr>
          <a:xfrm>
            <a:off x="2514600" y="2819520"/>
            <a:ext cx="4572000" cy="58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ЬНАЯ ИНДИВИДУАЛЬНАЯ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РАММА РАЗВИТИЯ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Прямоугольник 8"/>
          <p:cNvSpPr/>
          <p:nvPr/>
        </p:nvSpPr>
        <p:spPr>
          <a:xfrm>
            <a:off x="474840" y="4017960"/>
            <a:ext cx="2725560" cy="10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щийся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_3_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са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фамилия, имя)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раст: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_11_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т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Прямоугольник 9"/>
          <p:cNvSpPr/>
          <p:nvPr/>
        </p:nvSpPr>
        <p:spPr>
          <a:xfrm>
            <a:off x="6259680" y="4311720"/>
            <a:ext cx="2590560" cy="20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ственный   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реализацию программы: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                   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_Е.В. Сиско_____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              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ФИО учителя)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Прямоугольник 11"/>
          <p:cNvSpPr/>
          <p:nvPr/>
        </p:nvSpPr>
        <p:spPr>
          <a:xfrm>
            <a:off x="2760840" y="5979960"/>
            <a:ext cx="4572000" cy="58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. Воротнее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22 год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218960" y="45684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Структура СИПР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1. Общие сведения о ребёнке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2. Психолого-педагогическая характеристика  обучающегося с ТМНР на начало учебного года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3. Индивидуальный учебный план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4. Содержание образования в условия организации и семьи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4.1. Формирование базовых учебных действий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4.2. Содержание учебных предметов и коррекционных курсов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4.3. Нравственное развитие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4.4. Формирование экологической культуры, здорового и безопасного образа жизни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4.5. Внеурочная деятельность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5. Условия реализации потребности в уходе и присмотре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6. Специалисты, участвующие в разработке и реализации СИПР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7. Задачи, мероприятия и формы сотрудничества организации и семьи обучающегося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8. Технические средства и дидактические материала, необходимые для реализации СИПР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9. Средства оценки динамики обучения в процессе мониторинга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10. Приложения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Пояснительная записк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645840" y="1904760"/>
            <a:ext cx="84978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ьная индивидуальная программа развития (СИПР) разработана на основе АООП образования обучающихся с умеренной, тяжелой и глубокой умственной отсталостью (интеллектуальными нарушениями), тяжелыми и множественными нарушениями развития, (вариант 2) ГБОУ СОШ «Образовательный центр» с. Воротнее муниципального района Сергиевский Самарской области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рмативные документы: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Федеральный закон "Об образовании в Российской Федерации" от 29.12.2012 N 273-ФЗ (редакция 2016г)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Федеральный государственный образовательный стандарт образования обучающихся с умственной отсталостью (интеллектуальными нарушениями)», приказ Минобрнауки РФ от 19 декабря 2014 года №1599, зарегистрировано в Минюсте РФ 3 февраля 2015года №35850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АНПИН 2.4.2.3286-15 «Санитарно-эпидемиологические требования к условиям и организации обучения и воспитания в организациях, осуществляющих образовательную деятельность по Адаптированным основным общеобразовательным программам для обучающихся с ограниченными возможностями здоровья», постановление от 10 июля 2015 года № 26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Учебный план ГБОУ СОШ «ОЦ» с. Воротнее для обучающихся с умеренной, тяжелой и глубокой умственной отсталостью (интеллектуальными нарушениями), тяжелыми и множественными нарушениями развития (вариант2)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Устав ГБОУ СОШ «ОЦ» с. Воротнее  м.р. Сергиевский Самарской области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82240" y="380520"/>
            <a:ext cx="753588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1" lang="ru-RU" sz="4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Общие сведения о ребёнке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533160" y="2017440"/>
            <a:ext cx="8421480" cy="438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ahoma"/>
              </a:rPr>
              <a:t>ID</a:t>
            </a:r>
            <a:r>
              <a:rPr b="0" i="1" lang="ru-RU" sz="1200" spc="-1" strike="noStrike">
                <a:solidFill>
                  <a:srgbClr val="000000"/>
                </a:solidFill>
                <a:latin typeface="Tahoma"/>
              </a:rPr>
              <a:t> программы: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634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92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8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d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7167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cdc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ahoma"/>
              </a:rPr>
              <a:t>ФИО ребенка: 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ahoma"/>
              </a:rPr>
              <a:t>Возраст ребенка: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ahoma"/>
              </a:rPr>
              <a:t>Место жительства:  с. Воротнее, ул.Почтовая, 22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ahoma"/>
              </a:rPr>
              <a:t>Мать: 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ahoma"/>
              </a:rPr>
              <a:t>Отец: 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ahoma"/>
              </a:rPr>
              <a:t>Год обучения: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ahoma"/>
              </a:rPr>
              <a:t>Группа (особые потребности):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ahoma"/>
              </a:rPr>
              <a:t>Ступень: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Заключение ПМПК: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о результатам комплексного психолого-медико-педагогического обследования установлено, что ребенок с инвалидностью является обучающимся с ограниченными возможностями здоровья и нуждается в организации специальных образовательных условий. Простой уравновешенный вариант тотального недоразвития (средняя степень недоразвития), сочетанный с дефицитарностью в развитии двигательной сферы (детский церебральный паралич, нижний центральный парапарез со стойкими выраженными нарушениями двигательных функций). Уровень развития психических функций выражено не соответствует возрастной норме. Контакту доступен. Избирателен в выполнении заданий. Низкий уровень обучаемости (не всегда понимает смысл заданий, нуждается в организующей и обучающей помощи). Системное недоразвитие речи,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уровень развития. Стойкая выраженная социальная дезадаптация. Навыки самообслуживания сформированы частично. Передвигается на коляске с помощью сопровождающего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ГБУ СО «Сергиевский пансионат для детей-инвалидов (детский дом-интернат для умственно отсталых детей)»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2" name="Picture 2" descr="http://minsocdem.samregion.ru/sites/default/files/fayl_6.jpg"/>
          <p:cNvPicPr/>
          <p:nvPr/>
        </p:nvPicPr>
        <p:blipFill>
          <a:blip r:embed="rId1"/>
          <a:stretch/>
        </p:blipFill>
        <p:spPr>
          <a:xfrm>
            <a:off x="228600" y="1752480"/>
            <a:ext cx="3201840" cy="2401920"/>
          </a:xfrm>
          <a:prstGeom prst="rect">
            <a:avLst/>
          </a:prstGeom>
          <a:ln w="0">
            <a:noFill/>
          </a:ln>
        </p:spPr>
      </p:pic>
      <p:sp>
        <p:nvSpPr>
          <p:cNvPr id="103" name="Прямоугольник 6"/>
          <p:cNvSpPr/>
          <p:nvPr/>
        </p:nvSpPr>
        <p:spPr>
          <a:xfrm>
            <a:off x="3809880" y="1447920"/>
            <a:ext cx="4876920" cy="536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ahoma"/>
              </a:rPr>
              <a:t>ФЕДЕРАЛЬНЫЙ ЗАКОН РФ "ОБ ОБРАЗОВАНИИ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ahoma"/>
              </a:rPr>
              <a:t>В РОССИЙСКОЙ ФЕДЕРАЦИИ", N 273-ФЗ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ahoma"/>
              </a:rPr>
              <a:t>• </a:t>
            </a:r>
            <a:r>
              <a:rPr b="0" lang="ru-RU" sz="1100" spc="-1" strike="noStrike">
                <a:solidFill>
                  <a:srgbClr val="000000"/>
                </a:solidFill>
                <a:latin typeface="Tahoma"/>
              </a:rPr>
              <a:t>СТ. 2. П.16. ОБУЧАЮЩИЙСЯ С ОГРАНИЧЕННЫМИ ВОЗМОЖНОСТЯМИ ЗДОРОВЬЯ - ФИЗИЧЕСКОЕ ЛИЦО, ИМЕЮЩЕЕ НЕДОСТАТКИ В ФИЗИЧЕСКОМ И (ИЛИ) ПСИХОЛОГИЧЕСКОМ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ahoma"/>
              </a:rPr>
              <a:t>РАЗВИТИИ, ПОДТВЕРЖДЕННЫЕ ПСИХОЛОГО-МЕДИКО-ПЕДАГОГИЧЕСКОЙ КОМИССИЕЙ И ПРЕПЯТСТВУЮЩИЕ ПОЛУЧЕНИЮ ОБРАЗОВАНИЯ БЕЗ СОЗДАНИЯ СПЕЦИАЛЬНЫХ УСЛОВИЙ.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ahoma"/>
              </a:rPr>
              <a:t>• </a:t>
            </a:r>
            <a:r>
              <a:rPr b="0" lang="ru-RU" sz="1100" spc="-1" strike="noStrike">
                <a:solidFill>
                  <a:srgbClr val="000000"/>
                </a:solidFill>
                <a:latin typeface="Tahoma"/>
              </a:rPr>
              <a:t>СТ. 5. П.5. В ЦЕЛЯХ РЕАЛИЗАЦИИ ПРАВА КАЖДОГО ЧЕЛОВЕКА НА ОБРАЗОВАНИЕ …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ahoma"/>
              </a:rPr>
              <a:t>СОЗДАЮТСЯ НЕОБХОДИМЫЕ УСЛОВИЯ ДЛЯ ПОЛУЧЕНИЯ БЕЗ ДИСКРИМИНАЦИИ КАЧЕСТВЕННОГО ОБРАЗОВАНИЯ ЛИЦАМИ С ОГРАНИЧЕННЫМИ ВОЗМОЖНОСТЯМИ ЗДОРОВЬЯ, ДЛЯ КОРРЕКЦИИ НАРУШЕНИЙ РАЗВИТИЯ И СОЦИАЛЬНОЙ АДАПТАЦИИ…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ahoma"/>
              </a:rPr>
              <a:t>• </a:t>
            </a:r>
            <a:r>
              <a:rPr b="0" lang="ru-RU" sz="1100" spc="-1" strike="noStrike">
                <a:solidFill>
                  <a:srgbClr val="000000"/>
                </a:solidFill>
                <a:latin typeface="Tahoma"/>
              </a:rPr>
              <a:t>СТ.11. П.6. В ЦЕЛЯХ ОБЕСПЕЧЕНИЯ РЕАЛИЗАЦИИ ПРАВА НА ОБРАЗОВАНИЕ ОБУЧАЮЩИХСЯ С ОГРАНИЧЕННЫМИ ВОЗМОЖНОСТЯМИ ЗДОРОВЬЯ УСТАНАВЛИВАЮТСЯ ФЕДЕРАЛЬНЫЕ ГОСУДАРСТВЕННЫЕ ОБРАЗОВАТЕЛЬНЫЕ СТАНДАРТЫ ОБРАЗОВАНИЯ УКАЗАННЫХ ЛИЦ.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9328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ahoma"/>
              </a:rPr>
              <a:t>Психолого-педагогическая характеристика обучающегося на начало учебного года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80520" y="1142640"/>
            <a:ext cx="857412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Особенности общей моторики: удерживает голову, совершает повороты, наклоны головы, поднимается на предплечьях, поворачивается со спины на живот (с живота на спину), сидит на полу с вытянутыми вперед ногами, сидит на стуле (без фиксации), встает, держась за опору, ползает на четвереньках, наклоняется самостоятельно,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 </a:t>
            </a: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 передвигается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 </a:t>
            </a: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с помощью кресла-коляски.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Передвижение с помощью индивидуальных технических средств.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Особенности мелкой моторики: удерживает вложенный в руку предмет, захватывает предложенный предмет, держит небольшой предмет двумя руками, держит большой предмет двумя руками, разворачивает предмет в руке, чтобы удобнее захватить, распределяет пальцы на предмете, чтобы удобнее захватить, перекладывает предмет из руки в руку, берет предмет со стола, манипулирует с одним предметом, захватывает каждой рукой по предмету и удерживает (стучит друг о друга).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Особенности эмоциональной сферы: эмоциональные проявления (реагирует на проявления эмоций другого человека, ответные эмоции не соответствуют ситуации), преобладающий эмоциональный фон (позитивный,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 </a:t>
            </a: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неустойчивый), эмоциональный контроль (успокаивается при вмешательстве взрослого: по просьбе взрослого, при переключении на другую деятельность).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Мальчик спокойный, особенностей в поведении не наблюдается.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Особенности зрительного восприятия: зрительное поведение - прикасается к глазам пальцами, щурится, наклоняет голову вперед/назад, когда смотрит; приближает предмет к глазам или сам низко наклоняется; зрительное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 </a:t>
            </a: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прослеживание;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 </a:t>
            </a: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 контраст – 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 </a:t>
            </a: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слабый; зрительный образ – узнает знакомые предметы на фотографии, цветной картинке.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Слуховое восприятие: воспринимает и узнает неречевые звуки, определяет направление звука в пространстве.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Особенности тактильного восприятия: берет предметы в рот, ощупывает предметы одной/двумя руками, кончиками пальцев.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Особенности речевого развития: затруднено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 </a:t>
            </a: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формирование экспрессивных движений (мимика, указательные жесты и др.),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 </a:t>
            </a: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с трудом произносит отдельные звуки и слоги. Импрессивная речь развита на низком уровне (понимает простые по звуковому составу слова дай, мяу, дядя). Низкий уровень владения вербальными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 </a:t>
            </a: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 средствами альтернативной коммуникации (устанавливает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 </a:t>
            </a: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зрительный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 </a:t>
            </a: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контакт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 </a:t>
            </a: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с собеседником, приветствует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 </a:t>
            </a: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собеседника звуком).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Сформированность предметно-практической деятельности на низком уровне: выполняет простые действия с инструментами, материалами.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Сформированные базовые учебные действия: направленность взгляда на говорящего взрослого, спокойное пребывание в новой среде, перемещение в новой среде без проявления дискомфорта.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Сформированность математических представлений у мальчика отсутствуют.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Сформированность представлений об окружающем мире: знает нянь, воспитателя, учителя.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Мальчик устанавливает контакт со взрослыми: смотрит на говорящего, вокализирует, улыбается.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Контакт со сверстниками не устанавливает.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У Димы навыки самообслуживания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 </a:t>
            </a: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отсутствуют.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Навыки бытовой деятельности у мальчика отсутствуют.</a:t>
            </a: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Трудовая деятельность не доступна.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Необходим полный объём помощи со стороны окружающих, нуждается в особом питании.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ahoma"/>
              </a:rPr>
              <a:t>Требуется постоянный присмотр за мальчиком.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040" y="457200"/>
            <a:ext cx="77929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Индивидуальный учебный план 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1219320" y="1143000"/>
          <a:ext cx="7238880" cy="5584680"/>
        </p:xfrm>
        <a:graphic>
          <a:graphicData uri="http://schemas.openxmlformats.org/drawingml/2006/table">
            <a:tbl>
              <a:tblPr/>
              <a:tblGrid>
                <a:gridCol w="904680"/>
                <a:gridCol w="905040"/>
                <a:gridCol w="904680"/>
                <a:gridCol w="905040"/>
                <a:gridCol w="904680"/>
                <a:gridCol w="905040"/>
                <a:gridCol w="904680"/>
                <a:gridCol w="905040"/>
              </a:tblGrid>
              <a:tr h="87840"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мет, коррекционный курс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уп-повые занятия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6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дивидуальные занятия</a:t>
                      </a:r>
                      <a:endParaRPr b="1" lang="en-US" sz="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9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итель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спитатель/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ьютор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итель-логопед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итель физкультуры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итель-дефектолог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дагог-психолог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90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чь и альтернативная (доп.) коммуникация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24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тематические представления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24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ружающий природный мир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28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ружающий социальный мир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00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еловек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7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даптивная физкультура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71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зыка и движение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24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образительная деятельность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71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моводство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67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фильный труд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4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ррекционно-развивающие занятия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71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нсорное развитие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7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метно-практич. действия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7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вигательное развитие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24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ьтернативная коммуникация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00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: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7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неурочная деятельность: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7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0040">
                <a:tc gridSpan="8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                                                                                                </a:t>
                      </a: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ого: 1</a:t>
                      </a: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040" y="685800"/>
            <a:ext cx="779292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Tahoma"/>
              </a:rPr>
              <a:t>Содержание образования в условия организации и семьи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Rectangle 165"/>
          <p:cNvSpPr/>
          <p:nvPr/>
        </p:nvSpPr>
        <p:spPr>
          <a:xfrm>
            <a:off x="762120" y="1897560"/>
            <a:ext cx="7848360" cy="45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4.1. Формирование базовых учебных действий.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ct val="150000"/>
              </a:lnSpc>
              <a:buClr>
                <a:srgbClr val="000000"/>
              </a:buClr>
              <a:buFont typeface="Courier New"/>
              <a:buChar char="o"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4.1.1. Создание благоприятной обстановки, способствующей формированию положительной мотивации пребывания в образовательной организации и эмоциональному конструктивному взаимодействию с взрослыми (учитель, воспитатель, ассистент и др.) и сверстниками.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ct val="150000"/>
              </a:lnSpc>
              <a:buClr>
                <a:srgbClr val="000000"/>
              </a:buClr>
              <a:buFont typeface="Courier New"/>
              <a:buChar char="o"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4.1.1.1. Спокойное пребывание в новой среде.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ct val="150000"/>
              </a:lnSpc>
              <a:buClr>
                <a:srgbClr val="000000"/>
              </a:buClr>
              <a:buFont typeface="Courier New"/>
              <a:buChar char="o"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4.1.1.3. Принятие контакта, инициированного взрослым.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ct val="150000"/>
              </a:lnSpc>
              <a:buClr>
                <a:srgbClr val="000000"/>
              </a:buClr>
              <a:buFont typeface="Courier New"/>
              <a:buChar char="o"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4.1.1.4. Установление контакта с педагогом и другими взрослыми, участвующими в организации учебного процесса.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ct val="150000"/>
              </a:lnSpc>
              <a:buClr>
                <a:srgbClr val="000000"/>
              </a:buClr>
              <a:buFont typeface="Courier New"/>
              <a:buChar char="o"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4.1.2. Формирование учебного поведения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ct val="150000"/>
              </a:lnSpc>
              <a:buClr>
                <a:srgbClr val="000000"/>
              </a:buClr>
              <a:buFont typeface="Courier New"/>
              <a:buChar char="o"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4.1.2.1. Поддержание правильной позы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ct val="150000"/>
              </a:lnSpc>
              <a:buClr>
                <a:srgbClr val="000000"/>
              </a:buClr>
              <a:buFont typeface="Courier New"/>
              <a:buChar char="o"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4.1.2.4. Выполнение простых речевых инструкций (дай, возьми, встань, сядь, подними и др.)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040" y="152280"/>
            <a:ext cx="745956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Содержание учебных предметов и коррекционных курсов 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757080" y="35053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838080" y="990720"/>
          <a:ext cx="7315200" cy="5533920"/>
        </p:xfrm>
        <a:graphic>
          <a:graphicData uri="http://schemas.openxmlformats.org/drawingml/2006/table">
            <a:tbl>
              <a:tblPr/>
              <a:tblGrid>
                <a:gridCol w="3851280"/>
                <a:gridCol w="1154160"/>
                <a:gridCol w="1155600"/>
                <a:gridCol w="1154160"/>
              </a:tblGrid>
              <a:tr h="3855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держание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чало учебного года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полугодие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полугодие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 gridSpan="4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Речь и альтернативная (дополнительная) коммуникация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36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. Коммуникация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55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.1. Коммуникация с использованием вербальных средств.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.1.1. Использование звука как средства коммуникации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59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.1.2. Использование звукоподражания как средства коммуникации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48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.2. Коммуникация с использованием невербальных средств.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.2.1. Использование взгляда как средства коммуникации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.2.2. Использование мимики как средства коммуникации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.2.3. Использование жеста как средства коммуникации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55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.2.4. Использование звучащего предмета как средства коммуникации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59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. Развитие речи средствами вербальной и невербальной коммуникации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36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.1. Импрессивная речь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.1.1. Понимание слова, обозначающего собственное имя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.1.2. Понимание слов, обозначающих названия членов семьи, имена членов семьи, учащихся класса, педагогов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.2. Экспрессивная речь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48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.2.1. Называние (употребление) отдельных звуков, звукоподражаний, звуковых комплексов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14040" y="151920"/>
            <a:ext cx="7792920" cy="381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Содержание учебных предметов и коррекционных курсов 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609480" y="609480"/>
          <a:ext cx="7772400" cy="6450120"/>
        </p:xfrm>
        <a:graphic>
          <a:graphicData uri="http://schemas.openxmlformats.org/drawingml/2006/table">
            <a:tbl>
              <a:tblPr/>
              <a:tblGrid>
                <a:gridCol w="4859280"/>
                <a:gridCol w="971640"/>
                <a:gridCol w="970200"/>
                <a:gridCol w="971280"/>
              </a:tblGrid>
              <a:tr h="162000">
                <a:tc gridSpan="4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Математические представления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2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1. Количественные представления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1.1. Нахождение одинаковых предметов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000">
                <a:tc gridSpan="4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Окружающий природный мир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1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2. Животный мир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0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2.1. Знание строения животного (голова, туловище, лапы, рога, хвост, уши)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000">
                <a:tc gridSpan="4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Человек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2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1. Представления о себе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9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1.1. Узнавание (различение) мальчика и девочки по внешнему виду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2. Семья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2.1. Узнавание (различение) членов семьи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3. Гигиена тела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3.4. Вытирание рук полотенцем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3.12. Вытирание лица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4. Обращение с одеждой и обувью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9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4.1. Узнавание (различение) предметов одежды пальто (куртка, шуба, плащ), шапка, шарф, варежки, свитер, рубашка, майка, трусы, брюки, носки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5. Прием пищи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5.1. Сообщение о желании пить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4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5.3. 4.5.3. Питье из кружки /стакана (захват кружки /стакана, поднесение кружки/стакана ко рту, наклон кружки/стакана, втягивание / вливание жидкости в рот, опускание кружки/стакана на стол)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9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5.7. Еда ложкой (захват ложки, зачерпывание ложкой пищи из тарелки, поднесение ложки с пищей ко рту, снятие с ложки пищи губами, опускание ложки в тарелку)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6. Туалет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6.1. Сообщение о желании сходить в туалет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9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6.2. Сидение на унитазе и оправление малой (большой) нужды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000">
                <a:tc gridSpan="4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 Окружающий социальный мир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0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2. Предметы и материалы, изготовленные человеком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0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2.1. Знание свойств бумаги (рвется, мнется, намокает)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4. Квартира, дом, двор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0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4.1. Узнавание (различение) частей дома (крыша, окно, дверь, потолок, пол)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Заголовок 1"/>
          <p:cNvSpPr/>
          <p:nvPr/>
        </p:nvSpPr>
        <p:spPr>
          <a:xfrm>
            <a:off x="914400" y="76320"/>
            <a:ext cx="7459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Содержание учебных предметов и коррекционных занятий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1143000" y="457200"/>
          <a:ext cx="6629400" cy="6777000"/>
        </p:xfrm>
        <a:graphic>
          <a:graphicData uri="http://schemas.openxmlformats.org/drawingml/2006/table">
            <a:tbl>
              <a:tblPr/>
              <a:tblGrid>
                <a:gridCol w="4145040"/>
                <a:gridCol w="826920"/>
                <a:gridCol w="828720"/>
                <a:gridCol w="828720"/>
              </a:tblGrid>
              <a:tr h="122760">
                <a:tc gridSpan="4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 Музыка и движение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38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1. Слушание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7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1.1. Различение тихого и громкого звучания музыки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7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2. Пение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69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2.1. Подражание характерным звукам животных во время звучания знакомой песни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7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3. Движение под музыку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55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3.1. Выполнение движений разными частями тела под музыку (топанье, хлопанье в ладоши, «фонарики», «пружинка», наклоны головы и др.)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7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5. Коррекционный раздел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69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5.1. Реакция на низкочастотные немузыкальные звуки (сердцебиение, внутриутробные звуки)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840">
                <a:tc gridSpan="4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 Сенсорное развитие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27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1. Зрительное восприятие.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7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1.1. Удержание взгляда на лице человека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58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1.2. Удержание взгляда на неподвижном светящемся предмете (фонарик, пламя свечи, светящиеся игрушки)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69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1.3. Удержание взгляда на неподвижном предмете, расположенном на уровне глаз, напротив ребенка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7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2. Слуховое восприятие.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7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2.1. Слушание речевых звуков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69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2.2. Слушание неречевых звуков (звуки природы, бытовые звуки и др.)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7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3. Кинестетическое восприятие.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8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3.1. Реакция на прикосновения человека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45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3.2. Реакция на соприкосновение с материалами, различными по температуре (теплый, холодный), фактуре (гладкий, шероховатый, др.), влажности (сухой, влажный, мокрый), вязкости (жидкий, густой, сыпучий)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7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4. Восприятие запаха.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7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4.1. Реакция на запах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840">
                <a:tc gridSpan="4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 Предметно-практические действия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27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1. Действия с материалами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1.1. Сминание материала (салфетки, туалетная бумага, бумажные полотенца, газета, цветная, папиросная бумага, калька и др.) двумя руками (одной рукой, пальцами)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45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1.2. Разрывание материала (бумагу, вату, природный материал) двумя руками, направляя руки в разные стороны (двумя руками, направляя одну руку к себе, другую руку от себя; пальцами обеих рук, направляя одну руку к себе, другую руку от себя)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69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1.3. Размазывание материала руками (сверху вниз, слева направо, по кругу)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73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1.4. Разминание материала (тесто, пластилин) двумя руками (одной рукой)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7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2. Действия с предметами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73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2.1. Захватывание, удержание, отпускание предмета (шарики, кубики, мелкие игрушки, шишки и др.)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73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2.2. Встряхивание предмета, издающего звук (бутылочки с бусинками или крупой и др.)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760">
                <a:tc gridSpan="4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.  Двигательное развитие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73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.1. Общеразвивающие и корригирующие упражнения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8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.1.2. Выполнение движений головой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69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.1.3. Выполнение движений руками: вперед, назад, вверх, в стороны, «круговые»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7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.1.4. Выполнение движений пальцами рук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760">
                <a:tc gridSpan="4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. Альтернативная коммуникация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3b3b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73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.2. Коммуникация с использованием невербальных средств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69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.2.1. Использование взгляда как средства коммуникации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73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.2.2. Использование мимики как средства коммуникации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73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.2.3. Использование жеста как средства коммуникации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8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.3. Импрессивная речь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8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.3.1. Понимание слова, обозначающего собственное имя</a:t>
                      </a:r>
                      <a:endParaRPr b="1" lang="en-US" sz="7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15720" y="151920"/>
            <a:ext cx="779292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Нравственное воспитание</a:t>
            </a:r>
            <a:br>
              <a:rPr sz="3600"/>
            </a:b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304920" y="1523880"/>
          <a:ext cx="8458200" cy="3802320"/>
        </p:xfrm>
        <a:graphic>
          <a:graphicData uri="http://schemas.openxmlformats.org/drawingml/2006/table">
            <a:tbl>
              <a:tblPr/>
              <a:tblGrid>
                <a:gridCol w="4908600"/>
                <a:gridCol w="1811160"/>
                <a:gridCol w="1738440"/>
              </a:tblGrid>
              <a:tr h="365400">
                <a:tc rowSpan="2">
                  <a:txBody>
                    <a:bodyPr lIns="30240" rIns="3024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держание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0240" marR="30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 gridSpan="2">
                  <a:txBody>
                    <a:bodyPr lIns="30240" rIns="3024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зультаты наблюдений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0240" marR="30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0240" rIns="3024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полугодие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0240" marR="30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30240" rIns="3024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полугодие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0240" marR="30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1371600">
                <a:tc>
                  <a:txBody>
                    <a:bodyPr lIns="30240" rIns="302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оброжелательно и уважительно относиться к окружающим (членам семьи, сверстникам, членам школьного коллектива, учителям и др.)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0240" marR="30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30240" rIns="302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0240" marR="30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30240" rIns="3024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0240" marR="30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1698840">
                <a:tc>
                  <a:txBody>
                    <a:bodyPr lIns="30240" rIns="302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покойно вести себя в помещении и на улице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0240" marR="30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30240" rIns="3024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0240" marR="30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30240" rIns="3024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0240" marR="30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f5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72880" y="304920"/>
            <a:ext cx="779148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Формирование экологической культуры, здорового и безопасного образа жизни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457200" y="1600200"/>
          <a:ext cx="8534520" cy="5078520"/>
        </p:xfrm>
        <a:graphic>
          <a:graphicData uri="http://schemas.openxmlformats.org/drawingml/2006/table">
            <a:tbl>
              <a:tblPr/>
              <a:tblGrid>
                <a:gridCol w="4794120"/>
                <a:gridCol w="1892520"/>
                <a:gridCol w="1847880"/>
              </a:tblGrid>
              <a:tr h="320040">
                <a:tc rowSpan="2">
                  <a:txBody>
                    <a:bodyPr lIns="36720" rIns="3672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держание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6720" marR="36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 gridSpan="2">
                  <a:txBody>
                    <a:bodyPr lIns="36720" rIns="3672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зультаты наблюдений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6720" marR="36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0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6720" rIns="3672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полугодие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6720" marR="36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36720" rIns="3672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полугодие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6720" marR="36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1598760">
                <a:tc>
                  <a:txBody>
                    <a:bodyPr lIns="36720" rIns="3672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ставления об основах экологической культуры на примере экологически сообразного поведения в быту и природе, безопасного для человека и окружающей среды.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бенок спокойно относился к водным процедурам.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6720" marR="36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36720" rIns="367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6720" marR="36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36720" rIns="3672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6720" marR="36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1154520">
                <a:tc>
                  <a:txBody>
                    <a:bodyPr lIns="36720" rIns="3672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нание правил здорового питания.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щательно пережевывать пищу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спешить во время ед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6720" marR="36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36720" rIns="367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6720" marR="36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36720" rIns="3672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6720" marR="36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1687320">
                <a:tc>
                  <a:txBody>
                    <a:bodyPr lIns="36720" rIns="367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товность безбоязненно обращаться к врачу по любым вопросам, связанным с особенностями состояния здоровья.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зволять врачу осматривать себя: открывать рот, поднимать рубашку и т.п.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зволять врачу измерять твой рост, вес, слушать фонендоскопом, делать ЭЭГ, ЭКГ, флюорографию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6720" marR="36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36720" rIns="367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6720" marR="36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36720" rIns="3672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36720" marR="36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af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Внеурочная деятельность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152280" y="914400"/>
          <a:ext cx="8534520" cy="5583240"/>
        </p:xfrm>
        <a:graphic>
          <a:graphicData uri="http://schemas.openxmlformats.org/drawingml/2006/table">
            <a:tbl>
              <a:tblPr/>
              <a:tblGrid>
                <a:gridCol w="2371680"/>
                <a:gridCol w="2856240"/>
                <a:gridCol w="3306600"/>
              </a:tblGrid>
              <a:tr h="390600">
                <a:tc>
                  <a:txBody>
                    <a:bodyPr lIns="23400" rIns="23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держание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анируемая деятельность ребенка в мероприятии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стие ребенка в мероприятии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</a:tr>
              <a:tr h="584280">
                <a:tc>
                  <a:txBody>
                    <a:bodyPr lIns="23400" rIns="23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нь знаний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сутствие на торжественной линейке, праздничном завтраке, участие в работе станций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стник, присутствовал на линейке 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390240">
                <a:tc>
                  <a:txBody>
                    <a:bodyPr lIns="23400" rIns="23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нь здоровья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стие в спортивных станциях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ельщик, радовался за участников спортивных игр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635040">
                <a:tc>
                  <a:txBody>
                    <a:bodyPr lIns="23400" rIns="23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аздник Осени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готовка к празднику: изготовление поделок на тему «Осень», участие в проведении праздника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стник игры «Разложи осенние листочки»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620640">
                <a:tc>
                  <a:txBody>
                    <a:bodyPr lIns="23400" rIns="23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вогодний праздник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готовка к мероприятию: изготовление украшений класса, новогодних поделок, открыток; участие в Новогоднем празднике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584280">
                <a:tc>
                  <a:txBody>
                    <a:bodyPr lIns="23400" rIns="23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сленица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готовка к мероприятию: знакомство с атрибутами праздника, участие в мероприятии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577800">
                <a:tc>
                  <a:txBody>
                    <a:bodyPr lIns="23400" rIns="23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аздник «8 марта»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готовка к мероприятию: знакомство с атрибутами праздника, изготовление открыток; участие в мероприятии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385920">
                <a:tc>
                  <a:txBody>
                    <a:bodyPr lIns="23400" rIns="23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сха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готовка к мероприятию: покраска яиц, изготовление украшений, оформление класса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195120">
                <a:tc>
                  <a:txBody>
                    <a:bodyPr lIns="23400" rIns="23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сёлые старты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стие в спортивных эстафетах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635040">
                <a:tc>
                  <a:txBody>
                    <a:bodyPr lIns="23400" rIns="23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гра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гры с мячом, настольные дидактические игры «Лото», «Домино», сенсорные игры, подвижные игры в спортивном зале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584280">
                <a:tc>
                  <a:txBody>
                    <a:bodyPr lIns="23400" rIns="23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ледний учебный день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сутствие на торжественной линейке, праздничном завтраке, участие в работе станций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23400" rIns="23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23400" marR="23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af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42640" y="30456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 </a:t>
            </a:r>
            <a:br>
              <a:rPr sz="3200"/>
            </a:br>
            <a:r>
              <a:rPr b="1" lang="ru-RU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Внеурочная деятельность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1523880" y="1523880"/>
          <a:ext cx="6096240" cy="24066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6019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звание мероприятия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анируемая деятельность ребенка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стие ребенка в мероприятии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15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дравствуй, школа!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кладывание цветных карандашей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стник. Игра "Собери пенал"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15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вогодний утренник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кание бумаги для снежков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стник. Играет в снежки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15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гостях у мишки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момассаж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сосновыми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шишками 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стник. Игра "Собери шишки"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7" name=""/>
          <p:cNvGraphicFramePr/>
          <p:nvPr/>
        </p:nvGraphicFramePr>
        <p:xfrm>
          <a:off x="1600200" y="4191120"/>
          <a:ext cx="6095880" cy="1203120"/>
        </p:xfrm>
        <a:graphic>
          <a:graphicData uri="http://schemas.openxmlformats.org/drawingml/2006/table">
            <a:tbl>
              <a:tblPr/>
              <a:tblGrid>
                <a:gridCol w="2031840"/>
                <a:gridCol w="2032200"/>
                <a:gridCol w="2031840"/>
              </a:tblGrid>
              <a:tr h="6015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звание рабочей программы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можные предметные результаты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можные личностные результаты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15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лшебные краски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ксация взгляда на предмете.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доваться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2640" y="304920"/>
            <a:ext cx="7792920" cy="1218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Tahoma"/>
              </a:rPr>
              <a:t>ПИСЬМО МИНОБРНАУКИ РОССИИ </a:t>
            </a:r>
            <a:br>
              <a:rPr sz="1800"/>
            </a:br>
            <a:r>
              <a:rPr b="1" lang="ru-RU" sz="1800" spc="-1" strike="noStrike">
                <a:solidFill>
                  <a:srgbClr val="333399"/>
                </a:solidFill>
                <a:latin typeface="Tahoma"/>
              </a:rPr>
              <a:t>ОТ 11.08.2016 № ВК-1788/07</a:t>
            </a:r>
            <a:br>
              <a:rPr sz="1800"/>
            </a:br>
            <a:r>
              <a:rPr b="1" lang="ru-RU" sz="1800" spc="-1" strike="noStrike">
                <a:solidFill>
                  <a:srgbClr val="333399"/>
                </a:solidFill>
                <a:latin typeface="Tahoma"/>
              </a:rPr>
              <a:t>«ОБ ОРГАНИЗАЦИИ ОБРАЗОВАНИЯ ОБУЧАЮЩИХСЯ</a:t>
            </a:r>
            <a:br>
              <a:rPr sz="1800"/>
            </a:br>
            <a:r>
              <a:rPr b="1" lang="ru-RU" sz="1800" spc="-1" strike="noStrike">
                <a:solidFill>
                  <a:srgbClr val="333399"/>
                </a:solidFill>
                <a:latin typeface="Tahoma"/>
              </a:rPr>
              <a:t>С УМСТВЕННОЙ ОТСТАЛОСТЬЮ»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ФГОС ДЛЯ ОБУЧАЮЩИХСЯ С УМСТВЕННОЙ ОТСТАЛОСТЬЮ МОЖЕТ БЫТЬ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РЕАЛИЗОВАН ПРИ ОРГАНИЗАЦИИ ОБУЧЕНИЯ ОБУЧАЮЩИХСЯ С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УМСТВЕННОЙ ОТСТАЛОСТЬЮ СОВМЕСТНО С ДРУГИМИ ОБУЧАЮЩИМИСЯ, В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ОТДЕЛЬНЫХ КЛАССАХ, ГРУППАХ ИЛИ В ОТДЕЛЬНЫХ ОРГАНИЗАЦИЯХ,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ОСУЩЕСТВЛЯЮЩИХ ОБРАЗОВАТЕЛЬНУЮ ДЕЯТЕЛЬНОСТЬ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(ОБЩЕОБРАЗОВАТЕЛЬНЫЕ ОРГАНИЗАЦИИ, МЕДИЦИНСКИЕ ОРГАНИЗАЦИИ,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САНАТОРНЫЕ ОРГАНИЗАЦИИ, ДЕТСКИЕ ДОМА-ИНТЕРНАТЫ СИСТЕМЫ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СОЦИАЛЬНОЙ ЗАЩИТЫ), ИЛИ ВНЕ ИХ - В ФОРМЕ СЕМЕЙНОГО ОБРАЗОВАНИЯ,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А ТАКЖЕ НА ДОМУ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350720" y="228600"/>
            <a:ext cx="779292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ahoma"/>
              </a:rPr>
              <a:t>Условия реализации потребности в уходе и присмотре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1295280" y="1384200"/>
          <a:ext cx="6858000" cy="5208840"/>
        </p:xfrm>
        <a:graphic>
          <a:graphicData uri="http://schemas.openxmlformats.org/drawingml/2006/table">
            <a:tbl>
              <a:tblPr/>
              <a:tblGrid>
                <a:gridCol w="711360"/>
                <a:gridCol w="869760"/>
                <a:gridCol w="868680"/>
                <a:gridCol w="636480"/>
                <a:gridCol w="635040"/>
                <a:gridCol w="714240"/>
                <a:gridCol w="846000"/>
                <a:gridCol w="844560"/>
                <a:gridCol w="731880"/>
              </a:tblGrid>
              <a:tr h="190440"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нь недели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8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емя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4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8.00-11.00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00-11.40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40-13.00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.00-14.00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.00-16.00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.00-16.40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.40-17.10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.00-21.00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78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н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ъем, водные процедуры, завтрак воспитатель Аникина Т.В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чь и альтернативная коммуникация учитель 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ско Е.В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ие воспитатель Аникина Т.В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ед няня Петрова Т.С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дых воспитатель Аникина Т.В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ужок "Волшебные краски" Сиско Е.В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нсорное развитие педагог-психолог Якимова Я.П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жин, занятия по интересам, сон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яня 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трова Т.С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048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т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ъем, водные процедуры, завтрак воспитатель Юркова Г.П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тематические представления учитель 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ско Е.В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ие  воспитатель Юркова Г.П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ед няня Петрова Т.С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дых воспитатель  Юркова Г.П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метно-практическая деятельность учитель Сиско Е.В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метно-практические действия учитель-дефектолог Комаровская М.В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жин, занятия по интересам, сон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яня 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трова Т.С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39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ъем, водные процедуры, завтрак воспитатель Аникина Т.В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ружающий природный мир учитель 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ско Е.В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ие воспитатель Аникина Т.В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ед няня Петрова Т.С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дых воспитатель  Аникина Т.В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гра. Игротерапия  учитель Сиско Е.В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ьтернативная коммуникация учитель-логопед Земскова Н.А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жин, занятия по интересам, сон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яня 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трова Т.С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041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т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ъем, водные процедуры, завтрак воспитатель Юркова Г.П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еловек 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итель 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ско Е.В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ие воспитатель Юркова Г.П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ед няня Петрова Т.С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дых воспитатель  Юркова Г.П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вигательное развитие учитель Сиско Е.В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метно-практические действия учитель-дефектолог Комаровская М.В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жин, занятия по интересам, сон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яня 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трова Т.С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35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т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ъем, водные процедуры, завтрак воспитатель Аникина Т.В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ружающий социальный мир учитель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ско Е.В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ие воспитатель Аникина Т.В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ед няня Петрова Т.С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дых воспитатель  Аникина Т.В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узыка и движение учитель Сиско Е.В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метно-практическая деятельность учитель 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ско Е.В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жин, занятия по интересам, сон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яня 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трова Т.С.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61720" y="304560"/>
            <a:ext cx="779292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Специалисты, участвующие в реализации СИПР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685800" y="1904760"/>
            <a:ext cx="8269200" cy="422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ко Е.В. – учитель начальных классов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емскова Н.А – учитель-логопед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кимова Я.П. - учитель-психолог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нотенко Ю.И. .- учитель-дефектолог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14040" y="38052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ahoma"/>
              </a:rPr>
              <a:t>Задачи, мероприятия и формы сотрудничества организации и семьи обучающегося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838080" y="1219320"/>
          <a:ext cx="7086600" cy="5521320"/>
        </p:xfrm>
        <a:graphic>
          <a:graphicData uri="http://schemas.openxmlformats.org/drawingml/2006/table">
            <a:tbl>
              <a:tblPr/>
              <a:tblGrid>
                <a:gridCol w="2362320"/>
                <a:gridCol w="2362320"/>
                <a:gridCol w="2361960"/>
              </a:tblGrid>
              <a:tr h="1580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дачи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роприятия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чет о проведении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041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сихологическая поддержка семьи (законных представителей)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стие в тренингах «Взаимодействие родителей (законных представителей) с «особыми» детьми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стие в семейных встречах «Клуба выходного дня»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дивидуальные консультации с психологом 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вышение осведомленности родителей  (законных представителей) об особенностях развития и специфических образовательных потребностях ребенка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дивидуальные консультации родителей (законных представителей) со специалистами (раз в триместр) 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матические семинары: «Особенности развития ребенка с ДЦП», «Развитие двигательных навыков ребенка с ДЦП»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041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заимодействие специалистов и семьи в ходе разработки и реализации СИПР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стие родителей (законных представителей) в разработке и реализации СИПР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ещение родителями (законными представителями) уроков/занятий в организации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чные встречи, беседы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078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изация участия родителей (законных представителей)  в деятельности образовательной организации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стие родителей (законных представителей)  в планировании, разработке и реализации мероприятий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стие родителей (законных представителей) в решении вопросов, связанных с управлением образовательной организацией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стие родителей (законных представителей) во взаимодействии с другими организациями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астие родителей (законных представителей) в решении хозяйственных вопросов образовательной организации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90360" y="45684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ahoma"/>
              </a:rPr>
              <a:t>Технические средства и дидактические материалы, необходимые для реализации СИПР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- карточки с изображениями объектов, людей, действий (фотографии, пиктограммы, символы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- пазлы (из 2-х, 3-х, 4-х частей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- предметные и сюжетные картинки, фотографии с изображением членов семьи ребенка;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- музыкальные инструменты: погремушки, колокольчики, бубенцы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- бумага (цветная, белая),  карандаши (простые, цветные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- спортивный инвентарь: гимнастические мячи разного диаметра, кегли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- игрушки и предметы со световыми, звуковыми эффектами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- технические средства: кресла-каляски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9328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Средства мониторинга и оценки динамики обучения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533520" y="1523880"/>
          <a:ext cx="7502400" cy="4876920"/>
        </p:xfrm>
        <a:graphic>
          <a:graphicData uri="http://schemas.openxmlformats.org/drawingml/2006/table">
            <a:tbl>
              <a:tblPr/>
              <a:tblGrid>
                <a:gridCol w="6937200"/>
                <a:gridCol w="565200"/>
              </a:tblGrid>
              <a:tr h="262080"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ровни освоения (выполнения) действий/операций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8264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ссивное участие/соучастие - действие выполняется взрослым (ребёнок позволяет что-нибудь сделать с ним)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95868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тивное участие - действие выполняется ребёнком: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со значительной помощью взрослого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с частичной помощью взрослого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по последовательной инструкции (изображения или вербально)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д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78264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подражанию или по образцу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мостоятельно с ошибками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мостоятельно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ш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262080"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формированность представлений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208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ставление отсутствует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26028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выявить наличие представлений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?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130644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ставление на уровне: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пользования по прямой подсказке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пользования с косвенной подсказкой (изображение)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мостоятельного использования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п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f5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61720" y="38088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Приложения</a:t>
            </a:r>
            <a:br>
              <a:rPr sz="3600"/>
            </a:br>
            <a:r>
              <a:rPr b="1" lang="ru-RU" sz="3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Список литературы для учителя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80520" y="1752120"/>
            <a:ext cx="87267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Алексеева Е.И., Андреева С.В. Формирование навыков общения с использованием средств альтернативной коммуникации у детей с тяжелыми и множественными нарушениями развития – Воспитание и обучение детей с нарушениями развития № 5, 2014.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Баряева Л.Б., Бгажнокова И.М., Бойков Д.И., Зарин AM., Комарова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.В. Обучение детей с выраженным недоразвитием интеллекта: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раммно-методические материалы / под ред. И.М. Бгажноковой - М.: Гуманитар, изд. центр ВЛАДОС, 2007. — 181 с. — (Коррекционная педагогика). 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Коррекционно-педагогическая работа в домах – интернатах для детей с умственным и физическим недоразвитием: Пособие для педагогов /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 ред. Лисовской Т.В. – Минск: Национальный институт образования, 2008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Методика учебно-воспитательной работы в центре коррекционно-развивающего обучения и реабилитации: Учеб.- метод. пособие/ М. Вентланд, С.Е. Гайдукевич, Т.В. Горудко и др.; Науч. ред.С.Е. Гайдукевич. – Мн.: БГПУ, 2009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Царёв А.М., Рудакова Е.А., Сухарева О.Ю. Дети с тяжелыми и множественными нарушениями развития /Дошкольное воспитание и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чение детей с комплексными нарушениями / под. Ред. Л.А. Головчиц: учебное пособие.- М., Логомаг, 2015. – 266 с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Концепция Специального Федерального государственного образовательного стандарта для детей с ОВЗ / Н.Н. Малофеев, О.И. Кукушкина, О.С. Никольская, Е.Л. Гончарова. М.: Просвещение, 2013. 42 с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Рисунок 6" descr=""/>
          <p:cNvPicPr/>
          <p:nvPr/>
        </p:nvPicPr>
        <p:blipFill>
          <a:blip r:embed="rId1"/>
          <a:stretch/>
        </p:blipFill>
        <p:spPr>
          <a:xfrm>
            <a:off x="4730760" y="279360"/>
            <a:ext cx="4114800" cy="2743200"/>
          </a:xfrm>
          <a:prstGeom prst="rect">
            <a:avLst/>
          </a:prstGeom>
          <a:ln w="0">
            <a:noFill/>
          </a:ln>
        </p:spPr>
      </p:pic>
      <p:pic>
        <p:nvPicPr>
          <p:cNvPr id="171" name="Рисунок 7" descr=""/>
          <p:cNvPicPr/>
          <p:nvPr/>
        </p:nvPicPr>
        <p:blipFill>
          <a:blip r:embed="rId2"/>
          <a:stretch/>
        </p:blipFill>
        <p:spPr>
          <a:xfrm>
            <a:off x="380880" y="279360"/>
            <a:ext cx="4152960" cy="2768760"/>
          </a:xfrm>
          <a:prstGeom prst="rect">
            <a:avLst/>
          </a:prstGeom>
          <a:ln w="0">
            <a:noFill/>
          </a:ln>
        </p:spPr>
      </p:pic>
      <p:pic>
        <p:nvPicPr>
          <p:cNvPr id="172" name="Рисунок 8" descr=""/>
          <p:cNvPicPr/>
          <p:nvPr/>
        </p:nvPicPr>
        <p:blipFill>
          <a:blip r:embed="rId3"/>
          <a:stretch/>
        </p:blipFill>
        <p:spPr>
          <a:xfrm>
            <a:off x="4724280" y="3373560"/>
            <a:ext cx="4343400" cy="2895480"/>
          </a:xfrm>
          <a:prstGeom prst="rect">
            <a:avLst/>
          </a:prstGeom>
          <a:ln w="0">
            <a:noFill/>
          </a:ln>
        </p:spPr>
      </p:pic>
      <p:pic>
        <p:nvPicPr>
          <p:cNvPr id="173" name="Рисунок 9" descr=""/>
          <p:cNvPicPr/>
          <p:nvPr/>
        </p:nvPicPr>
        <p:blipFill>
          <a:blip r:embed="rId4"/>
          <a:stretch/>
        </p:blipFill>
        <p:spPr>
          <a:xfrm>
            <a:off x="127080" y="3349800"/>
            <a:ext cx="4400640" cy="29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09520" y="609480"/>
            <a:ext cx="779328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75" name="Рисунок 1" descr=""/>
          <p:cNvPicPr/>
          <p:nvPr/>
        </p:nvPicPr>
        <p:blipFill>
          <a:blip r:embed="rId1"/>
          <a:stretch/>
        </p:blipFill>
        <p:spPr>
          <a:xfrm>
            <a:off x="228600" y="1274760"/>
            <a:ext cx="3886200" cy="2590920"/>
          </a:xfrm>
          <a:prstGeom prst="rect">
            <a:avLst/>
          </a:prstGeom>
          <a:ln w="0">
            <a:noFill/>
          </a:ln>
        </p:spPr>
      </p:pic>
      <p:pic>
        <p:nvPicPr>
          <p:cNvPr id="176" name="Рисунок 1" descr=""/>
          <p:cNvPicPr/>
          <p:nvPr/>
        </p:nvPicPr>
        <p:blipFill>
          <a:blip r:embed="rId2"/>
          <a:stretch/>
        </p:blipFill>
        <p:spPr>
          <a:xfrm>
            <a:off x="4741920" y="3924360"/>
            <a:ext cx="3975120" cy="2698560"/>
          </a:xfrm>
          <a:prstGeom prst="rect">
            <a:avLst/>
          </a:prstGeom>
          <a:ln w="0">
            <a:noFill/>
          </a:ln>
        </p:spPr>
      </p:pic>
      <p:pic>
        <p:nvPicPr>
          <p:cNvPr id="177" name="Рисунок 3" descr=""/>
          <p:cNvPicPr/>
          <p:nvPr/>
        </p:nvPicPr>
        <p:blipFill>
          <a:blip r:embed="rId3"/>
          <a:stretch/>
        </p:blipFill>
        <p:spPr>
          <a:xfrm>
            <a:off x="4786200" y="1244520"/>
            <a:ext cx="3930840" cy="2621160"/>
          </a:xfrm>
          <a:prstGeom prst="rect">
            <a:avLst/>
          </a:prstGeom>
          <a:ln w="0">
            <a:noFill/>
          </a:ln>
        </p:spPr>
      </p:pic>
      <p:pic>
        <p:nvPicPr>
          <p:cNvPr id="178" name="Рисунок 1" descr=""/>
          <p:cNvPicPr/>
          <p:nvPr/>
        </p:nvPicPr>
        <p:blipFill>
          <a:blip r:embed="rId4"/>
          <a:stretch/>
        </p:blipFill>
        <p:spPr>
          <a:xfrm>
            <a:off x="223920" y="4122720"/>
            <a:ext cx="4048200" cy="2698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6" name=""/>
          <p:cNvGraphicFramePr/>
          <p:nvPr/>
        </p:nvGraphicFramePr>
        <p:xfrm>
          <a:off x="1523880" y="2057400"/>
          <a:ext cx="6364440" cy="4467240"/>
        </p:xfrm>
        <a:graphic>
          <a:graphicData uri="http://schemas.openxmlformats.org/drawingml/2006/table">
            <a:tbl>
              <a:tblPr/>
              <a:tblGrid>
                <a:gridCol w="3183120"/>
                <a:gridCol w="3181320"/>
              </a:tblGrid>
              <a:tr h="509760">
                <a:tc>
                  <a:txBody>
                    <a:bodyPr lIns="9360" rIns="9360" tIns="9360" bIns="9360" anchor="t">
                      <a:noAutofit/>
                    </a:bodyPr>
                    <a:p>
                      <a:pPr marL="752400">
                        <a:lnSpc>
                          <a:spcPct val="115000"/>
                        </a:lnSpc>
                        <a:spcBef>
                          <a:spcPts val="5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атегория детей с ОВЗ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marL="42840">
                        <a:lnSpc>
                          <a:spcPct val="115000"/>
                        </a:lnSpc>
                        <a:spcBef>
                          <a:spcPts val="5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арианты программ ФГОС НОО обучающихся с ОВЗ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8960">
                <a:tc>
                  <a:txBody>
                    <a:bodyPr lIns="9360" rIns="9360" tIns="9360" bIns="9360" anchor="t">
                      <a:noAutofit/>
                    </a:bodyPr>
                    <a:p>
                      <a:pPr marL="38160">
                        <a:lnSpc>
                          <a:spcPct val="115000"/>
                        </a:lnSpc>
                        <a:spcBef>
                          <a:spcPts val="5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Глухие дети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marL="38160">
                        <a:lnSpc>
                          <a:spcPct val="115000"/>
                        </a:lnSpc>
                        <a:spcBef>
                          <a:spcPts val="5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1, 1.2, 1.3, 1.4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8960">
                <a:tc>
                  <a:txBody>
                    <a:bodyPr lIns="9360" rIns="9360" tIns="9360" bIns="9360" anchor="t">
                      <a:noAutofit/>
                    </a:bodyPr>
                    <a:p>
                      <a:pPr marL="38160">
                        <a:lnSpc>
                          <a:spcPct val="115000"/>
                        </a:lnSpc>
                        <a:spcBef>
                          <a:spcPts val="5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лабослышащие дети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marL="38160">
                        <a:lnSpc>
                          <a:spcPct val="115000"/>
                        </a:lnSpc>
                        <a:spcBef>
                          <a:spcPts val="5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1, 2.2, 2.3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9320">
                <a:tc>
                  <a:txBody>
                    <a:bodyPr lIns="9360" rIns="9360" tIns="9360" bIns="9360" anchor="t">
                      <a:noAutofit/>
                    </a:bodyPr>
                    <a:p>
                      <a:pPr marL="38160">
                        <a:lnSpc>
                          <a:spcPct val="115000"/>
                        </a:lnSpc>
                        <a:spcBef>
                          <a:spcPts val="5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лепые дети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marL="38160">
                        <a:lnSpc>
                          <a:spcPct val="115000"/>
                        </a:lnSpc>
                        <a:spcBef>
                          <a:spcPts val="5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1, 3.2, 3.3, 3.4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1280">
                <a:tc>
                  <a:txBody>
                    <a:bodyPr lIns="9360" rIns="9360" tIns="9360" bIns="9360" anchor="t">
                      <a:noAutofit/>
                    </a:bodyPr>
                    <a:p>
                      <a:pPr marL="38160">
                        <a:lnSpc>
                          <a:spcPct val="11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лабовидящие дети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marL="38160">
                        <a:lnSpc>
                          <a:spcPct val="115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.1, 4.2, 4.3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400">
                <a:tc>
                  <a:txBody>
                    <a:bodyPr lIns="9360" rIns="9360" tIns="9360" bIns="9360" anchor="t">
                      <a:noAutofit/>
                    </a:bodyPr>
                    <a:p>
                      <a:pPr marL="38160">
                        <a:lnSpc>
                          <a:spcPct val="115000"/>
                        </a:lnSpc>
                        <a:spcBef>
                          <a:spcPts val="5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ти с тяжелыми нарушениями речи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marL="38160">
                        <a:lnSpc>
                          <a:spcPct val="115000"/>
                        </a:lnSpc>
                        <a:spcBef>
                          <a:spcPts val="5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.1, 5.2, 5.3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9320">
                <a:tc>
                  <a:txBody>
                    <a:bodyPr lIns="9360" rIns="9360" tIns="9360" bIns="9360" anchor="t">
                      <a:noAutofit/>
                    </a:bodyPr>
                    <a:p>
                      <a:pPr marL="38160">
                        <a:lnSpc>
                          <a:spcPct val="115000"/>
                        </a:lnSpc>
                        <a:spcBef>
                          <a:spcPts val="5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ти с нарушениями ОДА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marL="38160">
                        <a:lnSpc>
                          <a:spcPct val="115000"/>
                        </a:lnSpc>
                        <a:spcBef>
                          <a:spcPts val="5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.1, 6.2, 6.3, 6.4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9400">
                <a:tc>
                  <a:txBody>
                    <a:bodyPr lIns="9360" rIns="9360" tIns="9360" bIns="9360" anchor="t">
                      <a:noAutofit/>
                    </a:bodyPr>
                    <a:p>
                      <a:pPr marL="38160">
                        <a:lnSpc>
                          <a:spcPct val="115000"/>
                        </a:lnSpc>
                        <a:spcBef>
                          <a:spcPts val="5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ти с задержкой психического развития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marL="38160">
                        <a:lnSpc>
                          <a:spcPct val="115000"/>
                        </a:lnSpc>
                        <a:spcBef>
                          <a:spcPts val="5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.1, 7.2, 7.3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9760">
                <a:tc>
                  <a:txBody>
                    <a:bodyPr lIns="9360" rIns="9360" tIns="9360" bIns="9360" anchor="t">
                      <a:noAutofit/>
                    </a:bodyPr>
                    <a:p>
                      <a:pPr marL="38160">
                        <a:lnSpc>
                          <a:spcPct val="115000"/>
                        </a:lnSpc>
                        <a:spcBef>
                          <a:spcPts val="5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ти с расстройствами аутистического спектра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marL="38160">
                        <a:lnSpc>
                          <a:spcPct val="115000"/>
                        </a:lnSpc>
                        <a:spcBef>
                          <a:spcPts val="5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.1, 8.2, 8.3, 8.4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0080">
                <a:tc>
                  <a:txBody>
                    <a:bodyPr lIns="9360" rIns="9360" tIns="9360" bIns="9360" anchor="t">
                      <a:noAutofit/>
                    </a:bodyPr>
                    <a:p>
                      <a:pPr marL="38160">
                        <a:lnSpc>
                          <a:spcPct val="115000"/>
                        </a:lnSpc>
                        <a:spcBef>
                          <a:spcPts val="5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ети с умственной отсталостью(интеллектуальными нарушениями)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marL="38160">
                        <a:lnSpc>
                          <a:spcPct val="115000"/>
                        </a:lnSpc>
                        <a:spcBef>
                          <a:spcPts val="513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ФГОС образования обучающихся с умственной отсталостью (интеллектуальными нарушениями)-варианты1,2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7" name="Прямоугольник 2"/>
          <p:cNvSpPr/>
          <p:nvPr/>
        </p:nvSpPr>
        <p:spPr>
          <a:xfrm>
            <a:off x="1523880" y="152280"/>
            <a:ext cx="6400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Tahoma"/>
              </a:rPr>
              <a:t>ПИСЬМО МИНОБРНАУКИ РОССИИ </a:t>
            </a:r>
            <a:br>
              <a:rPr sz="1800"/>
            </a:br>
            <a:r>
              <a:rPr b="1" lang="ru-RU" sz="1800" spc="-1" strike="noStrike">
                <a:solidFill>
                  <a:srgbClr val="333399"/>
                </a:solidFill>
                <a:latin typeface="Tahoma"/>
              </a:rPr>
              <a:t>ОТ 11.08.2016 № ВК-1788/07</a:t>
            </a:r>
            <a:br>
              <a:rPr sz="1800"/>
            </a:br>
            <a:r>
              <a:rPr b="1" lang="ru-RU" sz="1800" spc="-1" strike="noStrike">
                <a:solidFill>
                  <a:srgbClr val="333399"/>
                </a:solidFill>
                <a:latin typeface="Tahoma"/>
              </a:rPr>
              <a:t>«ОБ ОРГАНИЗАЦИИ ОБРАЗОВАНИЯ ОБУЧАЮЩИХСЯ</a:t>
            </a:r>
            <a:br>
              <a:rPr sz="1800"/>
            </a:br>
            <a:r>
              <a:rPr b="1" lang="ru-RU" sz="1800" spc="-1" strike="noStrike">
                <a:solidFill>
                  <a:srgbClr val="333399"/>
                </a:solidFill>
                <a:latin typeface="Tahoma"/>
              </a:rPr>
              <a:t>С УМСТВЕННОЙ ОТСТАЛОСТЬЮ»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ahoma"/>
              </a:rPr>
              <a:t>ДЕТИ С ТЯЖЕЛЫМИ И МНОЖЕСТВЕННЫМИ</a:t>
            </a:r>
            <a:br>
              <a:rPr sz="2000"/>
            </a:br>
            <a:r>
              <a:rPr b="1" lang="ru-RU" sz="2000" spc="-1" strike="noStrike">
                <a:solidFill>
                  <a:srgbClr val="333399"/>
                </a:solidFill>
                <a:latin typeface="Tahoma"/>
              </a:rPr>
              <a:t>НАРУШЕНИЯ РАЗВИТИЯ (ТМНР)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ДЕТИ с ТМНР– ЭТО ДЕТИ С УМЕРЕННОЙ, ТЯЖЕЛОЙ И ГЛУБОКОЙ УМСТВЕННОЙ ОТСТАЛОСТЬЮ, ИМЕЮЩИЕ ДРУГИЕ ПЕРВИЧНЫЕ НАРУШЕНИЯ: НАРУШЕНИЯ ОПОРНО-ДВИГАТЕЛЬНОГО СФЕРЫ (ДЦП РАЗНОЙ ФОРМЫ И СТЕПЕНИ ТЯЖЕСТИ), ТЯЖЁЛЫЕ НАРУШЕНИЯ РЕЧИ, НАРУШЕНИЕ ФУНКЦИЙ АНАЛИЗАТОРНЫХ СИСТЕМ (ЗРЕНИЯ, СЛУХА, ТАКТИЛЬНОЙ ЧУВСТВИТЕЛЬНОСТИ), РАССТРОЙСТВА ЭМОЦИОНАЛЬНО-ВОЛЕВОЙ СФЕРЫ (НАРУШЕНИЯ РЕГУЛЯЦИИ ПОВЕДЕНИЯ), АУТИСТИЧЕСКИЕ РАССТРОЙСТВА (НАРУШЕНИЕ КОММУНИКАЦИИ, СОЦИАЛЬНОГО ВЗАИМОДЕЙСТВИЯ И ПОВЕДЕНИЯ, СТЕРЕОТИПНЫЕ ДЕЙСТВИЯ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0" y="152280"/>
            <a:ext cx="8850240" cy="63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1" name=""/>
          <p:cNvGraphicFramePr/>
          <p:nvPr/>
        </p:nvGraphicFramePr>
        <p:xfrm>
          <a:off x="304920" y="1754280"/>
          <a:ext cx="8610480" cy="4027320"/>
        </p:xfrm>
        <a:graphic>
          <a:graphicData uri="http://schemas.openxmlformats.org/drawingml/2006/table">
            <a:tbl>
              <a:tblPr/>
              <a:tblGrid>
                <a:gridCol w="5119560"/>
                <a:gridCol w="3490920"/>
              </a:tblGrid>
              <a:tr h="9698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атели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22-23 уч. год 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класс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обые потребности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6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группа –  ДЦП (тетрапарез со стойкими выраженными нарушениями двигательных функций)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человека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группа –  ДЦП (нижний центральный парапарез со стойкими выраженными нарушениями двигательных функций)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человека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7880"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рушение речи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стемное недоразвитие речи тяжелой степени (1 уровень)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человека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22120" y="380880"/>
            <a:ext cx="7792920" cy="106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7254"/>
                </a:solidFill>
                <a:latin typeface="Times New Roman"/>
                <a:ea typeface="Times New Roman"/>
              </a:rPr>
              <a:t>По заключениям ПМПК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91404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ahoma"/>
              </a:rPr>
              <a:t>СПЕЦИАЛЬНАЯ ИНДИВИДУАЛЬНАЯ ПРОГРАММА</a:t>
            </a:r>
            <a:br>
              <a:rPr sz="2000"/>
            </a:br>
            <a:r>
              <a:rPr b="1" lang="ru-RU" sz="2000" spc="-1" strike="noStrike">
                <a:solidFill>
                  <a:srgbClr val="333399"/>
                </a:solidFill>
                <a:latin typeface="Tahoma"/>
              </a:rPr>
              <a:t>РАЗВИТИЯ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СИПР –специальная индивидуальная программа развития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ЦЕЛЬ РАЗРАБОТКИ СИПР - ПОСТРОЕНИЕ ОБРАЗОВАТЕЛЬНОГО ПРОЦЕССА, ПРИ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КОТОРОМ УЧИТЫВАЮТСЯ ИНДИВИДУАЛЬНЫЕ ОСОБЕННОСТИ РАЗВИТИЯ РЕБЕНКА С ИНТЕЛЛЕКТУАЛЬНОЙ НЕДОСТАТОЧНОСТЬЮ, ЕГО РЕАЛЬНЫЕ ВОЗМОЖНОСТИ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ЦЕЛЬ РЕАЛИЗАЦИИ СИПР - ОБРЕТЕНИЕ РЕБЕНКОМ С УМСТВЕННОЙ ОТСТАЛОСТЬЮ ЖИЗНЕННО ВАЖНЫХ КОМПЕТЕНЦИЙ, КОТОРЫЕ ПОЗВОЛЯТ ЕМУ ДОСТИГНУТЬ МАКСИМАЛЬНОГО УРОВНЯ САМОСТОЯТЕЛЬНОСТИ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1150920" y="214200"/>
            <a:ext cx="7804080" cy="591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СИПР разрабатывается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Для ОБУЧАЮЩИХСЯ С УМСТВЕННОЙ ОТСТАЛОСТЬЮ (ИНТЕЛЛЕКТУАЛЬНЫМИ НАРУШЕНИЯМИ) Вариант 2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ДЛЯ ГЛУХИХ ОБУЧАЮЩИХСЯ Вариант 1.4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Для слепых обучающихся Вариант 3.4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ДЛЯ ОБУЧАЮЩИХСЯ С НАРУШЕНИЯМИ ОПОРНО-ДВИГАТЕЛЬНОГО АППАРАТА Вариант 6.4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ОБУЧАЮЩИХСЯ С РАССТРОЙСТВАМИ АУТИСТИЧЕСКОГО СПЕКТРА Вариант 8.4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СИПР не разрабатывается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ДЛЯ ГЛУХИХ ОБУЧАЮЩИХСЯ Вариант 1.3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для слабослышащих и позднооглохших обучающихся Вариант 2.3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для слепых обучающихся Вариант 3.3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ДЛЯ СЛАБОВИДЯЩИХ ОБУЧАЮЩИХСЯ Вариант 4.3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ДЛЯ ОБУЧАЮЩИХСЯ С НАРУШЕНИЯМИ ОПОРНО-ДВИГАТЕЛЬНОГО АППАРАТА Вариант 6.3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ОБУЧАЮЩИХСЯ С РАССТРОЙСТВАМИ АУТИСТИЧЕСКОГО СПЕКТРА Вариант 8.3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ользователь</cp:lastModifiedBy>
  <dcterms:modified xsi:type="dcterms:W3CDTF">2022-12-01T03:28:57Z</dcterms:modified>
  <cp:revision>29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