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5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CCC1-4447-4420-B2AB-87875BC75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DD24-4D91-4D8D-9B00-7CBDC5B7D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38C8-3A92-47D4-B214-D8365A146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1E5E-CE3C-4ED6-BC69-5261F3D8F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B9CAF-2F39-4F25-8895-A1D121F8C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F5489-F504-4C73-94EA-018520704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0D75D-C211-46DF-849B-B68D08544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7DFDC-2157-451F-BACD-7D822B388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C608F-62BC-4824-87C9-43972A3B5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99DF2-EC74-4B59-959D-2F59C24BF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1519D-D0AD-4EBE-97E0-02D6109F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7427-C6A1-4BD0-BE56-F876EA0F6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8555E-AA93-4880-B44E-28C939EA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AA87D-168E-4F53-9C6A-18DE48B6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21D63-05CD-4C04-8D4E-49CAA2BAE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4BC47-9C92-4629-845C-C19EA9C46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DE7FA-429C-4614-BC08-C84B169D2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A97D-3C42-45CF-8714-1B3CDAB32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4209-6606-448D-9493-DFFEEA665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5E4E-5B02-4176-901C-1ADD27610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7E4A-56EB-4C14-A071-851C2800B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F615-42F3-4FEC-9584-F15AF28F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9807-D4C1-4B26-B5ED-DE219B07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35ED-9BE5-4AAA-BC85-EAF81AD8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4F3D3-15AC-493E-82C7-8EE8C41CB5DA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440" cy="474840"/>
              <a:chOff x="417600" y="2968560"/>
              <a:chExt cx="7394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8400" y="2968560"/>
                <a:ext cx="36864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99047-58D7-40F5-AF02-4F1E3DC660AE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1154160"/>
            <a:ext cx="8763120" cy="32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«Разработка и реализация</a:t>
            </a:r>
            <a:br>
              <a:rPr sz="4400"/>
            </a:br>
            <a:r>
              <a:rPr b="1" i="1" lang="ru-RU" sz="44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СИПР</a:t>
            </a:r>
            <a:br>
              <a:rPr sz="4400"/>
            </a:br>
            <a:r>
              <a:rPr b="1" i="1" lang="ru-RU" sz="44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для обучающихся с ТМНР» </a:t>
            </a:r>
            <a:br>
              <a:rPr sz="36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962520" y="4191120"/>
            <a:ext cx="4876560" cy="23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Сиско Елена Викторовн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ГБОУ СОШ «ОЦ» с. Воротнее м.р. Сергиевск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333399"/>
                </a:solidFill>
                <a:latin typeface="Tahoma"/>
              </a:rPr>
              <a:t> </a:t>
            </a:r>
            <a:br>
              <a:rPr sz="1200"/>
            </a:br>
            <a:br>
              <a:rPr sz="12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АЛГОРИТМ РАЗРАБОТКИ СПЕЦИАЛЬНОЙ ИНДИВИДУАЛЬНОЙ ПРОГРАММЫ РАЗВИТИЯ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14400" y="1066680"/>
            <a:ext cx="78487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Индивидуальные сведения о ребенк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ИО ребенк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зраст ребенк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сто жительств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ать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тец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од обучения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упень обучения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руппа(особые потребности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 Структура СИПР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Индивидуальные сведения о ребенке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 Структура СИПР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. Психолого-педагогическая характеристика. 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. Индивидуальный учебный план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. Условия реализации потребности в уходе и присмотре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 Содержание образовани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1. Базовые учебные действи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2. Содержание учебных предметов и коррекционных курс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3. Нравственное развитие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4. Формирование экологической культуры, здорового и безопасного образа жизн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5. Внеурочная деятельность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7. Специалисты, участвующие в реализации СИПР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8. Программа сотрудничества с семье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9. Перечень необходимых технических средств и дидактических материал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0. Средства мониторинга и оценки динамики обучени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ПЕЦИАЛЬНАЯ МЕТОДИЧЕСКАЯ ЛИТЕРАТУРА И ДРУГИЕИНФОРМАЦИОННЫЕ РЕСУРСЫ, НЕОБХОДИМЫЕ ДЛЯ ОРГАНИЗАЦИИ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ОБУЧЕНИЯ С ОБУЧАЮЩИМИСЯ С ТМНР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66680" y="2017440"/>
            <a:ext cx="788832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1.САЙТ ИНСТИТУТА КОРРЕКЦИОННОЙ ПЕДАГОГИКИ РАО Г. МОСКВ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2.САЙТ ЦЛП Г. ПСКОВА В РАЗДЕЛЕ «БИБЛИОТЕКА»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3.ЛЕВЧЕНКО И.Ю., КИСЕЛЁВА Н.А. ПСИХОЛОГИЧЕСКОЕ ИЗУЧЕНИЕ ДЕТЕЙ С НАРУШЕНИЯМ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РАЗВИТИЯ /ПОД НАУЧНОЙ РЕДАКЦИЕЙ И.Ю. ЛЕВЧЕНКО.-М.: НАЦИОНАЛЬНЫЙ КНИЖНЫЙ ЦЕНТР,2015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 ЖИГОРЕВА М.В., ЛЕВЧЕНКО И.Ю. ДЕТИ С КОМПЛЕКСНЫМИ НАРУШЕНИЯМИ РАЗВИТИЯ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ИАГНОСТИКА И СОПРОВОЖДЕНИЕ. — М.: НАЦИОНАЛЬНЫЙ КНИЖНЫЙ ЦЕНТР, 2016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5. МАЛЛЕР А. Р., ЦИКОТО Г. В. ВОСПИТАНИЕ И ОБУЧЕНИЕ ДЕТЕЙ С ТЯЖЕЛОЙ ИНТЕЛЛЕКТУАЛЬНО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НЕДОСТАТОЧНОСТЬЮ: УЧЕБ. ПОСОБИЕ ДЛЯ СТУД. ВЫСШ. ПЕД. УЧЕБ. ЗАВЕДЕНИЙ. — М.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ИЗДАТЕЛЬСКИЙ ЦЕНТР «АКАДЕМИЯ», 2003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6.МАЛЛЕР А.Р. ОБУЧЕНИЕ, ВОСПИТАНИЕ И ТРУДОВАЯ ПОДГОТОВКА ДЕТЕЙ С ГЛУБОКИМ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НАРУШЕНИЯМИ ИНТЕЛЛЕКТА, М., 1998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7. ПРОГРАММА ОБРАЗОВАНИЯ УЧАЩИХСЯ С УМЕРЕННОЙ И ТЯЖЕЛОЙ УМСТВЕННОЙ ОТСТАЛОСТЬЮ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ОД РЕДАКЦИЕЙ Л. Б. БАРЯЕВОЙ, Н. Н. ЯКОВЛЕВОЙ.-С-ПБ., 2011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8818560" cy="56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117360" y="380880"/>
            <a:ext cx="87980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89773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8824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бюджетное общеобразовательное учреждение Самарской области средняя общеобразовательная школа «Образовательный центр» с.Воротнее муниципального района Сергиевский Самарской области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80880" y="1219320"/>
          <a:ext cx="7980480" cy="1600200"/>
        </p:xfrm>
        <a:graphic>
          <a:graphicData uri="http://schemas.openxmlformats.org/drawingml/2006/table">
            <a:tbl>
              <a:tblPr/>
              <a:tblGrid>
                <a:gridCol w="3164040"/>
                <a:gridCol w="1101600"/>
                <a:gridCol w="3714840"/>
              </a:tblGrid>
              <a:tr h="1600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Согласовано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одитель (законный представитель): ________ С.А. Набережнев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_____»___________2022г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Утверждаю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иректор школы: _______  О.П. Коршиков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___»___________ 2022г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  <p:sp>
        <p:nvSpPr>
          <p:cNvPr id="126" name="Прямоугольник 6"/>
          <p:cNvSpPr/>
          <p:nvPr/>
        </p:nvSpPr>
        <p:spPr>
          <a:xfrm>
            <a:off x="2514600" y="2819520"/>
            <a:ext cx="457200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АЯ ИНДИВИДУАЛЬНА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РАЗВИТИ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Прямоугольник 8"/>
          <p:cNvSpPr/>
          <p:nvPr/>
        </p:nvSpPr>
        <p:spPr>
          <a:xfrm>
            <a:off x="474840" y="4017960"/>
            <a:ext cx="272556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йся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3_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а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амилия, имя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: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11_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Прямоугольник 9"/>
          <p:cNvSpPr/>
          <p:nvPr/>
        </p:nvSpPr>
        <p:spPr>
          <a:xfrm>
            <a:off x="6259680" y="4311720"/>
            <a:ext cx="2590560" cy="20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ственный   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реализацию программы: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Е.В. Сиско_____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ИО учителя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Прямоугольник 11"/>
          <p:cNvSpPr/>
          <p:nvPr/>
        </p:nvSpPr>
        <p:spPr>
          <a:xfrm>
            <a:off x="2760840" y="5979960"/>
            <a:ext cx="457200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Воротнее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2 год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труктура СИПР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1. Общие сведения о ребёнке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2. Психолого-педагогическая характеристика  обучающегося с ТМНР на начало учебного год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3. Индивидуальный учебный план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 Содержание образования в условия организации и семь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1. Формирование базовых учебных действий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2. Содержание учебных предметов и коррекционных курсов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3. Нравственное развитие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4. Формирование экологической культуры, здорового и безопасного образа жизн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5. Внеурочная деятельность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5. Условия реализации потребности в уходе и присмотре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6. Специалисты, участвующие в разработке и реализации СИПР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7. Задачи, мероприятия и формы сотрудничества организации и семьи обучающегося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8. Технические средства и дидактические материала, необходимые для реализации СИПР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9. Средства оценки динамики обучения в процессе мониторинг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10. Приложения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ояснительная запис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45840" y="1904760"/>
            <a:ext cx="8497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ая индивидуальная программа развития (СИПР) разработана на основе АООП образования обучающихся с умеренной, тяжелой и глубокой умственной отсталостью (интеллектуальными нарушениями), тяжелыми и множественными нарушениями развития, (вариант 2) ГБОУ СОШ «Образовательный центр» с. Воротнее муниципального района Сергиевский Самарской области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ные документы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едеральный закон "Об образовании в Российской Федерации" от 29.12.2012 N 273-ФЗ (редакция 2016г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едеральный государственный образовательный стандарт образования обучающихся с умственной отсталостью (интеллектуальными нарушениями)», приказ Минобрнауки РФ от 19 декабря 2014 года №1599, зарегистрировано в Минюсте РФ 3 февраля 2015года №35850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АНПИН 2.4.2.3286-15 «Санитарно-эпидемиологические требования к условиям и организации обучения и воспитания в организациях, осуществляющих образовательную деятельность по Адаптированным основным общеобразовательным программам для обучающихся с ограниченными возможностями здоровья», постановление от 10 июля 2015 года № 26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чебный план ГБОУ СОШ «ОЦ» с. Воротнее для обучающихся с умеренной, тяжелой и глубокой умственной отсталостью (интеллектуальными нарушениями), тяжелыми и множественными нарушениями развития (вариант2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став ГБОУ СОШ «ОЦ» с. Воротнее  м.р. Сергиевский Самарской област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82240" y="380520"/>
            <a:ext cx="753588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бщие сведения о ребёнк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33160" y="2017440"/>
            <a:ext cx="842148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ID</a:t>
            </a: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 программы: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34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92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d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7167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cdc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ФИО ребенка: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Возраст ребенка: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Место жительства:  с. Воротнее, ул.Почтовая, 2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Мать: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Отец: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Год обучения: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Группа (особые потребности):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Ступень: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Заключение ПМПК: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 результатам комплексного психолого-медико-педагогического обследования установлено, что ребенок с инвалидностью является обучающимся с ограниченными возможностями здоровья и нуждается в организации специальных образовательных условий. Простой уравновешенный вариант тотального недоразвития (средняя степень недоразвития), сочетанный с дефицитарностью в развитии двигательной сферы (детский церебральный паралич, нижний центральный парапарез со стойкими выраженными нарушениями двигательных функций). Уровень развития психических функций выражено не соответствует возрастной норме. Контакту доступен. Избирателен в выполнении заданий. Низкий уровень обучаемости (не всегда понимает смысл заданий, нуждается в организующей и обучающей помощи). Системное недоразвитие речи,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уровень развития. Стойкая выраженная социальная дезадаптация. Навыки самообслуживания сформированы частично. Передвигается на коляске с помощью сопровождающего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ГБУ СО «Сергиевский пансионат для детей-инвалидов (детский дом-интернат для умственно отсталых детей)»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2" name="Picture 2" descr="http://minsocdem.samregion.ru/sites/default/files/fayl_6.jpg"/>
          <p:cNvPicPr/>
          <p:nvPr/>
        </p:nvPicPr>
        <p:blipFill>
          <a:blip r:embed="rId1"/>
          <a:stretch/>
        </p:blipFill>
        <p:spPr>
          <a:xfrm>
            <a:off x="228600" y="1752480"/>
            <a:ext cx="3201840" cy="240192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6"/>
          <p:cNvSpPr/>
          <p:nvPr/>
        </p:nvSpPr>
        <p:spPr>
          <a:xfrm>
            <a:off x="3809880" y="1447920"/>
            <a:ext cx="4876920" cy="53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ahoma"/>
              </a:rPr>
              <a:t>ФЕДЕРАЛЬНЫЙ ЗАКОН РФ "ОБ ОБРАЗОВАНИИ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ahoma"/>
              </a:rPr>
              <a:t>В РОССИЙСКОЙ ФЕДЕРАЦИИ", N 273-ФЗ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СТ. 2. П.16. ОБУЧАЮЩИЙСЯ С ОГРАНИЧЕННЫМИ ВОЗМОЖНОСТЯМИ ЗДОРОВЬЯ - ФИЗИЧЕСКОЕ ЛИЦО, ИМЕЮЩЕЕ НЕДОСТАТКИ В ФИЗИЧЕСКОМ И (ИЛИ) ПСИХОЛОГИЧЕСКОМ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РАЗВИТИИ, ПОДТВЕРЖДЕННЫЕ ПСИХОЛОГО-МЕДИКО-ПЕДАГОГИЧЕСКОЙ КОМИССИЕЙ И ПРЕПЯТСТВУЮЩИЕ ПОЛУЧЕНИЮ ОБРАЗОВАНИЯ БЕЗ СОЗДАНИЯ СПЕЦИАЛЬНЫХ УСЛОВИЙ.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СТ. 5. П.5. В ЦЕЛЯХ РЕАЛИЗАЦИИ ПРАВА КАЖДОГО ЧЕЛОВЕКА НА ОБРАЗОВАНИЕ …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СОЗДАЮТСЯ НЕОБХОДИМЫЕ УСЛОВИЯ ДЛЯ ПОЛУЧЕНИЯ БЕЗ ДИСКРИМИНАЦИИ КАЧЕСТВЕННОГО ОБРАЗОВАНИЯ ЛИЦАМИ С ОГРАНИЧЕННЫМИ ВОЗМОЖНОСТЯМИ ЗДОРОВЬЯ, ДЛЯ КОРРЕКЦИИ НАРУШЕНИЙ РАЗВИТИЯ И СОЦИАЛЬНОЙ АДАПТАЦИИ…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СТ.11. П.6. В ЦЕЛЯХ ОБЕСПЕЧЕНИЯ РЕАЛИЗАЦИИ ПРАВА НА ОБРАЗОВАНИЕ ОБУЧАЮЩИХСЯ С ОГРАНИЧЕННЫМИ ВОЗМОЖНОСТЯМИ ЗДОРОВЬЯ УСТАНАВЛИВАЮТСЯ ФЕДЕРАЛЬНЫЕ ГОСУДАРСТВЕННЫЕ ОБРАЗОВАТЕЛЬНЫЕ СТАНДАРТЫ ОБРАЗОВАНИЯ УКАЗАННЫХ ЛИЦ.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Психолого-педагогическая характеристика обучающегося на начало учебного год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80520" y="1142640"/>
            <a:ext cx="85741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собенности общей моторики: удерживает голову, совершает повороты, наклоны головы, поднимается на предплечьях, поворачивается со спины на живот (с живота на спину), сидит на полу с вытянутыми вперед ногами, сидит на стуле (без фиксации), встает, держась за опору, ползает на четвереньках, наклоняется самостоятельно,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 передвигается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 помощью кресла-коляски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Передвижение с помощью индивидуальных технических средств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собенности мелкой моторики: удерживает вложенный в руку предмет, захватывает предложенный предмет, держит небольшой предмет двумя руками, держит большой предмет двумя руками, разворачивает предмет в руке, чтобы удобнее захватить, распределяет пальцы на предмете, чтобы удобнее захватить, перекладывает предмет из руки в руку, берет предмет со стола, манипулирует с одним предметом, захватывает каждой рукой по предмету и удерживает (стучит друг о друга)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собенности эмоциональной сферы: эмоциональные проявления (реагирует на проявления эмоций другого человека, ответные эмоции не соответствуют ситуации), преобладающий эмоциональный фон (позитивный,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неустойчивый), эмоциональный контроль (успокаивается при вмешательстве взрослого: по просьбе взрослого, при переключении на другую деятельность)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Мальчик спокойный, особенностей в поведении не наблюдается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собенности зрительного восприятия: зрительное поведение - прикасается к глазам пальцами, щурится, наклоняет голову вперед/назад, когда смотрит; приближает предмет к глазам или сам низко наклоняется; зрительное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прослеживание;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 контраст –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лабый; зрительный образ – узнает знакомые предметы на фотографии, цветной картинке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луховое восприятие: воспринимает и узнает неречевые звуки, определяет направление звука в пространстве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собенности тактильного восприятия: берет предметы в рот, ощупывает предметы одной/двумя руками, кончиками пальцев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собенности речевого развития: затруднено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формирование экспрессивных движений (мимика, указательные жесты и др.),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 трудом произносит отдельные звуки и слоги. Импрессивная речь развита на низком уровне (понимает простые по звуковому составу слова дай, мяу, дядя). Низкий уровень владения вербальными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 средствами альтернативной коммуникации (устанавливает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зрительный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контакт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 собеседником, приветствует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обеседника звуком)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формированность предметно-практической деятельности на низком уровне: выполняет простые действия с инструментами, материалами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формированные базовые учебные действия: направленность взгляда на говорящего взрослого, спокойное пребывание в новой среде, перемещение в новой среде без проявления дискомфорта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формированность математических представлений у мальчика отсутствуют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формированность представлений об окружающем мире: знает нянь, воспитателя, учителя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Мальчик устанавливает контакт со взрослыми: смотрит на говорящего, вокализирует, улыбается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Контакт со сверстниками не устанавливает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У Димы навыки самообслуживания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тсутствуют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Навыки бытовой деятельности у мальчика отсутствуют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Трудовая деятельность не доступна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Необходим полный объём помощи со стороны окружающих, нуждается в особом питании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Требуется постоянный присмотр за мальчиком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77929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Индивидуальный учебный план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219320" y="1143000"/>
          <a:ext cx="7238880" cy="5584680"/>
        </p:xfrm>
        <a:graphic>
          <a:graphicData uri="http://schemas.openxmlformats.org/drawingml/2006/table">
            <a:tbl>
              <a:tblPr/>
              <a:tblGrid>
                <a:gridCol w="904680"/>
                <a:gridCol w="905040"/>
                <a:gridCol w="904680"/>
                <a:gridCol w="905040"/>
                <a:gridCol w="904680"/>
                <a:gridCol w="905040"/>
                <a:gridCol w="904680"/>
                <a:gridCol w="905040"/>
              </a:tblGrid>
              <a:tr h="878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, коррекционный курс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-повые занятия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6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е занятия</a:t>
                      </a:r>
                      <a:endParaRPr b="1" lang="en-US" sz="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9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тель/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ьютор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-логопед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физкультуры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-дефектолог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-психолог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чь и альтернативная (доп.) коммуникация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ческие представления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жающий природный мир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жающий социальный мир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лове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аптивная физкультура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зыка и движение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образительная деятельность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оводство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ный труд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рекционно-развивающие занятия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сорное развитие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о-практич. действия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игательное развитие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ьтернативная коммуникация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: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урочная деятельность: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040">
                <a:tc gridSpan="8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                                                                     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: 1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685800"/>
            <a:ext cx="779292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Содержание образования в условия организации и семьи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Rectangle 165"/>
          <p:cNvSpPr/>
          <p:nvPr/>
        </p:nvSpPr>
        <p:spPr>
          <a:xfrm>
            <a:off x="762120" y="1897560"/>
            <a:ext cx="784836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 Формирование базовых учебных действий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1. Создание благоприятной обстановки, способствующей формированию положительной мотивации пребывания в образовательной организации и эмоциональному конструктивному взаимодействию с взрослыми (учитель, воспитатель, ассистент и др.) и сверстниками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1.1. Спокойное пребывание в новой среде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1.3. Принятие контакта, инициированного взрослым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1.4. Установление контакта с педагогом и другими взрослыми, участвующими в организации учебного процесса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2. Формирование учебного поведени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2.1. Поддержание правильной позы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2.4. Выполнение простых речевых инструкций (дай, возьми, встань, сядь, подними и др.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74595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одержание учебных предметов и коррекционных курсов 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57080" y="3505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838080" y="990720"/>
          <a:ext cx="7315200" cy="5533920"/>
        </p:xfrm>
        <a:graphic>
          <a:graphicData uri="http://schemas.openxmlformats.org/drawingml/2006/table">
            <a:tbl>
              <a:tblPr/>
              <a:tblGrid>
                <a:gridCol w="3851280"/>
                <a:gridCol w="1154160"/>
                <a:gridCol w="1155600"/>
                <a:gridCol w="1154160"/>
              </a:tblGrid>
              <a:tr h="385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учебного год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олугоди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олугоди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Речь и альтернативная (дополнительная) коммуникация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3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 Коммуникация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 Коммуникация с использованием вербальных средств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1. Использование звука как средства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2. Использование звукоподражания как средства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. Коммуникация с использованием невербальных средств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.1. Использование взгляда как средства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.2. Использование мимики как средства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.3. Использование жеста как средства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.4. Использование звучащего предмета как средства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 Развитие речи средствами вербальной и невербальной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1. Импрессивная речь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1.1. Понимание слова, обозначающего собственное имя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1.2. Понимание слов, обозначающих названия членов семьи, имена членов семьи, учащихся класса, педагогов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2. Экспрессивная речь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2.1. Называние (употребление) отдельных звуков, звукоподражаний, звуковых комплексов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792920" cy="38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одержание учебных предметов и коррекционных курсов 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09480" y="609480"/>
          <a:ext cx="7772400" cy="6450120"/>
        </p:xfrm>
        <a:graphic>
          <a:graphicData uri="http://schemas.openxmlformats.org/drawingml/2006/table">
            <a:tbl>
              <a:tblPr/>
              <a:tblGrid>
                <a:gridCol w="4859280"/>
                <a:gridCol w="971640"/>
                <a:gridCol w="970200"/>
                <a:gridCol w="971280"/>
              </a:tblGrid>
              <a:tr h="16200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Математические представления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. Количественные представления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.1. Нахождение одинаковых предметов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кружающий природный ми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1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 Животный ми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1. Знание строения животного (голова, туловище, лапы, рога, хвост, уши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Человек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. Представления о себе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.1. Узнавание (различение) мальчика и девочки по внешнему виду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. Семья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.1. Узнавание (различение) членов семь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. Гигиена тела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.4. Вытирание рук полотенцем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.12. Вытирание лица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. Обращение с одеждой и обувью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.1. Узнавание (различение) предметов одежды пальто (куртка, шуба, плащ), шапка, шарф, варежки, свитер, рубашка, майка, трусы, брюки, носки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. Прием пищ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.1. Сообщение о желании пить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.3. 4.5.3. Питье из кружки /стакана (захват кружки /стакана, поднесение кружки/стакана ко рту, наклон кружки/стакана, втягивание / вливание жидкости в рот, опускание кружки/стакана на стол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.7. Еда ложкой (захват ложки, зачерпывание ложкой пищи из тарелки, поднесение ложки с пищей ко рту, снятие с ложки пищи губами, опускание ложки в тарелку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. Туалет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.1. Сообщение о желании сходить в туалет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.2. Сидение на унитазе и оправление малой (большой) нужды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Окружающий социальный ми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2. Предметы и материалы, изготовленные человеком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2.1. Знание свойств бумаги (рвется, мнется, намокает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4. Квартира, дом, дво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4.1. Узнавание (различение) частей дома (крыша, окно, дверь, потолок, пол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Заголовок 1"/>
          <p:cNvSpPr/>
          <p:nvPr/>
        </p:nvSpPr>
        <p:spPr>
          <a:xfrm>
            <a:off x="914400" y="76320"/>
            <a:ext cx="7459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одержание учебных предметов и коррекционных занятий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143000" y="457200"/>
          <a:ext cx="6629400" cy="6777000"/>
        </p:xfrm>
        <a:graphic>
          <a:graphicData uri="http://schemas.openxmlformats.org/drawingml/2006/table">
            <a:tbl>
              <a:tblPr/>
              <a:tblGrid>
                <a:gridCol w="4145040"/>
                <a:gridCol w="826920"/>
                <a:gridCol w="828720"/>
                <a:gridCol w="828720"/>
              </a:tblGrid>
              <a:tr h="12276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Музыка и движение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3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. Слушание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.1. Различение тихого и громкого звучания музык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2. Пение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2.1. Подражание характерным звукам животных во время звучания знакомой песн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. Движение под музыку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.1. Выполнение движений разными частями тела под музыку (топанье, хлопанье в ладоши, «фонарики», «пружинка», наклоны головы и др.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5. Коррекционный раздел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5.1. Реакция на низкочастотные немузыкальные звуки (сердцебиение, внутриутробные звуки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4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 Сенсорное развитие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. Зрительное восприятие.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.1. Удержание взгляда на лице человека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.2. Удержание взгляда на неподвижном светящемся предмете (фонарик, пламя свечи, светящиеся игрушки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.3. Удержание взгляда на неподвижном предмете, расположенном на уровне глаз, напротив ребенка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2. Слуховое восприятие.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2.1. Слушание речевых звуков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2.2. Слушание неречевых звуков (звуки природы, бытовые звуки и др.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3. Кинестетическое восприятие.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3.1. Реакция на прикосновения человека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3.2. Реакция на соприкосновение с материалами, различными по температуре (теплый, холодный), фактуре (гладкий, шероховатый, др.), влажности (сухой, влажный, мокрый), вязкости (жидкий, густой, сыпучий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4. Восприятие запаха.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4.1. Реакция на запах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4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 Предметно-практические действия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1. Действия с материалам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1.1. Сминание материала (салфетки, туалетная бумага, бумажные полотенца, газета, цветная, папиросная бумага, калька и др.) двумя руками (одной рукой, пальцами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1.2. Разрывание материала (бумагу, вату, природный материал) двумя руками, направляя руки в разные стороны (двумя руками, направляя одну руку к себе, другую руку от себя; пальцами обеих рук, направляя одну руку к себе, другую руку от себя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1.3. Размазывание материала руками (сверху вниз, слева направо, по кругу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1.4. Разминание материала (тесто, пластилин) двумя руками (одной рукой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2. Действия с предметам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2.1. Захватывание, удержание, отпускание предмета (шарики, кубики, мелкие игрушки, шишки и др.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2.2. Встряхивание предмета, издающего звук (бутылочки с бусинками или крупой и др.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  Двигательное развитие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1. Общеразвивающие и корригирующие упражнения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1.2. Выполнение движений головой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1.3. Выполнение движений руками: вперед, назад, вверх, в стороны, «круговые»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1.4. Выполнение движений пальцами рук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 Альтернативная коммуникация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2. Коммуникация с использованием невербальных средств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2.1. Использование взгляда как средства коммуникаци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2.2. Использование мимики как средства коммуникаци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2.3. Использование жеста как средства коммуникаци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3. Импрессивная речь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3.1. Понимание слова, обозначающего собственное имя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5720" y="151920"/>
            <a:ext cx="779292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равственное воспитание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04920" y="1523880"/>
          <a:ext cx="8458200" cy="3802320"/>
        </p:xfrm>
        <a:graphic>
          <a:graphicData uri="http://schemas.openxmlformats.org/drawingml/2006/table">
            <a:tbl>
              <a:tblPr/>
              <a:tblGrid>
                <a:gridCol w="4908600"/>
                <a:gridCol w="1811160"/>
                <a:gridCol w="1738440"/>
              </a:tblGrid>
              <a:tr h="365400">
                <a:tc rowSpan="2"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gridSpan="2"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ы наблюдений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олугодие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олугодие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371600"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оброжелательно и уважительно относиться к окружающим (членам семьи, сверстникам, членам школьного коллектива, учителям и др.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698840"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окойно вести себя в помещении и на улиц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2880" y="304920"/>
            <a:ext cx="779148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Формирование экологической культуры, здорового и безопасного образа жизни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57200" y="1600200"/>
          <a:ext cx="8534520" cy="5078520"/>
        </p:xfrm>
        <a:graphic>
          <a:graphicData uri="http://schemas.openxmlformats.org/drawingml/2006/table">
            <a:tbl>
              <a:tblPr/>
              <a:tblGrid>
                <a:gridCol w="4794120"/>
                <a:gridCol w="1892520"/>
                <a:gridCol w="1847880"/>
              </a:tblGrid>
              <a:tr h="320040">
                <a:tc rowSpan="2"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gridSpan="2"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ы наблюдени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олугодие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олугодие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598760">
                <a:tc>
                  <a:txBody>
                    <a:bodyPr lIns="36720" rIns="367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ления об основах экологической культуры на примере экологически сообразного поведения в быту и природе, безопасного для человека и окружающей среды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енок спокойно относился к водным процедурам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154520">
                <a:tc>
                  <a:txBody>
                    <a:bodyPr lIns="36720" rIns="367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ние правил здорового питания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щательно пережевывать пищу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спешить во время ед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687320"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товность безбоязненно обращаться к врачу по любым вопросам, связанным с особенностями состояния здоровья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волять врачу осматривать себя: открывать рот, поднимать рубашку и т.п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волять врачу измерять твой рост, вес, слушать фонендоскопом, делать ЭЭГ, ЭКГ, флюорографию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неурочная деятельность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52280" y="914400"/>
          <a:ext cx="8534520" cy="5583240"/>
        </p:xfrm>
        <a:graphic>
          <a:graphicData uri="http://schemas.openxmlformats.org/drawingml/2006/table">
            <a:tbl>
              <a:tblPr/>
              <a:tblGrid>
                <a:gridCol w="2371680"/>
                <a:gridCol w="2856240"/>
                <a:gridCol w="3306600"/>
              </a:tblGrid>
              <a:tr h="390600">
                <a:tc>
                  <a:txBody>
                    <a:bodyPr lIns="23400" rIns="23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уемая деятельность ребенка в мероприят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ебенка в мероприят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58428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ь знаний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сутствие на торжественной линейке, праздничном завтраке, участие в работе станций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, присутствовал на линейке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9024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ь здоровья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спортивных станциях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льщик, радовался за участников спортивных игр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63504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здник Осен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к празднику: изготовление поделок на тему «Осень», участие в проведении праздник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 игры «Разложи осенние листочки»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62064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годний праздник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к мероприятию: изготовление украшений класса, новогодних поделок, открыток; участие в Новогоднем праздник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58428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лениц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к мероприятию: знакомство с атрибутами праздника, участие в мероприят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57780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здник «8 марта»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к мероприятию: знакомство с атрибутами праздника, изготовление открыток; участие в мероприят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8592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сх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к мероприятию: покраска яиц, изготовление украшений, оформление класс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9512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ёлые старты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спортивных эстафетах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63504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ы с мячом, настольные дидактические игры «Лото», «Домино», сенсорные игры, подвижные игры в спортивном зал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58428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дний учебный день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сутствие на торжественной линейке, праздничном завтраке, участие в работе станций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 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неурочная деятельность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523880" y="1523880"/>
          <a:ext cx="6096240" cy="24066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601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мероприятия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уемая деятельность ребенка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ебенка в мероприятии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дравствуй, школа!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кладывание цветных карандашей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. Игра "Собери пенал"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годний утренник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кание бумаги для снежков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. Играет в снежки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гостях у мишки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массаж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основыми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шишками 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. Игра "Собери шишки"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1600200" y="4191120"/>
          <a:ext cx="6095880" cy="120312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601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рабочей программы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ые предметные результаты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ые личностные результаты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шебные краски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ксация взгляда на предмете.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доваться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779292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ПИСЬМО МИНОБРНАУКИ РОССИИ 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ОТ 11.08.2016 № ВК-1788/07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«ОБ ОРГАНИЗАЦИИ ОБРАЗОВАНИЯ ОБУЧАЮЩИХСЯ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С УМСТВЕННОЙ ОТСТАЛОСТЬЮ»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ФГОС ДЛЯ ОБУЧАЮЩИХСЯ С УМСТВЕННОЙ ОТСТАЛОСТЬЮ МОЖЕТ БЫТЬ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РЕАЛИЗОВАН ПРИ ОРГАНИЗАЦИИ ОБУЧЕНИЯ ОБУЧАЮЩИХСЯ С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УМСТВЕННОЙ ОТСТАЛОСТЬЮ СОВМЕСТНО С ДРУГИМИ ОБУЧАЮЩИМИСЯ, В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ОТДЕЛЬНЫХ КЛАССАХ, ГРУППАХ ИЛИ В ОТДЕЛЬНЫХ ОРГАНИЗАЦИЯХ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ОСУЩЕСТВЛЯЮЩИХ ОБРАЗОВАТЕЛЬНУЮ ДЕЯТЕЛЬНОСТЬ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(ОБЩЕОБРАЗОВАТЕЛЬНЫЕ ОРГАНИЗАЦИИ, МЕДИЦИНСКИЕ ОРГАНИЗАЦИИ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САНАТОРНЫЕ ОРГАНИЗАЦИИ, ДЕТСКИЕ ДОМА-ИНТЕРНАТЫ СИСТЕМЫ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СОЦИАЛЬНОЙ ЗАЩИТЫ), ИЛИ ВНЕ ИХ - В ФОРМЕ СЕМЕЙНОГО ОБРАЗОВАНИЯ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А ТАКЖЕ НА ДОМУ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50720" y="22860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Условия реализации потребности в уходе и присмотре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295280" y="1384200"/>
          <a:ext cx="6858000" cy="5208840"/>
        </p:xfrm>
        <a:graphic>
          <a:graphicData uri="http://schemas.openxmlformats.org/drawingml/2006/table">
            <a:tbl>
              <a:tblPr/>
              <a:tblGrid>
                <a:gridCol w="711360"/>
                <a:gridCol w="869760"/>
                <a:gridCol w="868680"/>
                <a:gridCol w="636480"/>
                <a:gridCol w="635040"/>
                <a:gridCol w="714240"/>
                <a:gridCol w="846000"/>
                <a:gridCol w="844560"/>
                <a:gridCol w="731880"/>
              </a:tblGrid>
              <a:tr h="1904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ь недел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8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4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.00-11.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00-11.4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40-13.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00-14.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00-16.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00-16.4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40-17.1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00-21.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н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ъем, водные процедуры, завтрак воспитатель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чь и альтернативная коммуникация учитель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е воспитатель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д няня 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ых воспитатель Аникина Т.В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жок "Волшебные краски" 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сорное развитие педагог-психолог Якимова Я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жин, занятия по интересам, сон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яня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ъем, водные процедуры, завтрак воспитатель Юркова Г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ческие представления учитель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е  воспитатель Юркова Г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д няня 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ых воспитатель  Юркова Г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о-практическая деятельность учитель 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о-практические действия учитель-дефектолог Комаровская М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жин, занятия по интересам, сон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яня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ъем, водные процедуры, завтрак воспитатель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жающий природный мир учитель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е воспитатель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д няня 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ых воспитатель 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а. Игротерапия  учитель 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ьтернативная коммуникация учитель-логопед Земскова Н.А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жин, занятия по интересам, сон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яня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ъем, водные процедуры, завтрак воспитатель Юркова Г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ловек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е воспитатель Юркова Г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д няня 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ых воспитатель  Юркова Г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игательное развитие учитель 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о-практические действия учитель-дефектолог Комаровская М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жин, занятия по интересам, сон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яня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т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ъем, водные процедуры, завтрак воспитатель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жающий социальный мир учитель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е воспитатель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д няня 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ых воспитатель 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зыка и движение учитель 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о-практическая деятельность учитель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ко Е.В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жин, занятия по интересам, сон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яня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61720" y="304560"/>
            <a:ext cx="77929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пециалисты, участвующие в реализации СИПР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1904760"/>
            <a:ext cx="8269200" cy="42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ко Е.В. – учитель начальных классов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скова Н.А – учитель-логопед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имова Я.П. - учитель-психолог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нотенко Ю.И. .- учитель-дефектолог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Задачи, мероприятия и формы сотрудничества организации и семьи обучающегося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838080" y="1219320"/>
          <a:ext cx="7086600" cy="5521320"/>
        </p:xfrm>
        <a:graphic>
          <a:graphicData uri="http://schemas.openxmlformats.org/drawingml/2006/table">
            <a:tbl>
              <a:tblPr/>
              <a:tblGrid>
                <a:gridCol w="2362320"/>
                <a:gridCol w="2362320"/>
                <a:gridCol w="2361960"/>
              </a:tblGrid>
              <a:tr h="158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оприятия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чет о проведени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ическая поддержка семьи (законных представителей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тренингах «Взаимодействие родителей (законных представителей) с «особыми» детьм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семейных встречах «Клуба выходного дня»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е консультации с психологом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ышение осведомленности родителей  (законных представителей) об особенностях развития и специфических образовательных потребностях ребенка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е консультации родителей (законных представителей) со специалистами (раз в триместр)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тические семинары: «Особенности развития ребенка с ДЦП», «Развитие двигательных навыков ребенка с ДЦП»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действие специалистов и семьи в ходе разработки и реализации СИП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одителей (законных представителей) в разработке и реализации СИП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ещение родителями (законными представителями) уроков/занятий в организаци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чные встречи, беседы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7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участия родителей (законных представителей)  в деятельности образовательной организаци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одителей (законных представителей)  в планировании, разработке и реализации мероприятий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одителей (законных представителей) в решении вопросов, связанных с управлением образовательной организацией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одителей (законных представителей) во взаимодействии с другими организациям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одителей (законных представителей) в решении хозяйственных вопросов образовательной организаци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Технические средства и дидактические материалы, необходимые для реализации СИПР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карточки с изображениями объектов, людей, действий (фотографии, пиктограммы, символы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пазлы (из 2-х, 3-х, 4-х частей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предметные и сюжетные картинки, фотографии с изображением членов семьи ребенка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музыкальные инструменты: погремушки, колокольчики, бубенцы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бумага (цветная, белая),  карандаши (простые, цветные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спортивный инвентарь: гимнастические мячи разного диаметра, кегли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игрушки и предметы со световыми, звуковыми эффектами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технические средства: кресла-каляск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932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редства мониторинга и оценки динамики обучени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533520" y="1523880"/>
          <a:ext cx="7502400" cy="4876920"/>
        </p:xfrm>
        <a:graphic>
          <a:graphicData uri="http://schemas.openxmlformats.org/drawingml/2006/table">
            <a:tbl>
              <a:tblPr/>
              <a:tblGrid>
                <a:gridCol w="6937200"/>
                <a:gridCol w="565200"/>
              </a:tblGrid>
              <a:tr h="2620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ни освоения (выполнения) действий/операци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26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ссивное участие/соучастие - действие выполняется взрослым (ребёнок позволяет что-нибудь сделать с ним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9586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ое участие - действие выполняется ребёнком: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о значительной помощью взрослог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 частичной помощью взрослог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 последовательной инструкции (изображения или вербально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д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7826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дражанию или по образцу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о с ошибкам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2620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ормированность представлени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ление отсутствует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2602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выявить наличие представлени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3064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ление на уровне: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я по прямой подсказке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я с косвенной подсказкой (изображение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ого использова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п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61720" y="38088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иложения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писок литературы для учител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80520" y="1752120"/>
            <a:ext cx="872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лексеева Е.И., Андреева С.В. Формирование навыков общения с использованием средств альтернативной коммуникации у детей с тяжелыми и множественными нарушениями развития – Воспитание и обучение детей с нарушениями развития № 5, 2014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Баряева Л.Б., Бгажнокова И.М., Бойков Д.И., Зарин AM., Комаров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В. Обучение детей с выраженным недоразвитием интеллекта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но-методические материалы / под ред. И.М. Бгажноковой - М.: Гуманитар, изд. центр ВЛАДОС, 2007. — 181 с. — (Коррекционная педагогика).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оррекционно-педагогическая работа в домах – интернатах для детей с умственным и физическим недоразвитием: Пособие для педагогов /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ред. Лисовской Т.В. – Минск: Национальный институт образования, 2008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Методика учебно-воспитательной работы в центре коррекционно-развивающего обучения и реабилитации: Учеб.- метод. пособие/ М. Вентланд, С.Е. Гайдукевич, Т.В. Горудко и др.; Науч. ред.С.Е. Гайдукевич. – Мн.: БГПУ, 2009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Царёв А.М., Рудакова Е.А., Сухарева О.Ю. Дети с тяжелыми и множественными нарушениями развития /Дошкольное воспитание 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детей с комплексными нарушениями / под. Ред. Л.А. Головчиц: учебное пособие.- М., Логомаг, 2015. – 266 с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Концепция Специального Федерального государственного образовательного стандарта для детей с ОВЗ / Н.Н. Малофеев, О.И. Кукушкина, О.С. Никольская, Е.Л. Гончарова. М.: Просвещение, 2013. 42 с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Рисунок 6" descr=""/>
          <p:cNvPicPr/>
          <p:nvPr/>
        </p:nvPicPr>
        <p:blipFill>
          <a:blip r:embed="rId1"/>
          <a:stretch/>
        </p:blipFill>
        <p:spPr>
          <a:xfrm>
            <a:off x="4730760" y="279360"/>
            <a:ext cx="4114800" cy="274320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7" descr=""/>
          <p:cNvPicPr/>
          <p:nvPr/>
        </p:nvPicPr>
        <p:blipFill>
          <a:blip r:embed="rId2"/>
          <a:stretch/>
        </p:blipFill>
        <p:spPr>
          <a:xfrm>
            <a:off x="380880" y="279360"/>
            <a:ext cx="4152960" cy="276876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8" descr=""/>
          <p:cNvPicPr/>
          <p:nvPr/>
        </p:nvPicPr>
        <p:blipFill>
          <a:blip r:embed="rId3"/>
          <a:stretch/>
        </p:blipFill>
        <p:spPr>
          <a:xfrm>
            <a:off x="4724280" y="3373560"/>
            <a:ext cx="4343400" cy="289548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9" descr=""/>
          <p:cNvPicPr/>
          <p:nvPr/>
        </p:nvPicPr>
        <p:blipFill>
          <a:blip r:embed="rId4"/>
          <a:stretch/>
        </p:blipFill>
        <p:spPr>
          <a:xfrm>
            <a:off x="127080" y="3349800"/>
            <a:ext cx="440064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09520" y="609480"/>
            <a:ext cx="779328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5" name="Рисунок 1" descr=""/>
          <p:cNvPicPr/>
          <p:nvPr/>
        </p:nvPicPr>
        <p:blipFill>
          <a:blip r:embed="rId1"/>
          <a:stretch/>
        </p:blipFill>
        <p:spPr>
          <a:xfrm>
            <a:off x="228600" y="1274760"/>
            <a:ext cx="3886200" cy="259092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1" descr=""/>
          <p:cNvPicPr/>
          <p:nvPr/>
        </p:nvPicPr>
        <p:blipFill>
          <a:blip r:embed="rId2"/>
          <a:stretch/>
        </p:blipFill>
        <p:spPr>
          <a:xfrm>
            <a:off x="4741920" y="3924360"/>
            <a:ext cx="3975120" cy="269856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3" descr=""/>
          <p:cNvPicPr/>
          <p:nvPr/>
        </p:nvPicPr>
        <p:blipFill>
          <a:blip r:embed="rId3"/>
          <a:stretch/>
        </p:blipFill>
        <p:spPr>
          <a:xfrm>
            <a:off x="4786200" y="1244520"/>
            <a:ext cx="3930840" cy="262116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1" descr=""/>
          <p:cNvPicPr/>
          <p:nvPr/>
        </p:nvPicPr>
        <p:blipFill>
          <a:blip r:embed="rId4"/>
          <a:stretch/>
        </p:blipFill>
        <p:spPr>
          <a:xfrm>
            <a:off x="223920" y="4122720"/>
            <a:ext cx="4048200" cy="26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1523880" y="2057400"/>
          <a:ext cx="6364440" cy="4467240"/>
        </p:xfrm>
        <a:graphic>
          <a:graphicData uri="http://schemas.openxmlformats.org/drawingml/2006/table">
            <a:tbl>
              <a:tblPr/>
              <a:tblGrid>
                <a:gridCol w="3183120"/>
                <a:gridCol w="3181320"/>
              </a:tblGrid>
              <a:tr h="509760">
                <a:tc>
                  <a:txBody>
                    <a:bodyPr lIns="9360" rIns="9360" tIns="9360" bIns="9360" anchor="t">
                      <a:noAutofit/>
                    </a:bodyPr>
                    <a:p>
                      <a:pPr marL="75240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атегория детей с ОВЗ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4284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арианты программ ФГОС НОО обучающихся с ОВЗ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лухие дет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1, 1.2, 1.3, 1.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абослышащие дет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, 2.2, 2.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епые дет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1, 3.2, 3.3, 3.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абовидящие дет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1, 4.2, 4.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ти с тяжелыми нарушениями реч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1, 5.2, 5.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ти с нарушениями ОД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1, 6.2, 6.3, 6.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ти с задержкой психического развит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1, 7.2, 7.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ти с расстройствами аутистического спектр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1, 8.2, 8.3, 8.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08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ети с умственной отсталостью(интеллектуальными нарушениями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ГОС образования обучающихся с умственной отсталостью (интеллектуальными нарушениями)-варианты1,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Прямоугольник 2"/>
          <p:cNvSpPr/>
          <p:nvPr/>
        </p:nvSpPr>
        <p:spPr>
          <a:xfrm>
            <a:off x="1523880" y="15228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ПИСЬМО МИНОБРНАУКИ РОССИИ 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ОТ 11.08.2016 № ВК-1788/07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«ОБ ОРГАНИЗАЦИИ ОБРАЗОВАНИЯ ОБУЧАЮЩИХСЯ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С УМСТВЕННОЙ ОТСТАЛОСТЬЮ»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ДЕТИ С ТЯЖЕЛЫМИ И МНОЖЕСТВЕННЫМИ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НАРУШЕНИЯ РАЗВИТИЯ (ТМНР)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ДЕТИ с ТМНР– ЭТО ДЕТИ С УМЕРЕННОЙ, ТЯЖЕЛОЙ И ГЛУБОКОЙ УМСТВЕННОЙ ОТСТАЛОСТЬЮ, ИМЕЮЩИЕ ДРУГИЕ ПЕРВИЧНЫЕ НАРУШЕНИЯ: НАРУШЕНИЯ ОПОРНО-ДВИГАТЕЛЬНОГО СФЕРЫ (ДЦП РАЗНОЙ ФОРМЫ И СТЕПЕНИ ТЯЖЕСТИ), ТЯЖЁЛЫЕ НАРУШЕНИЯ РЕЧИ, НАРУШЕНИЕ ФУНКЦИЙ АНАЛИЗАТОРНЫХ СИСТЕМ (ЗРЕНИЯ, СЛУХА, ТАКТИЛЬНОЙ ЧУВСТВИТЕЛЬНОСТИ), РАССТРОЙСТВА ЭМОЦИОНАЛЬНО-ВОЛЕВОЙ СФЕРЫ (НАРУШЕНИЯ РЕГУЛЯЦИИ ПОВЕДЕНИЯ), АУТИСТИЧЕСКИЕ РАССТРОЙСТВА (НАРУШЕНИЕ КОММУНИКАЦИИ, СОЦИАЛЬНОГО ВЗАИМОДЕЙСТВИЯ И ПОВЕДЕНИЯ, СТЕРЕОТИПНЫЕ ДЕЙСТВИЯ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885024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304920" y="1754280"/>
          <a:ext cx="8610480" cy="4027320"/>
        </p:xfrm>
        <a:graphic>
          <a:graphicData uri="http://schemas.openxmlformats.org/drawingml/2006/table">
            <a:tbl>
              <a:tblPr/>
              <a:tblGrid>
                <a:gridCol w="5119560"/>
                <a:gridCol w="3490920"/>
              </a:tblGrid>
              <a:tr h="969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2-23 уч. год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класс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бые потребност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6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группа –  ДЦП (тетрапарез со стойкими выраженными нарушениями двигательных функций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еловек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группа –  ДЦП (нижний центральный парапарез со стойкими выраженными нарушениями двигательных функций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еловек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ение реч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ное недоразвитие речи тяжелой степени (1 уровень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человек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22120" y="380880"/>
            <a:ext cx="779292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По заключениям ПМПК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9140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СПЕЦИАЛЬНАЯ ИНДИВИДУАЛЬНАЯ ПРОГРАММА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РАЗВИТИЯ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ИПР –специальная индивидуальная программа развити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ЦЕЛЬ РАЗРАБОТКИ СИПР - ПОСТРОЕНИЕ ОБРАЗОВАТЕЛЬНОГО ПРОЦЕССА, ПР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КОТОРОМ УЧИТЫВАЮТСЯ ИНДИВИДУАЛЬНЫЕ ОСОБЕННОСТИ РАЗВИТИЯ РЕБЕНКА С ИНТЕЛЛЕКТУАЛЬНОЙ НЕДОСТАТОЧНОСТЬЮ, ЕГО РЕАЛЬНЫЕ ВОЗМОЖНОСТ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ЦЕЛЬ РЕАЛИЗАЦИИ СИПР - ОБРЕТЕНИЕ РЕБЕНКОМ С УМСТВЕННОЙ ОТСТАЛОСТЬЮ ЖИЗНЕННО ВАЖНЫХ КОМПЕТЕНЦИЙ, КОТОРЫЕ ПОЗВОЛЯТ ЕМУ ДОСТИГНУТЬ МАКСИМАЛЬНОГО УРОВНЯ САМОСТОЯТЕЛЬНОСТ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150920" y="214200"/>
            <a:ext cx="7804080" cy="591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ИПР разрабатываетс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ОБУЧАЮЩИХСЯ С УМСТВЕННОЙ ОТСТАЛОСТЬЮ (ИНТЕЛЛЕКТУАЛЬНЫМИ НАРУШЕНИЯМИ) Вариант 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ГЛУХИХ ОБУЧАЮЩИХСЯ Вариант 1.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слепых обучающихся Вариант 3.4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ОБУЧАЮЩИХСЯ С НАРУШЕНИЯМИ ОПОРНО-ДВИГАТЕЛЬНОГО АППАРАТА Вариант 6.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ОБУЧАЮЩИХСЯ С РАССТРОЙСТВАМИ АУТИСТИЧЕСКОГО СПЕКТРА Вариант 8.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ИПР не разрабатываетс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ГЛУХИХ ОБУЧАЮЩИХСЯ Вариант 1.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слабослышащих и позднооглохших обучающихся Вариант 2.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слепых обучающихся Вариант 3.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СЛАБОВИДЯЩИХ ОБУЧАЮЩИХСЯ Вариант 4.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ОБУЧАЮЩИХСЯ С НАРУШЕНИЯМИ ОПОРНО-ДВИГАТЕЛЬНОГО АППАРАТА Вариант 6.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ОБУЧАЮЩИХСЯ С РАССТРОЙСТВАМИ АУТИСТИЧЕСКОГО СПЕКТРА Вариант 8.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22-12-01T03:28:57Z</dcterms:modified>
  <cp:revision>29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