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6906-8C8F-466D-BE56-94E6827D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016-E538-4D00-806E-0EABDE0D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DB0-6545-479E-9D28-01027048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2003-2183-4636-B412-79B7234C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D24-5FFE-4D73-A4C8-16DE4912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4AC-E4CD-4CDD-9220-86C45FF2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FD27-DE45-4904-9DCE-183508A1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FA72-BF3A-448B-AB05-192B3530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B58A-B03F-40C9-BF16-D665F144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B4E-4B50-4481-9706-08225BF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A176-E615-496B-9185-9905425F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B6D-A776-4928-8C19-5A38D6AC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>
            <a:alpha val="3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F223-A275-43DC-B3AE-6718886A9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disk.yandex.ru/i/6A6aHr-DQ6qnIg" TargetMode="External"/><Relationship Id="rId2" Type="http://schemas.openxmlformats.org/officeDocument/2006/relationships/hyperlink" Target="https://disk.yandex.ru/d/mcpa8OuNDr4apw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ulti-mama.ru/stihi-pro-ovoshhi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learningapps.org/display?v=pctzw936j21" TargetMode="External"/><Relationship Id="rId2" Type="http://schemas.openxmlformats.org/officeDocument/2006/relationships/hyperlink" Target="https://learningapps.org/display?v=p1pkhh53n21" TargetMode="External"/><Relationship Id="rId3" Type="http://schemas.openxmlformats.org/officeDocument/2006/relationships/hyperlink" Target="https://www.jigsawplanet.com/?rc=play&amp;pid=34fdbdb349a7" TargetMode="External"/><Relationship Id="rId4" Type="http://schemas.openxmlformats.org/officeDocument/2006/relationships/hyperlink" Target="https://www.jigsawplanet.com/?rc=play&amp;pid=04fff0d186fa" TargetMode="External"/><Relationship Id="rId5" Type="http://schemas.openxmlformats.org/officeDocument/2006/relationships/hyperlink" Target="https://www.jigsawplanet.com/?rc=play&amp;pid=0b75d1061dba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disk.yandex.ru/d/jX8C3PtW2PRzJg" TargetMode="External"/><Relationship Id="rId2" Type="http://schemas.openxmlformats.org/officeDocument/2006/relationships/hyperlink" Target="https://disk.yandex.ru/i/kG77GpgrGzH_3A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517760" y="865080"/>
            <a:ext cx="586404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14200" y="4643280"/>
            <a:ext cx="54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втор – составитель: Лаврова Елена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итель-логопед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ский сад «Колокольчик» с. Бор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571760" y="2643120"/>
            <a:ext cx="58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ектронный образовательный марш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285840" y="313920"/>
            <a:ext cx="8643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ажаемые родите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лагаю Вашему вниманию электронный образовательный маршр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вощи», пройдя который вместе с ребенком, Вы познакомитесь с овощами, научитесь точно употреблять слова в нужной форме, выучите стихи и вместе с ребенком выполните практические задания. Окончив маршрут, Вы сможете распечатать грамоту активного участника  и вставить в нее данные Вашей семь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дачного прохождения маршру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чание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ть все задания и рекомендации нужно постепенно. Не забывайте про лимит времени, который необходимо соблюдать при работе за компьютером (не более 15мин. в день). При выполнении творческих заданий соблюдайте правила безопасности при работе с изобразительными средств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142920" y="296280"/>
            <a:ext cx="87868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Вам поработать с презентацией «Овощи»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disk.yandex.ru/i/6A6aHr-DQ6qn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аботы с данной презентацией можно изучить, пройдя по ссылк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disk.yandex.ru/d/mcpa8OuNDr4ap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альцами играем, движения выполняем. Пальчиковые игра «Засолка капусты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slayd3.jpg"/>
          <p:cNvPicPr/>
          <p:nvPr/>
        </p:nvPicPr>
        <p:blipFill>
          <a:blip r:embed="rId3"/>
          <a:stretch/>
        </p:blipFill>
        <p:spPr>
          <a:xfrm>
            <a:off x="142920" y="2571840"/>
            <a:ext cx="835812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357120" y="214200"/>
            <a:ext cx="850104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граем со сл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дин  - мног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ц – много огур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 – много помид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– много пер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лажан – много баклаж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ква – много ты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ачок – много кабач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фель – много картоф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ис – много ред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стручков горо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кочанов капу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зови ласко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дор – помидор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урец – огур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ц  - пер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– лу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ква – тык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ь – морк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х – горош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уста - капус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i.jpg"/>
          <p:cNvPicPr/>
          <p:nvPr/>
        </p:nvPicPr>
        <p:blipFill>
          <a:blip r:embed="rId1"/>
          <a:stretch/>
        </p:blipFill>
        <p:spPr>
          <a:xfrm>
            <a:off x="3571920" y="2786040"/>
            <a:ext cx="1214280" cy="1214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6415.970x0.jpg"/>
          <p:cNvPicPr/>
          <p:nvPr/>
        </p:nvPicPr>
        <p:blipFill>
          <a:blip r:embed="rId2"/>
          <a:stretch/>
        </p:blipFill>
        <p:spPr>
          <a:xfrm>
            <a:off x="6072120" y="642960"/>
            <a:ext cx="1932120" cy="27655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зеленые-горохи-в-открытом-стручке-изолированном-на-белой-предпосылке-119211035.jpg"/>
          <p:cNvPicPr/>
          <p:nvPr/>
        </p:nvPicPr>
        <p:blipFill>
          <a:blip r:embed="rId3"/>
          <a:stretch/>
        </p:blipFill>
        <p:spPr>
          <a:xfrm>
            <a:off x="1357200" y="4127400"/>
            <a:ext cx="243864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428760" y="285840"/>
            <a:ext cx="84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Вам вместе с ребенком выучить по выбору стихотвор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357120" y="1285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щная счита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городе у Ег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ква, репа, помидо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городе у Ива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бачки и баклаж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 посадишь патиссо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и из круга в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М. Дружи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4357800" y="13572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а Таня чистит л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жал из кухни вну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хоть мал, но твердо зн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 за глазки покус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Т. Казы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285840" y="38577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 бабушки на гряд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ос овощ очень слад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 мы тренировку 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быстрей сгрызет морков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Л. Гром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4857840" y="392904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огуре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огурец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й-большой хитрец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ит себе на гряд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людьми играет в пря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В. Безладн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214200" y="585792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е стихи про овощ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можете прочитать ребенку, пройдя по ссылке: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multi-mama.ru/stihi-pro-ovoshh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214200" y="357120"/>
            <a:ext cx="8643960" cy="72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дя по следующим ссылкам, Вы можете поиграть в следующие интерактивные игры по теме «Овощи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ложи овощи по цветам»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learningapps.org/display?v=pctzw936j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дбери признаки»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learningapps.org/display?v=p1pkhh53n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злы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па- краса, длинная коса»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s://www.jigsawplanet.com/?rc=play&amp;pid=34fdbdb349a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Царица капу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s://www.jigsawplanet.com/?rc=play&amp;pid=04fff0d186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гур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s://www.jigsawplanet.com/?rc=play&amp;pid=0b75d1061d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214200" y="357120"/>
            <a:ext cx="8715600" cy="79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ело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ю Вам  ряд практических заданий на развитие мелкой моторики и графических навы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ски «Овощи»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disk.yandex.ru/d/jX8C3PtW2PRzJ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ски по выбору нужно скачать, распечатать и раскрас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раскрасками обращайте внимание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как ребенок держит карандаш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ашивает в одном направл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ыходит  за контуры рису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на внимание (скачиваем, распечатываем, выполняем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рректурные пробы»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s://disk.yandex.ru/i/kG77GpgrGzH_3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триховка»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disk.yandex.ru/i/MY_yXL0Y4qdy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овощ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disk.yandex.ru/i/kdx1q3zIQFBZ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642960" y="407196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шу Вас в Вайбере оставлять комментарии по поводу прохождения маршру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тересно Ваше мнение  о необходимости такой формы организации работы по темам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озможности, жду небольшие фотоотч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скорой встреч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85840" y="85716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важаемые родител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маршрут подошел к концу. Всем , кто успешно справился с заданиями, предлагаю пройти по ссылке и скачать грамоту , в которую Вам  нужно будет внести свою фамил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disk.yandex.ru/d/88DpAI1wa9POW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Юпитер</dc:creator>
  <dc:description/>
  <dc:language>en-US</dc:language>
  <cp:lastModifiedBy>Юпитер</cp:lastModifiedBy>
  <dcterms:modified xsi:type="dcterms:W3CDTF">2024-11-21T16:43:58Z</dcterms:modified>
  <cp:revision>30</cp:revision>
  <dc:subject/>
  <dc:title>Слайд 1</dc:title>
</cp:coreProperties>
</file>